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67D-C2BF-4D74-8A9F-9CBC3C02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5C1-9796-42C5-8729-8F6E8AF3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E00-BCE9-4F59-9976-82921B90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05C-B82E-4D8C-BCD7-BF8C25DE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276-A3C2-4AE2-8EE6-1DA66F8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995-DBB3-4EDB-A643-19CAC720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AC9-F28E-4FD2-AE21-C2F53631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F84-D023-486D-979E-9C1C623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E84-FB22-42ED-8D0B-5E8D8D90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3DC-01B4-4C15-9A4B-661BFB8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8A4-764F-4CED-8856-340C1AC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E7C-1706-4570-8760-4C6A866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C70-8EBE-4762-815E-54A01E5B1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multiply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5   x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x  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16080" y="1438200"/>
            <a:ext cx="1312920" cy="1143000"/>
          </a:xfrm>
          <a:custGeom>
            <a:avLst/>
            <a:gdLst/>
            <a:ahLst/>
            <a:rect l="l" t="t" r="r" b="b"/>
            <a:pathLst>
              <a:path w="3647" h="3176">
                <a:moveTo>
                  <a:pt x="5879" y="6003"/>
                </a:moveTo>
                <a:cubicBezTo>
                  <a:pt x="6030" y="6048"/>
                  <a:pt x="6192" y="6178"/>
                  <a:pt x="6325" y="6276"/>
                </a:cubicBezTo>
                <a:cubicBezTo>
                  <a:pt x="6431" y="6354"/>
                  <a:pt x="6497" y="6422"/>
                  <a:pt x="6573" y="6524"/>
                </a:cubicBezTo>
              </a:path>
              <a:path w="3647" h="3176">
                <a:moveTo>
                  <a:pt x="5928" y="6796"/>
                </a:moveTo>
                <a:cubicBezTo>
                  <a:pt x="5990" y="6782"/>
                  <a:pt x="6040" y="6761"/>
                  <a:pt x="6102" y="6747"/>
                </a:cubicBezTo>
                <a:cubicBezTo>
                  <a:pt x="6161" y="6863"/>
                  <a:pt x="6112" y="6973"/>
                  <a:pt x="6028" y="7094"/>
                </a:cubicBezTo>
                <a:cubicBezTo>
                  <a:pt x="5986" y="7136"/>
                  <a:pt x="5978" y="7144"/>
                  <a:pt x="5953" y="7169"/>
                </a:cubicBezTo>
                <a:cubicBezTo>
                  <a:pt x="6077" y="7138"/>
                  <a:pt x="6183" y="7070"/>
                  <a:pt x="6300" y="7020"/>
                </a:cubicBezTo>
              </a:path>
              <a:path w="3647" h="3176">
                <a:moveTo>
                  <a:pt x="6871" y="5407"/>
                </a:moveTo>
                <a:cubicBezTo>
                  <a:pt x="6951" y="5407"/>
                  <a:pt x="7027" y="5395"/>
                  <a:pt x="7094" y="5383"/>
                </a:cubicBezTo>
                <a:cubicBezTo>
                  <a:pt x="7111" y="5383"/>
                  <a:pt x="7127" y="5383"/>
                  <a:pt x="7144" y="5383"/>
                </a:cubicBezTo>
              </a:path>
              <a:path w="3647" h="3176">
                <a:moveTo>
                  <a:pt x="6871" y="5779"/>
                </a:moveTo>
                <a:cubicBezTo>
                  <a:pt x="6961" y="5809"/>
                  <a:pt x="7005" y="5790"/>
                  <a:pt x="7094" y="5779"/>
                </a:cubicBezTo>
              </a:path>
              <a:path w="3647" h="3176">
                <a:moveTo>
                  <a:pt x="8037" y="4465"/>
                </a:moveTo>
                <a:cubicBezTo>
                  <a:pt x="8166" y="4453"/>
                  <a:pt x="8319" y="4434"/>
                  <a:pt x="8434" y="4366"/>
                </a:cubicBezTo>
                <a:cubicBezTo>
                  <a:pt x="8450" y="4349"/>
                  <a:pt x="8467" y="4333"/>
                  <a:pt x="8483" y="4316"/>
                </a:cubicBezTo>
                <a:cubicBezTo>
                  <a:pt x="8483" y="4602"/>
                  <a:pt x="8431" y="4834"/>
                  <a:pt x="8359" y="5110"/>
                </a:cubicBezTo>
                <a:cubicBezTo>
                  <a:pt x="8359" y="5118"/>
                  <a:pt x="8359" y="5127"/>
                  <a:pt x="8359" y="5135"/>
                </a:cubicBezTo>
              </a:path>
              <a:path w="3647" h="3176">
                <a:moveTo>
                  <a:pt x="7813" y="5556"/>
                </a:moveTo>
                <a:cubicBezTo>
                  <a:pt x="8086" y="5454"/>
                  <a:pt x="8369" y="5407"/>
                  <a:pt x="8657" y="5358"/>
                </a:cubicBezTo>
                <a:cubicBezTo>
                  <a:pt x="8789" y="5339"/>
                  <a:pt x="8805" y="5331"/>
                  <a:pt x="8880" y="5333"/>
                </a:cubicBezTo>
              </a:path>
              <a:path w="3647" h="3176">
                <a:moveTo>
                  <a:pt x="8037" y="5854"/>
                </a:moveTo>
                <a:cubicBezTo>
                  <a:pt x="7985" y="6101"/>
                  <a:pt x="7918" y="6334"/>
                  <a:pt x="7838" y="6573"/>
                </a:cubicBezTo>
              </a:path>
              <a:path w="3647" h="3176">
                <a:moveTo>
                  <a:pt x="8558" y="5755"/>
                </a:moveTo>
                <a:cubicBezTo>
                  <a:pt x="8421" y="5840"/>
                  <a:pt x="8400" y="6050"/>
                  <a:pt x="8409" y="6226"/>
                </a:cubicBezTo>
                <a:cubicBezTo>
                  <a:pt x="8417" y="6276"/>
                  <a:pt x="8426" y="6325"/>
                  <a:pt x="8434" y="6375"/>
                </a:cubicBezTo>
                <a:cubicBezTo>
                  <a:pt x="8597" y="6250"/>
                  <a:pt x="8907" y="6030"/>
                  <a:pt x="8706" y="5779"/>
                </a:cubicBezTo>
                <a:cubicBezTo>
                  <a:pt x="8641" y="5758"/>
                  <a:pt x="8625" y="5750"/>
                  <a:pt x="8582" y="5755"/>
                </a:cubicBezTo>
              </a:path>
              <a:path w="3647" h="3176">
                <a:moveTo>
                  <a:pt x="7615" y="6970"/>
                </a:moveTo>
                <a:cubicBezTo>
                  <a:pt x="7847" y="6970"/>
                  <a:pt x="8080" y="6964"/>
                  <a:pt x="8310" y="6921"/>
                </a:cubicBezTo>
                <a:cubicBezTo>
                  <a:pt x="8583" y="6869"/>
                  <a:pt x="8826" y="6797"/>
                  <a:pt x="9029" y="6598"/>
                </a:cubicBezTo>
                <a:cubicBezTo>
                  <a:pt x="9177" y="6453"/>
                  <a:pt x="9349" y="6272"/>
                  <a:pt x="9426" y="6077"/>
                </a:cubicBezTo>
                <a:cubicBezTo>
                  <a:pt x="9522" y="5834"/>
                  <a:pt x="9523" y="5561"/>
                  <a:pt x="9500" y="5308"/>
                </a:cubicBezTo>
                <a:cubicBezTo>
                  <a:pt x="9475" y="5035"/>
                  <a:pt x="9380" y="4781"/>
                  <a:pt x="9252" y="4539"/>
                </a:cubicBezTo>
                <a:cubicBezTo>
                  <a:pt x="9173" y="4389"/>
                  <a:pt x="9045" y="4262"/>
                  <a:pt x="8905" y="4167"/>
                </a:cubicBezTo>
                <a:cubicBezTo>
                  <a:pt x="8801" y="4097"/>
                  <a:pt x="8705" y="4036"/>
                  <a:pt x="8582" y="4018"/>
                </a:cubicBezTo>
                <a:cubicBezTo>
                  <a:pt x="8442" y="3997"/>
                  <a:pt x="8349" y="4012"/>
                  <a:pt x="8210" y="4043"/>
                </a:cubicBezTo>
                <a:cubicBezTo>
                  <a:pt x="8037" y="4081"/>
                  <a:pt x="7899" y="4148"/>
                  <a:pt x="7764" y="4266"/>
                </a:cubicBezTo>
                <a:cubicBezTo>
                  <a:pt x="7622" y="4391"/>
                  <a:pt x="7501" y="4600"/>
                  <a:pt x="7466" y="4787"/>
                </a:cubicBezTo>
                <a:cubicBezTo>
                  <a:pt x="7440" y="4926"/>
                  <a:pt x="7458" y="5068"/>
                  <a:pt x="7441" y="5209"/>
                </a:cubicBezTo>
                <a:cubicBezTo>
                  <a:pt x="7426" y="5327"/>
                  <a:pt x="7417" y="5436"/>
                  <a:pt x="7417" y="5556"/>
                </a:cubicBezTo>
                <a:cubicBezTo>
                  <a:pt x="7417" y="5782"/>
                  <a:pt x="7428" y="6006"/>
                  <a:pt x="7441" y="6226"/>
                </a:cubicBezTo>
                <a:cubicBezTo>
                  <a:pt x="7446" y="6314"/>
                  <a:pt x="7450" y="6400"/>
                  <a:pt x="7466" y="6474"/>
                </a:cubicBezTo>
                <a:cubicBezTo>
                  <a:pt x="7482" y="6550"/>
                  <a:pt x="7487" y="6649"/>
                  <a:pt x="7516" y="6722"/>
                </a:cubicBezTo>
                <a:cubicBezTo>
                  <a:pt x="7551" y="6809"/>
                  <a:pt x="7652" y="6873"/>
                  <a:pt x="7739" y="6896"/>
                </a:cubicBezTo>
                <a:cubicBezTo>
                  <a:pt x="7853" y="6925"/>
                  <a:pt x="7949" y="6884"/>
                  <a:pt x="8062" y="6896"/>
                </a:cubicBezTo>
                <a:cubicBezTo>
                  <a:pt x="8070" y="6904"/>
                  <a:pt x="8078" y="6913"/>
                  <a:pt x="8086" y="692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4920" y="3000240"/>
            <a:ext cx="581040" cy="928800"/>
          </a:xfrm>
          <a:custGeom>
            <a:avLst/>
            <a:gdLst/>
            <a:ahLst/>
            <a:rect l="l" t="t" r="r" b="b"/>
            <a:pathLst>
              <a:path w="1613" h="2581">
                <a:moveTo>
                  <a:pt x="3349" y="9971"/>
                </a:moveTo>
                <a:cubicBezTo>
                  <a:pt x="3440" y="9971"/>
                  <a:pt x="3512" y="9977"/>
                  <a:pt x="3597" y="9996"/>
                </a:cubicBezTo>
                <a:cubicBezTo>
                  <a:pt x="3663" y="10010"/>
                  <a:pt x="3752" y="10011"/>
                  <a:pt x="3820" y="10021"/>
                </a:cubicBezTo>
                <a:cubicBezTo>
                  <a:pt x="3952" y="10041"/>
                  <a:pt x="4089" y="10009"/>
                  <a:pt x="4217" y="9996"/>
                </a:cubicBezTo>
                <a:cubicBezTo>
                  <a:pt x="4427" y="9975"/>
                  <a:pt x="4650" y="9996"/>
                  <a:pt x="4862" y="9996"/>
                </a:cubicBezTo>
              </a:path>
              <a:path w="1613" h="2581">
                <a:moveTo>
                  <a:pt x="4142" y="10244"/>
                </a:moveTo>
                <a:cubicBezTo>
                  <a:pt x="4142" y="10430"/>
                  <a:pt x="4141" y="10610"/>
                  <a:pt x="4167" y="10790"/>
                </a:cubicBezTo>
                <a:cubicBezTo>
                  <a:pt x="4172" y="10826"/>
                  <a:pt x="4167" y="10878"/>
                  <a:pt x="4167" y="10914"/>
                </a:cubicBezTo>
              </a:path>
              <a:path w="1613" h="2581">
                <a:moveTo>
                  <a:pt x="3894" y="9103"/>
                </a:moveTo>
                <a:cubicBezTo>
                  <a:pt x="4013" y="9188"/>
                  <a:pt x="4131" y="9207"/>
                  <a:pt x="4266" y="9252"/>
                </a:cubicBezTo>
                <a:cubicBezTo>
                  <a:pt x="4395" y="9295"/>
                  <a:pt x="4516" y="9344"/>
                  <a:pt x="4638" y="9401"/>
                </a:cubicBezTo>
                <a:cubicBezTo>
                  <a:pt x="4706" y="9433"/>
                  <a:pt x="4827" y="9454"/>
                  <a:pt x="4887" y="9500"/>
                </a:cubicBezTo>
                <a:cubicBezTo>
                  <a:pt x="4925" y="9539"/>
                  <a:pt x="4927" y="9556"/>
                  <a:pt x="4961" y="9550"/>
                </a:cubicBezTo>
              </a:path>
              <a:path w="1613" h="2581">
                <a:moveTo>
                  <a:pt x="3969" y="8458"/>
                </a:moveTo>
                <a:cubicBezTo>
                  <a:pt x="4000" y="8366"/>
                  <a:pt x="4087" y="8281"/>
                  <a:pt x="4192" y="8359"/>
                </a:cubicBezTo>
                <a:cubicBezTo>
                  <a:pt x="4310" y="8447"/>
                  <a:pt x="4204" y="8603"/>
                  <a:pt x="4142" y="8682"/>
                </a:cubicBezTo>
                <a:cubicBezTo>
                  <a:pt x="4167" y="8607"/>
                  <a:pt x="4297" y="8628"/>
                  <a:pt x="4291" y="8731"/>
                </a:cubicBezTo>
                <a:cubicBezTo>
                  <a:pt x="4282" y="8896"/>
                  <a:pt x="4156" y="8967"/>
                  <a:pt x="4043" y="890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41280" y="1535040"/>
            <a:ext cx="204840" cy="403200"/>
          </a:xfrm>
          <a:custGeom>
            <a:avLst/>
            <a:gdLst/>
            <a:ahLst/>
            <a:rect l="l" t="t" r="r" b="b"/>
            <a:pathLst>
              <a:path w="571" h="1118">
                <a:moveTo>
                  <a:pt x="3448" y="4837"/>
                </a:moveTo>
                <a:cubicBezTo>
                  <a:pt x="3581" y="4962"/>
                  <a:pt x="3716" y="5080"/>
                  <a:pt x="3845" y="5209"/>
                </a:cubicBezTo>
                <a:cubicBezTo>
                  <a:pt x="3906" y="5270"/>
                  <a:pt x="3969" y="5316"/>
                  <a:pt x="4018" y="5383"/>
                </a:cubicBezTo>
              </a:path>
              <a:path w="571" h="1118">
                <a:moveTo>
                  <a:pt x="3572" y="4266"/>
                </a:moveTo>
                <a:cubicBezTo>
                  <a:pt x="3587" y="4360"/>
                  <a:pt x="3595" y="4451"/>
                  <a:pt x="3621" y="453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01960" y="2973240"/>
            <a:ext cx="795240" cy="714600"/>
          </a:xfrm>
          <a:custGeom>
            <a:avLst/>
            <a:gdLst/>
            <a:ahLst/>
            <a:rect l="l" t="t" r="r" b="b"/>
            <a:pathLst>
              <a:path w="2208" h="1985">
                <a:moveTo>
                  <a:pt x="8062" y="9823"/>
                </a:moveTo>
                <a:cubicBezTo>
                  <a:pt x="8171" y="9781"/>
                  <a:pt x="8290" y="9778"/>
                  <a:pt x="8409" y="9773"/>
                </a:cubicBezTo>
                <a:cubicBezTo>
                  <a:pt x="8417" y="9773"/>
                  <a:pt x="8426" y="9773"/>
                  <a:pt x="8434" y="9773"/>
                </a:cubicBezTo>
              </a:path>
              <a:path w="2208" h="1985">
                <a:moveTo>
                  <a:pt x="8285" y="10021"/>
                </a:moveTo>
                <a:cubicBezTo>
                  <a:pt x="8368" y="9973"/>
                  <a:pt x="8460" y="9956"/>
                  <a:pt x="8558" y="9947"/>
                </a:cubicBezTo>
              </a:path>
              <a:path w="2208" h="1985">
                <a:moveTo>
                  <a:pt x="9451" y="8285"/>
                </a:moveTo>
                <a:cubicBezTo>
                  <a:pt x="9379" y="8509"/>
                  <a:pt x="9284" y="8764"/>
                  <a:pt x="9302" y="9004"/>
                </a:cubicBezTo>
                <a:cubicBezTo>
                  <a:pt x="9310" y="9029"/>
                  <a:pt x="9319" y="9054"/>
                  <a:pt x="9327" y="9079"/>
                </a:cubicBezTo>
                <a:cubicBezTo>
                  <a:pt x="9483" y="9043"/>
                  <a:pt x="9588" y="8944"/>
                  <a:pt x="9649" y="8781"/>
                </a:cubicBezTo>
                <a:cubicBezTo>
                  <a:pt x="9649" y="8723"/>
                  <a:pt x="9641" y="8706"/>
                  <a:pt x="9575" y="8731"/>
                </a:cubicBezTo>
                <a:cubicBezTo>
                  <a:pt x="9493" y="8869"/>
                  <a:pt x="9483" y="8916"/>
                  <a:pt x="9475" y="9079"/>
                </a:cubicBezTo>
              </a:path>
              <a:path w="2208" h="1985">
                <a:moveTo>
                  <a:pt x="9773" y="8384"/>
                </a:moveTo>
                <a:cubicBezTo>
                  <a:pt x="9799" y="8279"/>
                  <a:pt x="9811" y="8300"/>
                  <a:pt x="9922" y="8260"/>
                </a:cubicBezTo>
                <a:cubicBezTo>
                  <a:pt x="9972" y="8401"/>
                  <a:pt x="9950" y="8430"/>
                  <a:pt x="9897" y="8582"/>
                </a:cubicBezTo>
                <a:cubicBezTo>
                  <a:pt x="9996" y="8418"/>
                  <a:pt x="10211" y="8516"/>
                  <a:pt x="10096" y="8731"/>
                </a:cubicBezTo>
                <a:cubicBezTo>
                  <a:pt x="10018" y="8878"/>
                  <a:pt x="9887" y="8886"/>
                  <a:pt x="9748" y="8905"/>
                </a:cubicBezTo>
              </a:path>
              <a:path w="2208" h="1985">
                <a:moveTo>
                  <a:pt x="9277" y="9302"/>
                </a:moveTo>
                <a:cubicBezTo>
                  <a:pt x="9529" y="9210"/>
                  <a:pt x="9781" y="9129"/>
                  <a:pt x="10046" y="9079"/>
                </a:cubicBezTo>
                <a:cubicBezTo>
                  <a:pt x="10178" y="9060"/>
                  <a:pt x="10194" y="9052"/>
                  <a:pt x="10269" y="9054"/>
                </a:cubicBezTo>
              </a:path>
              <a:path w="2208" h="1985">
                <a:moveTo>
                  <a:pt x="9872" y="9426"/>
                </a:moveTo>
                <a:cubicBezTo>
                  <a:pt x="9766" y="9461"/>
                  <a:pt x="9632" y="9503"/>
                  <a:pt x="9525" y="9550"/>
                </a:cubicBezTo>
                <a:cubicBezTo>
                  <a:pt x="9445" y="9585"/>
                  <a:pt x="9540" y="9800"/>
                  <a:pt x="9550" y="9872"/>
                </a:cubicBezTo>
                <a:cubicBezTo>
                  <a:pt x="9632" y="9790"/>
                  <a:pt x="9792" y="9600"/>
                  <a:pt x="9922" y="9748"/>
                </a:cubicBezTo>
                <a:cubicBezTo>
                  <a:pt x="10106" y="9957"/>
                  <a:pt x="9756" y="10219"/>
                  <a:pt x="9575" y="10244"/>
                </a:cubicBezTo>
                <a:cubicBezTo>
                  <a:pt x="9542" y="10236"/>
                  <a:pt x="9508" y="10228"/>
                  <a:pt x="9475" y="1022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84280" y="3741840"/>
            <a:ext cx="339840" cy="554040"/>
          </a:xfrm>
          <a:custGeom>
            <a:avLst/>
            <a:gdLst/>
            <a:ahLst/>
            <a:rect l="l" t="t" r="r" b="b"/>
            <a:pathLst>
              <a:path w="943" h="1539">
                <a:moveTo>
                  <a:pt x="6623" y="10393"/>
                </a:moveTo>
                <a:cubicBezTo>
                  <a:pt x="6803" y="10499"/>
                  <a:pt x="6965" y="10633"/>
                  <a:pt x="7144" y="10740"/>
                </a:cubicBezTo>
                <a:cubicBezTo>
                  <a:pt x="7242" y="10799"/>
                  <a:pt x="7407" y="10932"/>
                  <a:pt x="7516" y="10964"/>
                </a:cubicBezTo>
                <a:cubicBezTo>
                  <a:pt x="7532" y="10964"/>
                  <a:pt x="7549" y="10964"/>
                  <a:pt x="7565" y="10964"/>
                </a:cubicBezTo>
              </a:path>
              <a:path w="943" h="1539">
                <a:moveTo>
                  <a:pt x="7094" y="11137"/>
                </a:moveTo>
                <a:cubicBezTo>
                  <a:pt x="7050" y="11153"/>
                  <a:pt x="6821" y="11203"/>
                  <a:pt x="6821" y="11261"/>
                </a:cubicBezTo>
                <a:cubicBezTo>
                  <a:pt x="6821" y="11390"/>
                  <a:pt x="6891" y="11364"/>
                  <a:pt x="6846" y="11485"/>
                </a:cubicBezTo>
                <a:cubicBezTo>
                  <a:pt x="6941" y="11484"/>
                  <a:pt x="7030" y="11357"/>
                  <a:pt x="7119" y="11509"/>
                </a:cubicBezTo>
                <a:cubicBezTo>
                  <a:pt x="7185" y="11622"/>
                  <a:pt x="7112" y="11847"/>
                  <a:pt x="6995" y="11906"/>
                </a:cubicBezTo>
                <a:cubicBezTo>
                  <a:pt x="6897" y="11955"/>
                  <a:pt x="6859" y="11921"/>
                  <a:pt x="6772" y="1190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90760" y="5027760"/>
            <a:ext cx="98280" cy="1602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4142" y="14039"/>
                </a:moveTo>
                <a:cubicBezTo>
                  <a:pt x="4268" y="14157"/>
                  <a:pt x="4319" y="14253"/>
                  <a:pt x="4390" y="14412"/>
                </a:cubicBezTo>
              </a:path>
              <a:path w="274" h="448">
                <a:moveTo>
                  <a:pt x="4415" y="13965"/>
                </a:moveTo>
                <a:cubicBezTo>
                  <a:pt x="4361" y="14125"/>
                  <a:pt x="4299" y="14256"/>
                  <a:pt x="4192" y="1438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8800" y="2303640"/>
            <a:ext cx="1670040" cy="1938240"/>
          </a:xfrm>
          <a:custGeom>
            <a:avLst/>
            <a:gdLst/>
            <a:ahLst/>
            <a:rect l="l" t="t" r="r" b="b"/>
            <a:pathLst>
              <a:path w="4639" h="5383">
                <a:moveTo>
                  <a:pt x="12898" y="8979"/>
                </a:moveTo>
                <a:cubicBezTo>
                  <a:pt x="12736" y="9067"/>
                  <a:pt x="12659" y="9012"/>
                  <a:pt x="12576" y="9178"/>
                </a:cubicBezTo>
                <a:cubicBezTo>
                  <a:pt x="12530" y="9291"/>
                  <a:pt x="12514" y="9321"/>
                  <a:pt x="12526" y="9401"/>
                </a:cubicBezTo>
                <a:cubicBezTo>
                  <a:pt x="12686" y="9332"/>
                  <a:pt x="12895" y="9356"/>
                  <a:pt x="12750" y="9599"/>
                </a:cubicBezTo>
                <a:cubicBezTo>
                  <a:pt x="12648" y="9770"/>
                  <a:pt x="12432" y="9832"/>
                  <a:pt x="12328" y="9699"/>
                </a:cubicBezTo>
              </a:path>
              <a:path w="4639" h="5383">
                <a:moveTo>
                  <a:pt x="13171" y="9674"/>
                </a:moveTo>
                <a:cubicBezTo>
                  <a:pt x="13224" y="9448"/>
                  <a:pt x="13215" y="9258"/>
                  <a:pt x="13171" y="9029"/>
                </a:cubicBezTo>
                <a:cubicBezTo>
                  <a:pt x="13152" y="8955"/>
                  <a:pt x="13144" y="8948"/>
                  <a:pt x="13146" y="8905"/>
                </a:cubicBezTo>
                <a:cubicBezTo>
                  <a:pt x="13259" y="8864"/>
                  <a:pt x="13335" y="8845"/>
                  <a:pt x="13469" y="8830"/>
                </a:cubicBezTo>
                <a:cubicBezTo>
                  <a:pt x="13841" y="8789"/>
                  <a:pt x="14215" y="8745"/>
                  <a:pt x="14585" y="8706"/>
                </a:cubicBezTo>
                <a:cubicBezTo>
                  <a:pt x="14679" y="8706"/>
                  <a:pt x="14742" y="8685"/>
                  <a:pt x="14684" y="8731"/>
                </a:cubicBezTo>
              </a:path>
              <a:path w="4639" h="5383">
                <a:moveTo>
                  <a:pt x="13593" y="9029"/>
                </a:moveTo>
                <a:cubicBezTo>
                  <a:pt x="13529" y="9170"/>
                  <a:pt x="13395" y="9462"/>
                  <a:pt x="13469" y="9624"/>
                </a:cubicBezTo>
                <a:cubicBezTo>
                  <a:pt x="13522" y="9741"/>
                  <a:pt x="13766" y="9377"/>
                  <a:pt x="13767" y="9376"/>
                </a:cubicBezTo>
                <a:cubicBezTo>
                  <a:pt x="13767" y="9351"/>
                  <a:pt x="13767" y="9327"/>
                  <a:pt x="13767" y="9302"/>
                </a:cubicBezTo>
                <a:cubicBezTo>
                  <a:pt x="13722" y="9331"/>
                  <a:pt x="13464" y="9691"/>
                  <a:pt x="13543" y="9674"/>
                </a:cubicBezTo>
                <a:cubicBezTo>
                  <a:pt x="13584" y="9649"/>
                  <a:pt x="13626" y="9624"/>
                  <a:pt x="13667" y="9599"/>
                </a:cubicBezTo>
              </a:path>
              <a:path w="4639" h="5383">
                <a:moveTo>
                  <a:pt x="14139" y="9054"/>
                </a:moveTo>
                <a:cubicBezTo>
                  <a:pt x="14200" y="9019"/>
                  <a:pt x="14413" y="8990"/>
                  <a:pt x="14312" y="9153"/>
                </a:cubicBezTo>
                <a:cubicBezTo>
                  <a:pt x="14279" y="9178"/>
                  <a:pt x="14246" y="9202"/>
                  <a:pt x="14213" y="9227"/>
                </a:cubicBezTo>
                <a:cubicBezTo>
                  <a:pt x="14213" y="9254"/>
                  <a:pt x="14464" y="9110"/>
                  <a:pt x="14412" y="9327"/>
                </a:cubicBezTo>
                <a:cubicBezTo>
                  <a:pt x="14357" y="9558"/>
                  <a:pt x="14088" y="9540"/>
                  <a:pt x="13915" y="9575"/>
                </a:cubicBezTo>
              </a:path>
              <a:path w="4639" h="5383">
                <a:moveTo>
                  <a:pt x="13568" y="8086"/>
                </a:moveTo>
                <a:cubicBezTo>
                  <a:pt x="13568" y="8243"/>
                  <a:pt x="13568" y="8401"/>
                  <a:pt x="13568" y="8558"/>
                </a:cubicBezTo>
              </a:path>
              <a:path w="4639" h="5383">
                <a:moveTo>
                  <a:pt x="14064" y="7888"/>
                </a:moveTo>
                <a:cubicBezTo>
                  <a:pt x="14138" y="7851"/>
                  <a:pt x="14146" y="7812"/>
                  <a:pt x="14213" y="7764"/>
                </a:cubicBezTo>
                <a:cubicBezTo>
                  <a:pt x="14416" y="7943"/>
                  <a:pt x="14509" y="8182"/>
                  <a:pt x="14213" y="8384"/>
                </a:cubicBezTo>
                <a:cubicBezTo>
                  <a:pt x="14073" y="8408"/>
                  <a:pt x="14030" y="8421"/>
                  <a:pt x="13965" y="8334"/>
                </a:cubicBezTo>
                <a:cubicBezTo>
                  <a:pt x="14072" y="8182"/>
                  <a:pt x="14222" y="8212"/>
                  <a:pt x="14387" y="8310"/>
                </a:cubicBezTo>
                <a:cubicBezTo>
                  <a:pt x="14431" y="8354"/>
                  <a:pt x="14448" y="8364"/>
                  <a:pt x="14436" y="8409"/>
                </a:cubicBezTo>
              </a:path>
              <a:path w="4639" h="5383">
                <a:moveTo>
                  <a:pt x="13643" y="10021"/>
                </a:moveTo>
                <a:cubicBezTo>
                  <a:pt x="13627" y="10031"/>
                  <a:pt x="13536" y="10300"/>
                  <a:pt x="13519" y="10468"/>
                </a:cubicBezTo>
                <a:cubicBezTo>
                  <a:pt x="13674" y="10393"/>
                  <a:pt x="13844" y="10115"/>
                  <a:pt x="13767" y="10195"/>
                </a:cubicBezTo>
                <a:cubicBezTo>
                  <a:pt x="13672" y="10336"/>
                  <a:pt x="13641" y="10376"/>
                  <a:pt x="13643" y="10492"/>
                </a:cubicBezTo>
              </a:path>
              <a:path w="4639" h="5383">
                <a:moveTo>
                  <a:pt x="14089" y="10096"/>
                </a:moveTo>
                <a:cubicBezTo>
                  <a:pt x="14019" y="10284"/>
                  <a:pt x="14002" y="10305"/>
                  <a:pt x="14064" y="10492"/>
                </a:cubicBezTo>
                <a:cubicBezTo>
                  <a:pt x="14208" y="10485"/>
                  <a:pt x="14552" y="10213"/>
                  <a:pt x="14238" y="10145"/>
                </a:cubicBezTo>
                <a:cubicBezTo>
                  <a:pt x="14188" y="10162"/>
                  <a:pt x="14139" y="10178"/>
                  <a:pt x="14089" y="10195"/>
                </a:cubicBezTo>
              </a:path>
              <a:path w="4639" h="5383">
                <a:moveTo>
                  <a:pt x="13072" y="10319"/>
                </a:moveTo>
                <a:cubicBezTo>
                  <a:pt x="13105" y="10327"/>
                  <a:pt x="13138" y="10336"/>
                  <a:pt x="13171" y="10344"/>
                </a:cubicBezTo>
              </a:path>
              <a:path w="4639" h="5383">
                <a:moveTo>
                  <a:pt x="13072" y="10840"/>
                </a:moveTo>
                <a:cubicBezTo>
                  <a:pt x="13484" y="10780"/>
                  <a:pt x="13895" y="10690"/>
                  <a:pt x="14312" y="10765"/>
                </a:cubicBezTo>
                <a:cubicBezTo>
                  <a:pt x="14329" y="10773"/>
                  <a:pt x="14345" y="10782"/>
                  <a:pt x="14362" y="10790"/>
                </a:cubicBezTo>
              </a:path>
              <a:path w="4639" h="5383">
                <a:moveTo>
                  <a:pt x="14089" y="11137"/>
                </a:moveTo>
                <a:cubicBezTo>
                  <a:pt x="14168" y="11112"/>
                  <a:pt x="14572" y="10993"/>
                  <a:pt x="14486" y="11212"/>
                </a:cubicBezTo>
                <a:cubicBezTo>
                  <a:pt x="14482" y="11221"/>
                  <a:pt x="14165" y="11573"/>
                  <a:pt x="14362" y="11336"/>
                </a:cubicBezTo>
                <a:cubicBezTo>
                  <a:pt x="14654" y="11359"/>
                  <a:pt x="14728" y="11542"/>
                  <a:pt x="14412" y="11733"/>
                </a:cubicBezTo>
                <a:cubicBezTo>
                  <a:pt x="14248" y="11832"/>
                  <a:pt x="14189" y="11783"/>
                  <a:pt x="14089" y="11683"/>
                </a:cubicBezTo>
              </a:path>
              <a:path w="4639" h="5383">
                <a:moveTo>
                  <a:pt x="15230" y="7417"/>
                </a:moveTo>
                <a:cubicBezTo>
                  <a:pt x="15264" y="7348"/>
                  <a:pt x="15476" y="7187"/>
                  <a:pt x="15528" y="7342"/>
                </a:cubicBezTo>
                <a:cubicBezTo>
                  <a:pt x="15502" y="7472"/>
                  <a:pt x="15490" y="7518"/>
                  <a:pt x="15429" y="7590"/>
                </a:cubicBezTo>
                <a:cubicBezTo>
                  <a:pt x="15412" y="7607"/>
                  <a:pt x="15396" y="7623"/>
                  <a:pt x="15379" y="7640"/>
                </a:cubicBezTo>
                <a:cubicBezTo>
                  <a:pt x="15495" y="7500"/>
                  <a:pt x="15474" y="7567"/>
                  <a:pt x="15627" y="7590"/>
                </a:cubicBezTo>
                <a:cubicBezTo>
                  <a:pt x="15614" y="7854"/>
                  <a:pt x="15490" y="7842"/>
                  <a:pt x="15230" y="7863"/>
                </a:cubicBezTo>
              </a:path>
              <a:path w="4639" h="5383">
                <a:moveTo>
                  <a:pt x="15329" y="8086"/>
                </a:moveTo>
                <a:cubicBezTo>
                  <a:pt x="15544" y="8035"/>
                  <a:pt x="15758" y="7982"/>
                  <a:pt x="15974" y="7938"/>
                </a:cubicBezTo>
              </a:path>
              <a:path w="4639" h="5383">
                <a:moveTo>
                  <a:pt x="15652" y="8260"/>
                </a:moveTo>
                <a:cubicBezTo>
                  <a:pt x="15537" y="8273"/>
                  <a:pt x="15441" y="8298"/>
                  <a:pt x="15329" y="8334"/>
                </a:cubicBezTo>
                <a:cubicBezTo>
                  <a:pt x="15425" y="8526"/>
                  <a:pt x="15378" y="8500"/>
                  <a:pt x="15528" y="8458"/>
                </a:cubicBezTo>
                <a:cubicBezTo>
                  <a:pt x="15668" y="8435"/>
                  <a:pt x="15710" y="8422"/>
                  <a:pt x="15776" y="8508"/>
                </a:cubicBezTo>
                <a:cubicBezTo>
                  <a:pt x="15718" y="8751"/>
                  <a:pt x="15535" y="8986"/>
                  <a:pt x="15230" y="8954"/>
                </a:cubicBezTo>
                <a:cubicBezTo>
                  <a:pt x="15189" y="8929"/>
                  <a:pt x="15147" y="8905"/>
                  <a:pt x="15106" y="8880"/>
                </a:cubicBezTo>
              </a:path>
              <a:path w="4639" h="5383">
                <a:moveTo>
                  <a:pt x="13221" y="8434"/>
                </a:moveTo>
                <a:cubicBezTo>
                  <a:pt x="13264" y="8513"/>
                  <a:pt x="13309" y="8668"/>
                  <a:pt x="13370" y="8731"/>
                </a:cubicBezTo>
                <a:cubicBezTo>
                  <a:pt x="13509" y="8873"/>
                  <a:pt x="13731" y="8920"/>
                  <a:pt x="13915" y="8954"/>
                </a:cubicBezTo>
                <a:cubicBezTo>
                  <a:pt x="14125" y="8993"/>
                  <a:pt x="14334" y="9055"/>
                  <a:pt x="14536" y="9128"/>
                </a:cubicBezTo>
                <a:cubicBezTo>
                  <a:pt x="14692" y="9184"/>
                  <a:pt x="14845" y="9215"/>
                  <a:pt x="15007" y="9252"/>
                </a:cubicBezTo>
                <a:cubicBezTo>
                  <a:pt x="15155" y="9286"/>
                  <a:pt x="15302" y="9319"/>
                  <a:pt x="15453" y="9327"/>
                </a:cubicBezTo>
                <a:cubicBezTo>
                  <a:pt x="15763" y="9344"/>
                  <a:pt x="16219" y="9278"/>
                  <a:pt x="16470" y="9079"/>
                </a:cubicBezTo>
                <a:cubicBezTo>
                  <a:pt x="16690" y="8904"/>
                  <a:pt x="16879" y="8503"/>
                  <a:pt x="16942" y="8235"/>
                </a:cubicBezTo>
                <a:cubicBezTo>
                  <a:pt x="17016" y="7916"/>
                  <a:pt x="16935" y="7540"/>
                  <a:pt x="16818" y="7243"/>
                </a:cubicBezTo>
                <a:cubicBezTo>
                  <a:pt x="16733" y="7028"/>
                  <a:pt x="16464" y="6800"/>
                  <a:pt x="16272" y="6672"/>
                </a:cubicBezTo>
                <a:cubicBezTo>
                  <a:pt x="16043" y="6520"/>
                  <a:pt x="15795" y="6461"/>
                  <a:pt x="15528" y="6424"/>
                </a:cubicBezTo>
                <a:cubicBezTo>
                  <a:pt x="14903" y="6338"/>
                  <a:pt x="14358" y="6563"/>
                  <a:pt x="13816" y="6846"/>
                </a:cubicBezTo>
                <a:cubicBezTo>
                  <a:pt x="13603" y="6957"/>
                  <a:pt x="13434" y="7067"/>
                  <a:pt x="13295" y="7268"/>
                </a:cubicBezTo>
                <a:cubicBezTo>
                  <a:pt x="13200" y="7406"/>
                  <a:pt x="13179" y="7487"/>
                  <a:pt x="13146" y="7640"/>
                </a:cubicBezTo>
                <a:cubicBezTo>
                  <a:pt x="13121" y="7753"/>
                  <a:pt x="13114" y="7899"/>
                  <a:pt x="13146" y="8012"/>
                </a:cubicBezTo>
                <a:cubicBezTo>
                  <a:pt x="13174" y="8112"/>
                  <a:pt x="13250" y="8219"/>
                  <a:pt x="13295" y="831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9760" y="4991040"/>
            <a:ext cx="446040" cy="804960"/>
          </a:xfrm>
          <a:custGeom>
            <a:avLst/>
            <a:gdLst/>
            <a:ahLst/>
            <a:rect l="l" t="t" r="r" b="b"/>
            <a:pathLst>
              <a:path w="1241" h="2233">
                <a:moveTo>
                  <a:pt x="1984" y="14114"/>
                </a:moveTo>
                <a:cubicBezTo>
                  <a:pt x="1984" y="14263"/>
                  <a:pt x="1984" y="14411"/>
                  <a:pt x="1984" y="14560"/>
                </a:cubicBezTo>
              </a:path>
              <a:path w="1241" h="2233">
                <a:moveTo>
                  <a:pt x="2158" y="14163"/>
                </a:moveTo>
                <a:cubicBezTo>
                  <a:pt x="2218" y="14285"/>
                  <a:pt x="2333" y="14110"/>
                  <a:pt x="2431" y="14238"/>
                </a:cubicBezTo>
                <a:cubicBezTo>
                  <a:pt x="2458" y="14344"/>
                  <a:pt x="2462" y="14383"/>
                  <a:pt x="2381" y="14436"/>
                </a:cubicBezTo>
              </a:path>
              <a:path w="1241" h="2233">
                <a:moveTo>
                  <a:pt x="2133" y="14064"/>
                </a:moveTo>
                <a:cubicBezTo>
                  <a:pt x="2255" y="13983"/>
                  <a:pt x="2369" y="13924"/>
                  <a:pt x="2505" y="13866"/>
                </a:cubicBezTo>
              </a:path>
              <a:path w="1241" h="2233">
                <a:moveTo>
                  <a:pt x="1414" y="15007"/>
                </a:moveTo>
                <a:cubicBezTo>
                  <a:pt x="1483" y="15146"/>
                  <a:pt x="1504" y="15186"/>
                  <a:pt x="1538" y="15280"/>
                </a:cubicBezTo>
              </a:path>
              <a:path w="1241" h="2233">
                <a:moveTo>
                  <a:pt x="1439" y="15106"/>
                </a:moveTo>
                <a:cubicBezTo>
                  <a:pt x="1528" y="15061"/>
                  <a:pt x="1585" y="15035"/>
                  <a:pt x="1662" y="15007"/>
                </a:cubicBezTo>
              </a:path>
              <a:path w="1241" h="2233">
                <a:moveTo>
                  <a:pt x="2158" y="14759"/>
                </a:moveTo>
                <a:cubicBezTo>
                  <a:pt x="2276" y="14781"/>
                  <a:pt x="2503" y="14780"/>
                  <a:pt x="2381" y="14982"/>
                </a:cubicBezTo>
                <a:cubicBezTo>
                  <a:pt x="2267" y="15096"/>
                  <a:pt x="2238" y="15132"/>
                  <a:pt x="2133" y="15156"/>
                </a:cubicBezTo>
                <a:cubicBezTo>
                  <a:pt x="2284" y="15048"/>
                  <a:pt x="2260" y="15033"/>
                  <a:pt x="2431" y="15106"/>
                </a:cubicBezTo>
              </a:path>
              <a:path w="1241" h="2233">
                <a:moveTo>
                  <a:pt x="1687" y="15429"/>
                </a:moveTo>
                <a:cubicBezTo>
                  <a:pt x="1931" y="15347"/>
                  <a:pt x="2181" y="15211"/>
                  <a:pt x="2431" y="15156"/>
                </a:cubicBezTo>
                <a:cubicBezTo>
                  <a:pt x="2472" y="15156"/>
                  <a:pt x="2514" y="15156"/>
                  <a:pt x="2555" y="15156"/>
                </a:cubicBezTo>
              </a:path>
              <a:path w="1241" h="2233">
                <a:moveTo>
                  <a:pt x="2034" y="15701"/>
                </a:moveTo>
                <a:cubicBezTo>
                  <a:pt x="2066" y="15834"/>
                  <a:pt x="2101" y="15965"/>
                  <a:pt x="2133" y="16098"/>
                </a:cubicBezTo>
              </a:path>
              <a:path w="1241" h="2233">
                <a:moveTo>
                  <a:pt x="2307" y="15553"/>
                </a:moveTo>
                <a:cubicBezTo>
                  <a:pt x="2443" y="15546"/>
                  <a:pt x="2510" y="15538"/>
                  <a:pt x="2629" y="15478"/>
                </a:cubicBezTo>
                <a:cubicBezTo>
                  <a:pt x="2659" y="15626"/>
                  <a:pt x="2664" y="15692"/>
                  <a:pt x="2629" y="1580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5040" y="5072040"/>
            <a:ext cx="81000" cy="115920"/>
          </a:xfrm>
          <a:custGeom>
            <a:avLst/>
            <a:gdLst/>
            <a:ahLst/>
            <a:rect l="l" t="t" r="r" b="b"/>
            <a:pathLst>
              <a:path w="224" h="324">
                <a:moveTo>
                  <a:pt x="7615" y="14089"/>
                </a:moveTo>
                <a:cubicBezTo>
                  <a:pt x="7630" y="14181"/>
                  <a:pt x="7661" y="14303"/>
                  <a:pt x="7689" y="14387"/>
                </a:cubicBezTo>
                <a:cubicBezTo>
                  <a:pt x="7697" y="14395"/>
                  <a:pt x="7706" y="14404"/>
                  <a:pt x="7714" y="14412"/>
                </a:cubicBezTo>
              </a:path>
              <a:path w="224" h="324">
                <a:moveTo>
                  <a:pt x="7739" y="14114"/>
                </a:moveTo>
                <a:cubicBezTo>
                  <a:pt x="7667" y="14210"/>
                  <a:pt x="7597" y="14299"/>
                  <a:pt x="7516" y="1438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760" y="5643720"/>
            <a:ext cx="2463480" cy="706320"/>
          </a:xfrm>
          <a:custGeom>
            <a:avLst/>
            <a:gdLst/>
            <a:ahLst/>
            <a:rect l="l" t="t" r="r" b="b"/>
            <a:pathLst>
              <a:path w="6847" h="1960">
                <a:moveTo>
                  <a:pt x="4936" y="15801"/>
                </a:moveTo>
                <a:cubicBezTo>
                  <a:pt x="4946" y="15975"/>
                  <a:pt x="4966" y="16106"/>
                  <a:pt x="4911" y="16272"/>
                </a:cubicBezTo>
              </a:path>
              <a:path w="6847" h="1960">
                <a:moveTo>
                  <a:pt x="5110" y="15751"/>
                </a:moveTo>
                <a:cubicBezTo>
                  <a:pt x="5260" y="15715"/>
                  <a:pt x="5403" y="15686"/>
                  <a:pt x="5556" y="15677"/>
                </a:cubicBezTo>
                <a:cubicBezTo>
                  <a:pt x="5525" y="15877"/>
                  <a:pt x="5445" y="16040"/>
                  <a:pt x="5358" y="16222"/>
                </a:cubicBezTo>
              </a:path>
              <a:path w="6847" h="1960">
                <a:moveTo>
                  <a:pt x="4589" y="16446"/>
                </a:moveTo>
                <a:cubicBezTo>
                  <a:pt x="4885" y="16362"/>
                  <a:pt x="5199" y="16253"/>
                  <a:pt x="5507" y="16297"/>
                </a:cubicBezTo>
                <a:cubicBezTo>
                  <a:pt x="5532" y="16305"/>
                  <a:pt x="5556" y="16313"/>
                  <a:pt x="5581" y="16321"/>
                </a:cubicBezTo>
              </a:path>
              <a:path w="6847" h="1960">
                <a:moveTo>
                  <a:pt x="4961" y="16743"/>
                </a:moveTo>
                <a:cubicBezTo>
                  <a:pt x="5016" y="16718"/>
                  <a:pt x="5329" y="16581"/>
                  <a:pt x="5308" y="16768"/>
                </a:cubicBezTo>
                <a:cubicBezTo>
                  <a:pt x="5234" y="16892"/>
                  <a:pt x="5209" y="16933"/>
                  <a:pt x="5110" y="16966"/>
                </a:cubicBezTo>
                <a:cubicBezTo>
                  <a:pt x="5093" y="16974"/>
                  <a:pt x="5077" y="16983"/>
                  <a:pt x="5060" y="16991"/>
                </a:cubicBezTo>
                <a:cubicBezTo>
                  <a:pt x="5190" y="16951"/>
                  <a:pt x="5607" y="16926"/>
                  <a:pt x="5283" y="17165"/>
                </a:cubicBezTo>
                <a:cubicBezTo>
                  <a:pt x="5165" y="17252"/>
                  <a:pt x="5037" y="17260"/>
                  <a:pt x="4911" y="17239"/>
                </a:cubicBezTo>
              </a:path>
              <a:path w="6847" h="1960">
                <a:moveTo>
                  <a:pt x="6052" y="16297"/>
                </a:moveTo>
                <a:cubicBezTo>
                  <a:pt x="6014" y="16395"/>
                  <a:pt x="6120" y="16548"/>
                  <a:pt x="6176" y="16644"/>
                </a:cubicBezTo>
                <a:cubicBezTo>
                  <a:pt x="6208" y="16698"/>
                  <a:pt x="6219" y="16726"/>
                  <a:pt x="6251" y="16768"/>
                </a:cubicBezTo>
              </a:path>
              <a:path w="6847" h="1960">
                <a:moveTo>
                  <a:pt x="6350" y="16421"/>
                </a:moveTo>
                <a:cubicBezTo>
                  <a:pt x="6244" y="16503"/>
                  <a:pt x="6116" y="16611"/>
                  <a:pt x="6028" y="16718"/>
                </a:cubicBezTo>
                <a:cubicBezTo>
                  <a:pt x="6020" y="16735"/>
                  <a:pt x="6011" y="16751"/>
                  <a:pt x="6003" y="16768"/>
                </a:cubicBezTo>
              </a:path>
              <a:path w="6847" h="1960">
                <a:moveTo>
                  <a:pt x="7020" y="15677"/>
                </a:moveTo>
                <a:cubicBezTo>
                  <a:pt x="6974" y="15823"/>
                  <a:pt x="6710" y="16243"/>
                  <a:pt x="6995" y="16173"/>
                </a:cubicBezTo>
                <a:cubicBezTo>
                  <a:pt x="7113" y="16102"/>
                  <a:pt x="7150" y="16082"/>
                  <a:pt x="7193" y="15999"/>
                </a:cubicBezTo>
                <a:cubicBezTo>
                  <a:pt x="7033" y="16058"/>
                  <a:pt x="7013" y="16074"/>
                  <a:pt x="6921" y="16222"/>
                </a:cubicBezTo>
              </a:path>
              <a:path w="6847" h="1960">
                <a:moveTo>
                  <a:pt x="7491" y="15825"/>
                </a:moveTo>
                <a:cubicBezTo>
                  <a:pt x="7311" y="16067"/>
                  <a:pt x="7483" y="15943"/>
                  <a:pt x="7491" y="16173"/>
                </a:cubicBezTo>
                <a:cubicBezTo>
                  <a:pt x="7495" y="16306"/>
                  <a:pt x="7366" y="16261"/>
                  <a:pt x="7293" y="16247"/>
                </a:cubicBezTo>
                <a:cubicBezTo>
                  <a:pt x="7362" y="16085"/>
                  <a:pt x="7454" y="15973"/>
                  <a:pt x="7565" y="15825"/>
                </a:cubicBezTo>
              </a:path>
              <a:path w="6847" h="1960">
                <a:moveTo>
                  <a:pt x="6722" y="16371"/>
                </a:moveTo>
                <a:cubicBezTo>
                  <a:pt x="7038" y="16334"/>
                  <a:pt x="7346" y="16321"/>
                  <a:pt x="7665" y="16321"/>
                </a:cubicBezTo>
              </a:path>
              <a:path w="6847" h="1960">
                <a:moveTo>
                  <a:pt x="6921" y="16694"/>
                </a:moveTo>
                <a:cubicBezTo>
                  <a:pt x="7065" y="16644"/>
                  <a:pt x="7191" y="16609"/>
                  <a:pt x="7342" y="16594"/>
                </a:cubicBezTo>
                <a:cubicBezTo>
                  <a:pt x="7383" y="16758"/>
                  <a:pt x="7259" y="16953"/>
                  <a:pt x="7193" y="17115"/>
                </a:cubicBezTo>
                <a:cubicBezTo>
                  <a:pt x="7177" y="17156"/>
                  <a:pt x="7160" y="17198"/>
                  <a:pt x="7144" y="17239"/>
                </a:cubicBezTo>
              </a:path>
              <a:path w="6847" h="1960">
                <a:moveTo>
                  <a:pt x="7962" y="16718"/>
                </a:moveTo>
                <a:cubicBezTo>
                  <a:pt x="7992" y="16644"/>
                  <a:pt x="8099" y="16590"/>
                  <a:pt x="8186" y="16594"/>
                </a:cubicBezTo>
                <a:cubicBezTo>
                  <a:pt x="8202" y="16602"/>
                  <a:pt x="8219" y="16611"/>
                  <a:pt x="8235" y="16619"/>
                </a:cubicBezTo>
              </a:path>
              <a:path w="6847" h="1960">
                <a:moveTo>
                  <a:pt x="8037" y="16966"/>
                </a:moveTo>
                <a:cubicBezTo>
                  <a:pt x="8141" y="16909"/>
                  <a:pt x="8176" y="16879"/>
                  <a:pt x="8285" y="16867"/>
                </a:cubicBezTo>
              </a:path>
              <a:path w="6847" h="1960">
                <a:moveTo>
                  <a:pt x="9054" y="16768"/>
                </a:moveTo>
                <a:cubicBezTo>
                  <a:pt x="9169" y="16710"/>
                  <a:pt x="9244" y="16718"/>
                  <a:pt x="9376" y="16718"/>
                </a:cubicBezTo>
                <a:cubicBezTo>
                  <a:pt x="9676" y="16718"/>
                  <a:pt x="9972" y="16725"/>
                  <a:pt x="10269" y="16743"/>
                </a:cubicBezTo>
                <a:cubicBezTo>
                  <a:pt x="10424" y="16753"/>
                  <a:pt x="10583" y="16784"/>
                  <a:pt x="10740" y="16768"/>
                </a:cubicBezTo>
                <a:cubicBezTo>
                  <a:pt x="10934" y="16748"/>
                  <a:pt x="11146" y="16754"/>
                  <a:pt x="11336" y="16718"/>
                </a:cubicBezTo>
                <a:cubicBezTo>
                  <a:pt x="11384" y="16695"/>
                  <a:pt x="11398" y="16687"/>
                  <a:pt x="11435" y="16694"/>
                </a:cubicBezTo>
              </a:path>
              <a:path w="6847" h="1960">
                <a:moveTo>
                  <a:pt x="9947" y="17090"/>
                </a:moveTo>
                <a:cubicBezTo>
                  <a:pt x="9926" y="17236"/>
                  <a:pt x="9920" y="17099"/>
                  <a:pt x="10021" y="17066"/>
                </a:cubicBezTo>
                <a:cubicBezTo>
                  <a:pt x="10054" y="17066"/>
                  <a:pt x="10087" y="17066"/>
                  <a:pt x="10120" y="17066"/>
                </a:cubicBezTo>
                <a:cubicBezTo>
                  <a:pt x="10239" y="17267"/>
                  <a:pt x="10158" y="17438"/>
                  <a:pt x="9922" y="17537"/>
                </a:cubicBezTo>
                <a:cubicBezTo>
                  <a:pt x="9816" y="17537"/>
                  <a:pt x="9787" y="17550"/>
                  <a:pt x="9748" y="17487"/>
                </a:cubicBezTo>
                <a:cubicBezTo>
                  <a:pt x="9802" y="17353"/>
                  <a:pt x="9933" y="17367"/>
                  <a:pt x="10071" y="17462"/>
                </a:cubicBezTo>
                <a:cubicBezTo>
                  <a:pt x="10144" y="17512"/>
                  <a:pt x="10177" y="17563"/>
                  <a:pt x="10195" y="17636"/>
                </a:cubicBezTo>
              </a:path>
              <a:path w="6847" h="1960">
                <a:moveTo>
                  <a:pt x="10542" y="17090"/>
                </a:moveTo>
                <a:cubicBezTo>
                  <a:pt x="10492" y="17291"/>
                  <a:pt x="10478" y="17433"/>
                  <a:pt x="10492" y="17636"/>
                </a:cubicBezTo>
              </a:path>
              <a:path w="6847" h="1960">
                <a:moveTo>
                  <a:pt x="9302" y="15974"/>
                </a:moveTo>
                <a:cubicBezTo>
                  <a:pt x="9341" y="16208"/>
                  <a:pt x="9351" y="16431"/>
                  <a:pt x="9351" y="16669"/>
                </a:cubicBezTo>
              </a:path>
              <a:path w="6847" h="1960">
                <a:moveTo>
                  <a:pt x="9599" y="15999"/>
                </a:moveTo>
                <a:cubicBezTo>
                  <a:pt x="9608" y="16215"/>
                  <a:pt x="9624" y="16427"/>
                  <a:pt x="9624" y="16644"/>
                </a:cubicBezTo>
              </a:path>
              <a:path w="6847" h="1960">
                <a:moveTo>
                  <a:pt x="10120" y="15949"/>
                </a:moveTo>
                <a:cubicBezTo>
                  <a:pt x="10062" y="16020"/>
                  <a:pt x="9926" y="16050"/>
                  <a:pt x="9897" y="16098"/>
                </a:cubicBezTo>
                <a:cubicBezTo>
                  <a:pt x="9870" y="16179"/>
                  <a:pt x="9862" y="16211"/>
                  <a:pt x="9872" y="16272"/>
                </a:cubicBezTo>
                <a:cubicBezTo>
                  <a:pt x="9994" y="16225"/>
                  <a:pt x="10195" y="16135"/>
                  <a:pt x="10244" y="16346"/>
                </a:cubicBezTo>
                <a:cubicBezTo>
                  <a:pt x="10304" y="16601"/>
                  <a:pt x="10009" y="16568"/>
                  <a:pt x="9872" y="16545"/>
                </a:cubicBezTo>
              </a:path>
              <a:path w="6847" h="1960">
                <a:moveTo>
                  <a:pt x="10468" y="15974"/>
                </a:moveTo>
                <a:cubicBezTo>
                  <a:pt x="10468" y="16120"/>
                  <a:pt x="10469" y="16279"/>
                  <a:pt x="10492" y="16421"/>
                </a:cubicBezTo>
                <a:cubicBezTo>
                  <a:pt x="10517" y="16576"/>
                  <a:pt x="10675" y="16562"/>
                  <a:pt x="10790" y="16520"/>
                </a:cubicBezTo>
                <a:cubicBezTo>
                  <a:pt x="10917" y="16474"/>
                  <a:pt x="10977" y="16373"/>
                  <a:pt x="10988" y="16247"/>
                </a:cubicBezTo>
                <a:cubicBezTo>
                  <a:pt x="10988" y="16230"/>
                  <a:pt x="10988" y="16214"/>
                  <a:pt x="10988" y="16197"/>
                </a:cubicBezTo>
                <a:cubicBezTo>
                  <a:pt x="10815" y="16169"/>
                  <a:pt x="10735" y="16238"/>
                  <a:pt x="10691" y="16421"/>
                </a:cubicBezTo>
                <a:cubicBezTo>
                  <a:pt x="10691" y="16521"/>
                  <a:pt x="10691" y="16555"/>
                  <a:pt x="10716" y="1661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70280" y="5537160"/>
            <a:ext cx="1357560" cy="1312920"/>
          </a:xfrm>
          <a:custGeom>
            <a:avLst/>
            <a:gdLst/>
            <a:ahLst/>
            <a:rect l="l" t="t" r="r" b="b"/>
            <a:pathLst>
              <a:path w="3771" h="3647">
                <a:moveTo>
                  <a:pt x="14536" y="16396"/>
                </a:moveTo>
                <a:cubicBezTo>
                  <a:pt x="14536" y="16374"/>
                  <a:pt x="14514" y="16844"/>
                  <a:pt x="14511" y="16917"/>
                </a:cubicBezTo>
                <a:cubicBezTo>
                  <a:pt x="14509" y="16965"/>
                  <a:pt x="14455" y="17151"/>
                  <a:pt x="14511" y="17041"/>
                </a:cubicBezTo>
              </a:path>
              <a:path w="3771" h="3647">
                <a:moveTo>
                  <a:pt x="14908" y="16297"/>
                </a:moveTo>
                <a:cubicBezTo>
                  <a:pt x="14938" y="16536"/>
                  <a:pt x="14974" y="16775"/>
                  <a:pt x="14982" y="17016"/>
                </a:cubicBezTo>
                <a:cubicBezTo>
                  <a:pt x="14982" y="17033"/>
                  <a:pt x="14982" y="17049"/>
                  <a:pt x="14982" y="17066"/>
                </a:cubicBezTo>
              </a:path>
              <a:path w="3771" h="3647">
                <a:moveTo>
                  <a:pt x="15478" y="16272"/>
                </a:moveTo>
                <a:cubicBezTo>
                  <a:pt x="15417" y="16296"/>
                  <a:pt x="15234" y="16334"/>
                  <a:pt x="15205" y="16396"/>
                </a:cubicBezTo>
                <a:cubicBezTo>
                  <a:pt x="15165" y="16482"/>
                  <a:pt x="15179" y="16581"/>
                  <a:pt x="15156" y="16669"/>
                </a:cubicBezTo>
                <a:cubicBezTo>
                  <a:pt x="15290" y="16618"/>
                  <a:pt x="15442" y="16458"/>
                  <a:pt x="15577" y="16619"/>
                </a:cubicBezTo>
                <a:cubicBezTo>
                  <a:pt x="15745" y="16819"/>
                  <a:pt x="15434" y="17122"/>
                  <a:pt x="15230" y="16991"/>
                </a:cubicBezTo>
                <a:cubicBezTo>
                  <a:pt x="15205" y="16950"/>
                  <a:pt x="15181" y="16908"/>
                  <a:pt x="15156" y="16867"/>
                </a:cubicBezTo>
              </a:path>
              <a:path w="3771" h="3647">
                <a:moveTo>
                  <a:pt x="15801" y="16247"/>
                </a:moveTo>
                <a:cubicBezTo>
                  <a:pt x="15811" y="16434"/>
                  <a:pt x="15807" y="16672"/>
                  <a:pt x="15900" y="16842"/>
                </a:cubicBezTo>
                <a:cubicBezTo>
                  <a:pt x="16054" y="17122"/>
                  <a:pt x="16259" y="16727"/>
                  <a:pt x="16321" y="16619"/>
                </a:cubicBezTo>
                <a:cubicBezTo>
                  <a:pt x="16190" y="16351"/>
                  <a:pt x="16057" y="16909"/>
                  <a:pt x="16049" y="16966"/>
                </a:cubicBezTo>
              </a:path>
              <a:path w="3771" h="3647">
                <a:moveTo>
                  <a:pt x="14114" y="17289"/>
                </a:moveTo>
                <a:cubicBezTo>
                  <a:pt x="14163" y="16959"/>
                  <a:pt x="14173" y="16684"/>
                  <a:pt x="14139" y="16346"/>
                </a:cubicBezTo>
                <a:cubicBezTo>
                  <a:pt x="14118" y="16155"/>
                  <a:pt x="14116" y="16113"/>
                  <a:pt x="14089" y="15999"/>
                </a:cubicBezTo>
                <a:cubicBezTo>
                  <a:pt x="14297" y="16065"/>
                  <a:pt x="14481" y="16091"/>
                  <a:pt x="14709" y="16098"/>
                </a:cubicBezTo>
                <a:cubicBezTo>
                  <a:pt x="15272" y="16116"/>
                  <a:pt x="15834" y="16078"/>
                  <a:pt x="16396" y="16073"/>
                </a:cubicBezTo>
                <a:cubicBezTo>
                  <a:pt x="16601" y="16071"/>
                  <a:pt x="16598" y="16078"/>
                  <a:pt x="16743" y="16098"/>
                </a:cubicBezTo>
              </a:path>
              <a:path w="3771" h="3647">
                <a:moveTo>
                  <a:pt x="13196" y="16520"/>
                </a:moveTo>
                <a:cubicBezTo>
                  <a:pt x="13196" y="16457"/>
                  <a:pt x="13203" y="16429"/>
                  <a:pt x="13246" y="16396"/>
                </a:cubicBezTo>
                <a:cubicBezTo>
                  <a:pt x="13429" y="16540"/>
                  <a:pt x="13464" y="16846"/>
                  <a:pt x="13271" y="17066"/>
                </a:cubicBezTo>
                <a:cubicBezTo>
                  <a:pt x="13221" y="17091"/>
                  <a:pt x="13172" y="17115"/>
                  <a:pt x="13122" y="17140"/>
                </a:cubicBezTo>
                <a:cubicBezTo>
                  <a:pt x="13011" y="17057"/>
                  <a:pt x="12846" y="16743"/>
                  <a:pt x="13171" y="16793"/>
                </a:cubicBezTo>
                <a:cubicBezTo>
                  <a:pt x="13322" y="16816"/>
                  <a:pt x="13401" y="16986"/>
                  <a:pt x="13419" y="17115"/>
                </a:cubicBezTo>
              </a:path>
              <a:path w="3771" h="3647">
                <a:moveTo>
                  <a:pt x="13593" y="16495"/>
                </a:moveTo>
                <a:cubicBezTo>
                  <a:pt x="13659" y="16713"/>
                  <a:pt x="13692" y="16886"/>
                  <a:pt x="13692" y="17115"/>
                </a:cubicBezTo>
              </a:path>
              <a:path w="3771" h="3647">
                <a:moveTo>
                  <a:pt x="15429" y="15429"/>
                </a:moveTo>
                <a:cubicBezTo>
                  <a:pt x="15271" y="15429"/>
                  <a:pt x="15225" y="15394"/>
                  <a:pt x="15205" y="15577"/>
                </a:cubicBezTo>
                <a:cubicBezTo>
                  <a:pt x="15205" y="15610"/>
                  <a:pt x="15205" y="15644"/>
                  <a:pt x="15205" y="15677"/>
                </a:cubicBezTo>
                <a:cubicBezTo>
                  <a:pt x="15270" y="15639"/>
                  <a:pt x="15541" y="15519"/>
                  <a:pt x="15528" y="15726"/>
                </a:cubicBezTo>
                <a:cubicBezTo>
                  <a:pt x="15518" y="15882"/>
                  <a:pt x="15339" y="15855"/>
                  <a:pt x="15255" y="15850"/>
                </a:cubicBezTo>
              </a:path>
              <a:path w="3771" h="3647">
                <a:moveTo>
                  <a:pt x="14511" y="17264"/>
                </a:moveTo>
                <a:cubicBezTo>
                  <a:pt x="14465" y="17368"/>
                  <a:pt x="14452" y="17498"/>
                  <a:pt x="14412" y="17611"/>
                </a:cubicBezTo>
              </a:path>
              <a:path w="3771" h="3647">
                <a:moveTo>
                  <a:pt x="14883" y="17264"/>
                </a:moveTo>
                <a:cubicBezTo>
                  <a:pt x="14903" y="17331"/>
                  <a:pt x="14891" y="17489"/>
                  <a:pt x="14957" y="17537"/>
                </a:cubicBezTo>
                <a:cubicBezTo>
                  <a:pt x="15066" y="17617"/>
                  <a:pt x="15139" y="17463"/>
                  <a:pt x="15056" y="17388"/>
                </a:cubicBezTo>
                <a:cubicBezTo>
                  <a:pt x="15021" y="17388"/>
                  <a:pt x="15004" y="17383"/>
                  <a:pt x="14982" y="17363"/>
                </a:cubicBezTo>
              </a:path>
              <a:path w="3771" h="3647">
                <a:moveTo>
                  <a:pt x="15354" y="17214"/>
                </a:moveTo>
                <a:cubicBezTo>
                  <a:pt x="15299" y="17270"/>
                  <a:pt x="15301" y="17295"/>
                  <a:pt x="15255" y="17289"/>
                </a:cubicBezTo>
                <a:cubicBezTo>
                  <a:pt x="15320" y="17354"/>
                  <a:pt x="15439" y="17393"/>
                  <a:pt x="15379" y="17512"/>
                </a:cubicBezTo>
                <a:cubicBezTo>
                  <a:pt x="15354" y="17529"/>
                  <a:pt x="15329" y="17545"/>
                  <a:pt x="15304" y="17562"/>
                </a:cubicBezTo>
              </a:path>
              <a:path w="3771" h="3647">
                <a:moveTo>
                  <a:pt x="15329" y="17239"/>
                </a:moveTo>
                <a:cubicBezTo>
                  <a:pt x="15370" y="17223"/>
                  <a:pt x="15412" y="17206"/>
                  <a:pt x="15453" y="17190"/>
                </a:cubicBezTo>
              </a:path>
              <a:path w="3771" h="3647">
                <a:moveTo>
                  <a:pt x="13965" y="17735"/>
                </a:moveTo>
                <a:cubicBezTo>
                  <a:pt x="14324" y="17690"/>
                  <a:pt x="14693" y="17687"/>
                  <a:pt x="15056" y="17661"/>
                </a:cubicBezTo>
                <a:cubicBezTo>
                  <a:pt x="15274" y="17646"/>
                  <a:pt x="15483" y="17636"/>
                  <a:pt x="15701" y="17636"/>
                </a:cubicBezTo>
              </a:path>
              <a:path w="3771" h="3647">
                <a:moveTo>
                  <a:pt x="13866" y="17413"/>
                </a:moveTo>
                <a:cubicBezTo>
                  <a:pt x="13916" y="17413"/>
                  <a:pt x="13965" y="17413"/>
                  <a:pt x="14015" y="17413"/>
                </a:cubicBezTo>
              </a:path>
              <a:path w="3771" h="3647">
                <a:moveTo>
                  <a:pt x="14908" y="17760"/>
                </a:moveTo>
                <a:cubicBezTo>
                  <a:pt x="14868" y="17884"/>
                  <a:pt x="14830" y="18011"/>
                  <a:pt x="14784" y="18132"/>
                </a:cubicBezTo>
              </a:path>
              <a:path w="3771" h="3647">
                <a:moveTo>
                  <a:pt x="15156" y="17810"/>
                </a:moveTo>
                <a:cubicBezTo>
                  <a:pt x="15136" y="17944"/>
                  <a:pt x="15132" y="18025"/>
                  <a:pt x="15156" y="18157"/>
                </a:cubicBezTo>
                <a:cubicBezTo>
                  <a:pt x="15215" y="18139"/>
                  <a:pt x="15486" y="18016"/>
                  <a:pt x="15379" y="17909"/>
                </a:cubicBezTo>
                <a:cubicBezTo>
                  <a:pt x="15306" y="17885"/>
                  <a:pt x="15282" y="17876"/>
                  <a:pt x="15230" y="17884"/>
                </a:cubicBezTo>
              </a:path>
              <a:path w="3771" h="3647">
                <a:moveTo>
                  <a:pt x="15850" y="17140"/>
                </a:moveTo>
                <a:cubicBezTo>
                  <a:pt x="15794" y="17028"/>
                  <a:pt x="15850" y="17394"/>
                  <a:pt x="15850" y="17462"/>
                </a:cubicBezTo>
              </a:path>
              <a:path w="3771" h="3647">
                <a:moveTo>
                  <a:pt x="15701" y="17487"/>
                </a:moveTo>
                <a:cubicBezTo>
                  <a:pt x="15722" y="17571"/>
                  <a:pt x="15723" y="17591"/>
                  <a:pt x="15751" y="17636"/>
                </a:cubicBezTo>
                <a:cubicBezTo>
                  <a:pt x="15847" y="17560"/>
                  <a:pt x="15915" y="17495"/>
                  <a:pt x="16024" y="17462"/>
                </a:cubicBezTo>
              </a:path>
              <a:path w="3771" h="3647">
                <a:moveTo>
                  <a:pt x="15602" y="17909"/>
                </a:moveTo>
                <a:cubicBezTo>
                  <a:pt x="15570" y="17973"/>
                  <a:pt x="15565" y="17974"/>
                  <a:pt x="15602" y="17859"/>
                </a:cubicBezTo>
                <a:cubicBezTo>
                  <a:pt x="15591" y="17984"/>
                  <a:pt x="15562" y="18106"/>
                  <a:pt x="15553" y="18231"/>
                </a:cubicBezTo>
                <a:cubicBezTo>
                  <a:pt x="15702" y="18241"/>
                  <a:pt x="15817" y="18210"/>
                  <a:pt x="15925" y="18083"/>
                </a:cubicBezTo>
                <a:cubicBezTo>
                  <a:pt x="15933" y="18066"/>
                  <a:pt x="15941" y="18050"/>
                  <a:pt x="15949" y="18033"/>
                </a:cubicBezTo>
                <a:cubicBezTo>
                  <a:pt x="15844" y="18052"/>
                  <a:pt x="15813" y="18070"/>
                  <a:pt x="15776" y="18182"/>
                </a:cubicBezTo>
              </a:path>
              <a:path w="3771" h="3647">
                <a:moveTo>
                  <a:pt x="16222" y="15379"/>
                </a:moveTo>
                <a:cubicBezTo>
                  <a:pt x="16173" y="15396"/>
                  <a:pt x="16007" y="15423"/>
                  <a:pt x="15974" y="15453"/>
                </a:cubicBezTo>
                <a:cubicBezTo>
                  <a:pt x="15921" y="15534"/>
                  <a:pt x="15902" y="15565"/>
                  <a:pt x="15875" y="15627"/>
                </a:cubicBezTo>
                <a:cubicBezTo>
                  <a:pt x="16018" y="15556"/>
                  <a:pt x="16243" y="15441"/>
                  <a:pt x="16197" y="15726"/>
                </a:cubicBezTo>
                <a:cubicBezTo>
                  <a:pt x="16165" y="15928"/>
                  <a:pt x="16049" y="15900"/>
                  <a:pt x="15900" y="15900"/>
                </a:cubicBezTo>
              </a:path>
              <a:path w="3771" h="3647">
                <a:moveTo>
                  <a:pt x="14982" y="18157"/>
                </a:moveTo>
                <a:cubicBezTo>
                  <a:pt x="14939" y="18261"/>
                  <a:pt x="14907" y="18356"/>
                  <a:pt x="14858" y="18455"/>
                </a:cubicBezTo>
              </a:path>
              <a:path w="3771" h="3647">
                <a:moveTo>
                  <a:pt x="15106" y="18430"/>
                </a:moveTo>
                <a:cubicBezTo>
                  <a:pt x="15114" y="18455"/>
                  <a:pt x="15123" y="18479"/>
                  <a:pt x="15131" y="18504"/>
                </a:cubicBezTo>
                <a:cubicBezTo>
                  <a:pt x="15206" y="18482"/>
                  <a:pt x="15396" y="18358"/>
                  <a:pt x="15255" y="18256"/>
                </a:cubicBezTo>
                <a:cubicBezTo>
                  <a:pt x="15193" y="18256"/>
                  <a:pt x="15178" y="18246"/>
                  <a:pt x="15156" y="18281"/>
                </a:cubicBezTo>
              </a:path>
              <a:path w="3771" h="3647">
                <a:moveTo>
                  <a:pt x="15503" y="18306"/>
                </a:moveTo>
                <a:cubicBezTo>
                  <a:pt x="15460" y="18412"/>
                  <a:pt x="15589" y="18377"/>
                  <a:pt x="15677" y="18405"/>
                </a:cubicBezTo>
                <a:cubicBezTo>
                  <a:pt x="15811" y="18448"/>
                  <a:pt x="15668" y="18538"/>
                  <a:pt x="15627" y="18579"/>
                </a:cubicBezTo>
              </a:path>
              <a:path w="3771" h="3647">
                <a:moveTo>
                  <a:pt x="15602" y="18256"/>
                </a:moveTo>
                <a:cubicBezTo>
                  <a:pt x="15718" y="18256"/>
                  <a:pt x="15751" y="18256"/>
                  <a:pt x="15825" y="18256"/>
                </a:cubicBezTo>
              </a:path>
              <a:path w="3771" h="3647">
                <a:moveTo>
                  <a:pt x="14536" y="18529"/>
                </a:moveTo>
                <a:cubicBezTo>
                  <a:pt x="14906" y="18560"/>
                  <a:pt x="15288" y="18481"/>
                  <a:pt x="15652" y="18529"/>
                </a:cubicBezTo>
                <a:cubicBezTo>
                  <a:pt x="15685" y="18546"/>
                  <a:pt x="15718" y="18562"/>
                  <a:pt x="15751" y="18579"/>
                </a:cubicBezTo>
              </a:path>
              <a:path w="3771" h="3647">
                <a:moveTo>
                  <a:pt x="15553" y="18777"/>
                </a:moveTo>
                <a:cubicBezTo>
                  <a:pt x="15561" y="18761"/>
                  <a:pt x="15569" y="18744"/>
                  <a:pt x="15577" y="18728"/>
                </a:cubicBezTo>
                <a:cubicBezTo>
                  <a:pt x="15577" y="18842"/>
                  <a:pt x="15555" y="18916"/>
                  <a:pt x="15528" y="1902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72160" y="5518080"/>
            <a:ext cx="1197000" cy="465120"/>
          </a:xfrm>
          <a:custGeom>
            <a:avLst/>
            <a:gdLst/>
            <a:ahLst/>
            <a:rect l="l" t="t" r="r" b="b"/>
            <a:pathLst>
              <a:path w="3325" h="1291">
                <a:moveTo>
                  <a:pt x="18281" y="16247"/>
                </a:moveTo>
                <a:cubicBezTo>
                  <a:pt x="18379" y="16222"/>
                  <a:pt x="18411" y="16214"/>
                  <a:pt x="18479" y="16222"/>
                </a:cubicBezTo>
              </a:path>
              <a:path w="3325" h="1291">
                <a:moveTo>
                  <a:pt x="18256" y="16619"/>
                </a:moveTo>
                <a:cubicBezTo>
                  <a:pt x="18388" y="16576"/>
                  <a:pt x="18420" y="16564"/>
                  <a:pt x="18504" y="16545"/>
                </a:cubicBezTo>
              </a:path>
              <a:path w="3325" h="1291">
                <a:moveTo>
                  <a:pt x="19571" y="15751"/>
                </a:moveTo>
                <a:cubicBezTo>
                  <a:pt x="19483" y="15766"/>
                  <a:pt x="19221" y="15758"/>
                  <a:pt x="19199" y="15825"/>
                </a:cubicBezTo>
                <a:cubicBezTo>
                  <a:pt x="19171" y="15909"/>
                  <a:pt x="19158" y="16010"/>
                  <a:pt x="19149" y="16098"/>
                </a:cubicBezTo>
                <a:cubicBezTo>
                  <a:pt x="19249" y="15960"/>
                  <a:pt x="19476" y="15925"/>
                  <a:pt x="19621" y="16049"/>
                </a:cubicBezTo>
                <a:cubicBezTo>
                  <a:pt x="19842" y="16238"/>
                  <a:pt x="19581" y="16575"/>
                  <a:pt x="19348" y="16545"/>
                </a:cubicBezTo>
                <a:cubicBezTo>
                  <a:pt x="19207" y="16474"/>
                  <a:pt x="19164" y="16455"/>
                  <a:pt x="19100" y="16371"/>
                </a:cubicBezTo>
              </a:path>
              <a:path w="3325" h="1291">
                <a:moveTo>
                  <a:pt x="20290" y="15627"/>
                </a:moveTo>
                <a:cubicBezTo>
                  <a:pt x="20219" y="15671"/>
                  <a:pt x="19971" y="15674"/>
                  <a:pt x="19968" y="15677"/>
                </a:cubicBezTo>
                <a:cubicBezTo>
                  <a:pt x="19916" y="15718"/>
                  <a:pt x="19918" y="15860"/>
                  <a:pt x="19918" y="15925"/>
                </a:cubicBezTo>
                <a:cubicBezTo>
                  <a:pt x="20087" y="15911"/>
                  <a:pt x="20330" y="15843"/>
                  <a:pt x="20389" y="16073"/>
                </a:cubicBezTo>
                <a:cubicBezTo>
                  <a:pt x="20447" y="16296"/>
                  <a:pt x="20081" y="16522"/>
                  <a:pt x="19918" y="16346"/>
                </a:cubicBezTo>
                <a:cubicBezTo>
                  <a:pt x="19893" y="16288"/>
                  <a:pt x="19869" y="16231"/>
                  <a:pt x="19844" y="16173"/>
                </a:cubicBezTo>
              </a:path>
              <a:path w="3325" h="1291">
                <a:moveTo>
                  <a:pt x="20960" y="15329"/>
                </a:moveTo>
                <a:cubicBezTo>
                  <a:pt x="20984" y="15478"/>
                  <a:pt x="21008" y="15627"/>
                  <a:pt x="21034" y="15776"/>
                </a:cubicBezTo>
              </a:path>
              <a:path w="3325" h="1291">
                <a:moveTo>
                  <a:pt x="20762" y="15776"/>
                </a:moveTo>
                <a:cubicBezTo>
                  <a:pt x="20943" y="15724"/>
                  <a:pt x="21009" y="15705"/>
                  <a:pt x="21134" y="15677"/>
                </a:cubicBezTo>
              </a:path>
              <a:path w="3325" h="1291">
                <a:moveTo>
                  <a:pt x="20836" y="16024"/>
                </a:moveTo>
                <a:cubicBezTo>
                  <a:pt x="20946" y="15958"/>
                  <a:pt x="21154" y="15943"/>
                  <a:pt x="21158" y="16148"/>
                </a:cubicBezTo>
                <a:cubicBezTo>
                  <a:pt x="21164" y="16459"/>
                  <a:pt x="20947" y="16540"/>
                  <a:pt x="20712" y="16495"/>
                </a:cubicBezTo>
                <a:cubicBezTo>
                  <a:pt x="20723" y="16387"/>
                  <a:pt x="20743" y="16143"/>
                  <a:pt x="20910" y="16297"/>
                </a:cubicBezTo>
                <a:cubicBezTo>
                  <a:pt x="20971" y="16378"/>
                  <a:pt x="20976" y="16400"/>
                  <a:pt x="21034" y="16421"/>
                </a:cubicBezTo>
              </a:path>
              <a:path w="3325" h="1291">
                <a:moveTo>
                  <a:pt x="21307" y="15999"/>
                </a:moveTo>
                <a:cubicBezTo>
                  <a:pt x="21345" y="16157"/>
                  <a:pt x="21375" y="16311"/>
                  <a:pt x="21406" y="16470"/>
                </a:cubicBezTo>
              </a:path>
              <a:path w="3325" h="1291">
                <a:moveTo>
                  <a:pt x="20985" y="15701"/>
                </a:moveTo>
                <a:cubicBezTo>
                  <a:pt x="21117" y="15716"/>
                  <a:pt x="21220" y="15736"/>
                  <a:pt x="21357" y="15701"/>
                </a:cubicBezTo>
                <a:cubicBezTo>
                  <a:pt x="21480" y="15661"/>
                  <a:pt x="21502" y="15644"/>
                  <a:pt x="21580" y="1565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81120" y="4562640"/>
            <a:ext cx="88920" cy="15228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4589" y="12675"/>
                </a:moveTo>
                <a:cubicBezTo>
                  <a:pt x="4552" y="12787"/>
                  <a:pt x="4539" y="12836"/>
                  <a:pt x="4539" y="12948"/>
                </a:cubicBezTo>
              </a:path>
              <a:path w="249" h="423">
                <a:moveTo>
                  <a:pt x="4390" y="12874"/>
                </a:moveTo>
                <a:cubicBezTo>
                  <a:pt x="4466" y="12881"/>
                  <a:pt x="4538" y="12892"/>
                  <a:pt x="4614" y="12898"/>
                </a:cubicBezTo>
              </a:path>
              <a:path w="249" h="423">
                <a:moveTo>
                  <a:pt x="4514" y="12948"/>
                </a:moveTo>
                <a:cubicBezTo>
                  <a:pt x="4462" y="13036"/>
                  <a:pt x="4465" y="13010"/>
                  <a:pt x="4465" y="13097"/>
                </a:cubicBezTo>
              </a:path>
              <a:path w="249" h="423">
                <a:moveTo>
                  <a:pt x="4440" y="12898"/>
                </a:moveTo>
                <a:cubicBezTo>
                  <a:pt x="4514" y="12898"/>
                  <a:pt x="4579" y="12887"/>
                  <a:pt x="4638" y="1292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4884840"/>
            <a:ext cx="1159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9996" y="13568"/>
                </a:moveTo>
                <a:cubicBezTo>
                  <a:pt x="9985" y="13634"/>
                  <a:pt x="9850" y="13906"/>
                  <a:pt x="9872" y="13940"/>
                </a:cubicBezTo>
                <a:cubicBezTo>
                  <a:pt x="10007" y="13967"/>
                  <a:pt x="10056" y="13969"/>
                  <a:pt x="10120" y="13866"/>
                </a:cubicBezTo>
                <a:cubicBezTo>
                  <a:pt x="10324" y="13730"/>
                  <a:pt x="10058" y="13982"/>
                  <a:pt x="10021" y="1403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2120" y="4884840"/>
            <a:ext cx="73080" cy="142920"/>
          </a:xfrm>
          <a:custGeom>
            <a:avLst/>
            <a:gdLst/>
            <a:ahLst/>
            <a:rect l="l" t="t" r="r" b="b"/>
            <a:pathLst>
              <a:path w="200" h="398">
                <a:moveTo>
                  <a:pt x="10368" y="13593"/>
                </a:moveTo>
                <a:cubicBezTo>
                  <a:pt x="10494" y="13577"/>
                  <a:pt x="10666" y="13565"/>
                  <a:pt x="10492" y="13717"/>
                </a:cubicBezTo>
                <a:cubicBezTo>
                  <a:pt x="10467" y="13734"/>
                  <a:pt x="10443" y="13750"/>
                  <a:pt x="10418" y="13767"/>
                </a:cubicBezTo>
                <a:cubicBezTo>
                  <a:pt x="10679" y="13688"/>
                  <a:pt x="10520" y="13857"/>
                  <a:pt x="10418" y="1396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106960"/>
            <a:ext cx="1440" cy="108000"/>
          </a:xfrm>
          <a:custGeom>
            <a:avLst/>
            <a:gdLst/>
            <a:ahLst/>
            <a:rect l="l" t="t" r="r" b="b"/>
            <a:pathLst>
              <a:path w="1" h="299">
                <a:moveTo>
                  <a:pt x="9525" y="14188"/>
                </a:moveTo>
                <a:cubicBezTo>
                  <a:pt x="9525" y="14287"/>
                  <a:pt x="9525" y="14387"/>
                  <a:pt x="9525" y="1448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1360" y="513396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475" y="14288"/>
                </a:moveTo>
                <a:cubicBezTo>
                  <a:pt x="9592" y="14288"/>
                  <a:pt x="9658" y="14283"/>
                  <a:pt x="9748" y="1426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97200" y="508176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0319" y="14114"/>
                </a:moveTo>
                <a:cubicBezTo>
                  <a:pt x="10238" y="14288"/>
                  <a:pt x="10302" y="14279"/>
                  <a:pt x="10468" y="14362"/>
                </a:cubicBezTo>
                <a:cubicBezTo>
                  <a:pt x="10484" y="14370"/>
                  <a:pt x="10501" y="14379"/>
                  <a:pt x="10517" y="1438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24200" y="5081760"/>
            <a:ext cx="98640" cy="17280"/>
          </a:xfrm>
          <a:custGeom>
            <a:avLst/>
            <a:gdLst/>
            <a:ahLst/>
            <a:rect l="l" t="t" r="r" b="b"/>
            <a:pathLst>
              <a:path w="273" h="50">
                <a:moveTo>
                  <a:pt x="10344" y="14163"/>
                </a:moveTo>
                <a:cubicBezTo>
                  <a:pt x="10491" y="14121"/>
                  <a:pt x="10522" y="14105"/>
                  <a:pt x="10616" y="1411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0920" y="5249880"/>
            <a:ext cx="260280" cy="28440"/>
          </a:xfrm>
          <a:custGeom>
            <a:avLst/>
            <a:gdLst/>
            <a:ahLst/>
            <a:rect l="l" t="t" r="r" b="b"/>
            <a:pathLst>
              <a:path w="720" h="76">
                <a:moveTo>
                  <a:pt x="9699" y="14660"/>
                </a:moveTo>
                <a:cubicBezTo>
                  <a:pt x="10070" y="14613"/>
                  <a:pt x="10177" y="14599"/>
                  <a:pt x="10418" y="1458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0920" y="5375160"/>
            <a:ext cx="304920" cy="16200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9798" y="14932"/>
                </a:moveTo>
                <a:cubicBezTo>
                  <a:pt x="9777" y="14996"/>
                  <a:pt x="9617" y="15321"/>
                  <a:pt x="9748" y="15354"/>
                </a:cubicBezTo>
                <a:cubicBezTo>
                  <a:pt x="9971" y="15411"/>
                  <a:pt x="10038" y="15102"/>
                  <a:pt x="9996" y="15131"/>
                </a:cubicBezTo>
                <a:cubicBezTo>
                  <a:pt x="9955" y="15172"/>
                  <a:pt x="9913" y="15214"/>
                  <a:pt x="9872" y="15255"/>
                </a:cubicBezTo>
                <a:cubicBezTo>
                  <a:pt x="9856" y="15296"/>
                  <a:pt x="9839" y="15338"/>
                  <a:pt x="9823" y="15379"/>
                </a:cubicBezTo>
                <a:cubicBezTo>
                  <a:pt x="9996" y="15332"/>
                  <a:pt x="10434" y="15166"/>
                  <a:pt x="10468" y="14932"/>
                </a:cubicBezTo>
                <a:cubicBezTo>
                  <a:pt x="10443" y="14932"/>
                  <a:pt x="10418" y="14932"/>
                  <a:pt x="10393" y="14932"/>
                </a:cubicBezTo>
                <a:cubicBezTo>
                  <a:pt x="10097" y="15229"/>
                  <a:pt x="10405" y="15031"/>
                  <a:pt x="10468" y="15280"/>
                </a:cubicBezTo>
                <a:cubicBezTo>
                  <a:pt x="10504" y="15424"/>
                  <a:pt x="10326" y="15198"/>
                  <a:pt x="10418" y="15081"/>
                </a:cubicBezTo>
                <a:cubicBezTo>
                  <a:pt x="10459" y="15040"/>
                  <a:pt x="10501" y="14998"/>
                  <a:pt x="10542" y="1495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ciprocal operation of multi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ivision is the opposite of multiplication, you can either flip one of your fractions, or cross multi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0760" y="1535040"/>
            <a:ext cx="1733400" cy="117720"/>
          </a:xfrm>
          <a:custGeom>
            <a:avLst/>
            <a:gdLst/>
            <a:ahLst/>
            <a:rect l="l" t="t" r="r" b="b"/>
            <a:pathLst>
              <a:path w="4813" h="324">
                <a:moveTo>
                  <a:pt x="7392" y="4589"/>
                </a:moveTo>
                <a:cubicBezTo>
                  <a:pt x="7455" y="4571"/>
                  <a:pt x="7522" y="4546"/>
                  <a:pt x="7590" y="4539"/>
                </a:cubicBezTo>
                <a:cubicBezTo>
                  <a:pt x="7911" y="4506"/>
                  <a:pt x="8242" y="4576"/>
                  <a:pt x="8558" y="4514"/>
                </a:cubicBezTo>
                <a:cubicBezTo>
                  <a:pt x="8653" y="4495"/>
                  <a:pt x="8758" y="4475"/>
                  <a:pt x="8855" y="4465"/>
                </a:cubicBezTo>
                <a:cubicBezTo>
                  <a:pt x="8963" y="4454"/>
                  <a:pt x="9070" y="4425"/>
                  <a:pt x="9178" y="4415"/>
                </a:cubicBezTo>
                <a:cubicBezTo>
                  <a:pt x="9335" y="4401"/>
                  <a:pt x="9493" y="4378"/>
                  <a:pt x="9649" y="4366"/>
                </a:cubicBezTo>
                <a:cubicBezTo>
                  <a:pt x="9775" y="4356"/>
                  <a:pt x="9894" y="4344"/>
                  <a:pt x="10021" y="4341"/>
                </a:cubicBezTo>
                <a:cubicBezTo>
                  <a:pt x="10476" y="4329"/>
                  <a:pt x="10937" y="4357"/>
                  <a:pt x="11385" y="4316"/>
                </a:cubicBezTo>
                <a:cubicBezTo>
                  <a:pt x="11544" y="4302"/>
                  <a:pt x="11737" y="4301"/>
                  <a:pt x="11881" y="4291"/>
                </a:cubicBezTo>
                <a:cubicBezTo>
                  <a:pt x="11986" y="4283"/>
                  <a:pt x="12077" y="4283"/>
                  <a:pt x="12179" y="4266"/>
                </a:cubicBezTo>
                <a:cubicBezTo>
                  <a:pt x="12187" y="4266"/>
                  <a:pt x="12196" y="4266"/>
                  <a:pt x="12204" y="426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44960" y="812880"/>
            <a:ext cx="2670120" cy="384120"/>
          </a:xfrm>
          <a:custGeom>
            <a:avLst/>
            <a:gdLst/>
            <a:ahLst/>
            <a:rect l="l" t="t" r="r" b="b"/>
            <a:pathLst>
              <a:path w="7417" h="1068">
                <a:moveTo>
                  <a:pt x="11336" y="2580"/>
                </a:moveTo>
                <a:cubicBezTo>
                  <a:pt x="11348" y="2760"/>
                  <a:pt x="11348" y="2876"/>
                  <a:pt x="11311" y="3051"/>
                </a:cubicBezTo>
              </a:path>
              <a:path w="7417" h="1068">
                <a:moveTo>
                  <a:pt x="11237" y="2406"/>
                </a:moveTo>
                <a:lnTo>
                  <a:pt x="11237" y="2406"/>
                </a:lnTo>
              </a:path>
              <a:path w="7417" h="1068">
                <a:moveTo>
                  <a:pt x="11485" y="2729"/>
                </a:moveTo>
                <a:cubicBezTo>
                  <a:pt x="11502" y="2810"/>
                  <a:pt x="11522" y="2895"/>
                  <a:pt x="11534" y="2977"/>
                </a:cubicBezTo>
                <a:cubicBezTo>
                  <a:pt x="11534" y="2834"/>
                  <a:pt x="11528" y="2720"/>
                  <a:pt x="11658" y="2629"/>
                </a:cubicBezTo>
                <a:cubicBezTo>
                  <a:pt x="11800" y="2531"/>
                  <a:pt x="11912" y="2782"/>
                  <a:pt x="11931" y="2877"/>
                </a:cubicBezTo>
                <a:cubicBezTo>
                  <a:pt x="11931" y="2986"/>
                  <a:pt x="11926" y="3013"/>
                  <a:pt x="11956" y="3076"/>
                </a:cubicBezTo>
              </a:path>
              <a:path w="7417" h="1068">
                <a:moveTo>
                  <a:pt x="12179" y="2679"/>
                </a:moveTo>
                <a:cubicBezTo>
                  <a:pt x="12237" y="2824"/>
                  <a:pt x="12308" y="2961"/>
                  <a:pt x="12378" y="3101"/>
                </a:cubicBezTo>
                <a:cubicBezTo>
                  <a:pt x="12419" y="2993"/>
                  <a:pt x="12439" y="2816"/>
                  <a:pt x="12526" y="2729"/>
                </a:cubicBezTo>
                <a:cubicBezTo>
                  <a:pt x="12551" y="2712"/>
                  <a:pt x="12576" y="2696"/>
                  <a:pt x="12601" y="2679"/>
                </a:cubicBezTo>
              </a:path>
              <a:path w="7417" h="1068">
                <a:moveTo>
                  <a:pt x="12750" y="2853"/>
                </a:moveTo>
                <a:cubicBezTo>
                  <a:pt x="12855" y="2839"/>
                  <a:pt x="12866" y="2847"/>
                  <a:pt x="12948" y="2778"/>
                </a:cubicBezTo>
                <a:cubicBezTo>
                  <a:pt x="12892" y="2696"/>
                  <a:pt x="12793" y="2678"/>
                  <a:pt x="12700" y="2753"/>
                </a:cubicBezTo>
                <a:cubicBezTo>
                  <a:pt x="12600" y="2834"/>
                  <a:pt x="12575" y="3138"/>
                  <a:pt x="12774" y="3101"/>
                </a:cubicBezTo>
                <a:cubicBezTo>
                  <a:pt x="12933" y="3021"/>
                  <a:pt x="12988" y="2987"/>
                  <a:pt x="13022" y="2853"/>
                </a:cubicBezTo>
                <a:cubicBezTo>
                  <a:pt x="13078" y="2723"/>
                  <a:pt x="13053" y="2846"/>
                  <a:pt x="13072" y="2952"/>
                </a:cubicBezTo>
                <a:cubicBezTo>
                  <a:pt x="13072" y="3123"/>
                  <a:pt x="13061" y="2791"/>
                  <a:pt x="13146" y="2729"/>
                </a:cubicBezTo>
                <a:cubicBezTo>
                  <a:pt x="13171" y="2721"/>
                  <a:pt x="13196" y="2712"/>
                  <a:pt x="13221" y="2704"/>
                </a:cubicBezTo>
              </a:path>
              <a:path w="7417" h="1068">
                <a:moveTo>
                  <a:pt x="13643" y="2704"/>
                </a:moveTo>
                <a:cubicBezTo>
                  <a:pt x="13551" y="2690"/>
                  <a:pt x="13529" y="2680"/>
                  <a:pt x="13444" y="2729"/>
                </a:cubicBezTo>
                <a:cubicBezTo>
                  <a:pt x="13528" y="2773"/>
                  <a:pt x="13851" y="2916"/>
                  <a:pt x="13618" y="3026"/>
                </a:cubicBezTo>
                <a:cubicBezTo>
                  <a:pt x="13485" y="3048"/>
                  <a:pt x="13451" y="3061"/>
                  <a:pt x="13370" y="3026"/>
                </a:cubicBezTo>
              </a:path>
              <a:path w="7417" h="1068">
                <a:moveTo>
                  <a:pt x="13915" y="2729"/>
                </a:moveTo>
                <a:cubicBezTo>
                  <a:pt x="13964" y="2726"/>
                  <a:pt x="14234" y="2752"/>
                  <a:pt x="14114" y="2679"/>
                </a:cubicBezTo>
                <a:cubicBezTo>
                  <a:pt x="14023" y="2699"/>
                  <a:pt x="13915" y="2759"/>
                  <a:pt x="13915" y="2877"/>
                </a:cubicBezTo>
                <a:cubicBezTo>
                  <a:pt x="13915" y="3135"/>
                  <a:pt x="14128" y="3006"/>
                  <a:pt x="14263" y="2952"/>
                </a:cubicBezTo>
              </a:path>
              <a:path w="7417" h="1068">
                <a:moveTo>
                  <a:pt x="14858" y="2257"/>
                </a:moveTo>
                <a:cubicBezTo>
                  <a:pt x="14818" y="2582"/>
                  <a:pt x="14702" y="2886"/>
                  <a:pt x="14610" y="3200"/>
                </a:cubicBezTo>
                <a:cubicBezTo>
                  <a:pt x="14602" y="3225"/>
                  <a:pt x="14593" y="3249"/>
                  <a:pt x="14585" y="3274"/>
                </a:cubicBezTo>
              </a:path>
              <a:path w="7417" h="1068">
                <a:moveTo>
                  <a:pt x="15156" y="2679"/>
                </a:moveTo>
                <a:cubicBezTo>
                  <a:pt x="14991" y="2726"/>
                  <a:pt x="14967" y="2803"/>
                  <a:pt x="14932" y="2952"/>
                </a:cubicBezTo>
                <a:cubicBezTo>
                  <a:pt x="14971" y="2962"/>
                  <a:pt x="15337" y="2992"/>
                  <a:pt x="15255" y="2828"/>
                </a:cubicBezTo>
                <a:cubicBezTo>
                  <a:pt x="15184" y="2757"/>
                  <a:pt x="15164" y="2735"/>
                  <a:pt x="15106" y="2704"/>
                </a:cubicBezTo>
              </a:path>
              <a:path w="7417" h="1068">
                <a:moveTo>
                  <a:pt x="15577" y="2853"/>
                </a:moveTo>
                <a:cubicBezTo>
                  <a:pt x="15588" y="2961"/>
                  <a:pt x="15661" y="3331"/>
                  <a:pt x="15577" y="3274"/>
                </a:cubicBezTo>
                <a:cubicBezTo>
                  <a:pt x="15561" y="3096"/>
                  <a:pt x="15531" y="2811"/>
                  <a:pt x="15726" y="2704"/>
                </a:cubicBezTo>
                <a:cubicBezTo>
                  <a:pt x="15866" y="2681"/>
                  <a:pt x="15910" y="2665"/>
                  <a:pt x="15949" y="2778"/>
                </a:cubicBezTo>
                <a:cubicBezTo>
                  <a:pt x="15915" y="2862"/>
                  <a:pt x="15670" y="3137"/>
                  <a:pt x="15602" y="2877"/>
                </a:cubicBezTo>
                <a:cubicBezTo>
                  <a:pt x="15619" y="2861"/>
                  <a:pt x="15635" y="2844"/>
                  <a:pt x="15652" y="2828"/>
                </a:cubicBezTo>
              </a:path>
              <a:path w="7417" h="1068">
                <a:moveTo>
                  <a:pt x="15974" y="2778"/>
                </a:moveTo>
                <a:cubicBezTo>
                  <a:pt x="16032" y="2912"/>
                  <a:pt x="16083" y="3036"/>
                  <a:pt x="16123" y="3175"/>
                </a:cubicBezTo>
                <a:cubicBezTo>
                  <a:pt x="16090" y="3339"/>
                  <a:pt x="16115" y="2849"/>
                  <a:pt x="16123" y="2828"/>
                </a:cubicBezTo>
                <a:cubicBezTo>
                  <a:pt x="16207" y="2701"/>
                  <a:pt x="16214" y="2652"/>
                  <a:pt x="16321" y="2679"/>
                </a:cubicBezTo>
                <a:cubicBezTo>
                  <a:pt x="16434" y="2835"/>
                  <a:pt x="16466" y="2966"/>
                  <a:pt x="16222" y="3001"/>
                </a:cubicBezTo>
                <a:cubicBezTo>
                  <a:pt x="16172" y="3001"/>
                  <a:pt x="16123" y="3001"/>
                  <a:pt x="16073" y="3001"/>
                </a:cubicBezTo>
              </a:path>
              <a:path w="7417" h="1068">
                <a:moveTo>
                  <a:pt x="16793" y="2704"/>
                </a:moveTo>
                <a:cubicBezTo>
                  <a:pt x="16630" y="2668"/>
                  <a:pt x="16619" y="2786"/>
                  <a:pt x="16570" y="2927"/>
                </a:cubicBezTo>
                <a:cubicBezTo>
                  <a:pt x="16610" y="2937"/>
                  <a:pt x="16960" y="2992"/>
                  <a:pt x="16917" y="2853"/>
                </a:cubicBezTo>
                <a:cubicBezTo>
                  <a:pt x="16887" y="2756"/>
                  <a:pt x="16724" y="2713"/>
                  <a:pt x="16644" y="2679"/>
                </a:cubicBezTo>
              </a:path>
              <a:path w="7417" h="1068">
                <a:moveTo>
                  <a:pt x="17115" y="2704"/>
                </a:moveTo>
                <a:cubicBezTo>
                  <a:pt x="17030" y="2875"/>
                  <a:pt x="17256" y="2756"/>
                  <a:pt x="17289" y="2927"/>
                </a:cubicBezTo>
                <a:cubicBezTo>
                  <a:pt x="17324" y="3105"/>
                  <a:pt x="17079" y="3070"/>
                  <a:pt x="17016" y="2977"/>
                </a:cubicBezTo>
                <a:cubicBezTo>
                  <a:pt x="17016" y="2960"/>
                  <a:pt x="17016" y="2944"/>
                  <a:pt x="17016" y="2927"/>
                </a:cubicBezTo>
              </a:path>
              <a:path w="7417" h="1068">
                <a:moveTo>
                  <a:pt x="17487" y="2853"/>
                </a:moveTo>
                <a:cubicBezTo>
                  <a:pt x="17507" y="2952"/>
                  <a:pt x="17515" y="2967"/>
                  <a:pt x="17512" y="3026"/>
                </a:cubicBezTo>
              </a:path>
              <a:path w="7417" h="1068">
                <a:moveTo>
                  <a:pt x="17487" y="2654"/>
                </a:moveTo>
                <a:lnTo>
                  <a:pt x="17487" y="2654"/>
                </a:lnTo>
              </a:path>
              <a:path w="7417" h="1068">
                <a:moveTo>
                  <a:pt x="17810" y="2530"/>
                </a:moveTo>
                <a:cubicBezTo>
                  <a:pt x="17780" y="2694"/>
                  <a:pt x="17858" y="2855"/>
                  <a:pt x="17884" y="3026"/>
                </a:cubicBezTo>
                <a:cubicBezTo>
                  <a:pt x="17884" y="3043"/>
                  <a:pt x="17884" y="3059"/>
                  <a:pt x="17884" y="3076"/>
                </a:cubicBezTo>
              </a:path>
              <a:path w="7417" h="1068">
                <a:moveTo>
                  <a:pt x="17611" y="2704"/>
                </a:moveTo>
                <a:cubicBezTo>
                  <a:pt x="17810" y="2704"/>
                  <a:pt x="18008" y="2704"/>
                  <a:pt x="18207" y="2704"/>
                </a:cubicBezTo>
              </a:path>
              <a:path w="7417" h="1068">
                <a:moveTo>
                  <a:pt x="18256" y="2753"/>
                </a:moveTo>
                <a:cubicBezTo>
                  <a:pt x="18316" y="2753"/>
                  <a:pt x="18517" y="2773"/>
                  <a:pt x="18529" y="2679"/>
                </a:cubicBezTo>
                <a:cubicBezTo>
                  <a:pt x="18521" y="2662"/>
                  <a:pt x="18512" y="2646"/>
                  <a:pt x="18504" y="2629"/>
                </a:cubicBezTo>
                <a:cubicBezTo>
                  <a:pt x="18340" y="2584"/>
                  <a:pt x="18297" y="2642"/>
                  <a:pt x="18207" y="2803"/>
                </a:cubicBezTo>
                <a:cubicBezTo>
                  <a:pt x="18091" y="3012"/>
                  <a:pt x="18255" y="3083"/>
                  <a:pt x="18455" y="3051"/>
                </a:cubicBezTo>
                <a:cubicBezTo>
                  <a:pt x="18561" y="3008"/>
                  <a:pt x="18582" y="2992"/>
                  <a:pt x="18653" y="300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3760" y="1973160"/>
            <a:ext cx="1876320" cy="482760"/>
          </a:xfrm>
          <a:custGeom>
            <a:avLst/>
            <a:gdLst/>
            <a:ahLst/>
            <a:rect l="l" t="t" r="r" b="b"/>
            <a:pathLst>
              <a:path w="5210" h="1340">
                <a:moveTo>
                  <a:pt x="10889" y="5507"/>
                </a:moveTo>
                <a:cubicBezTo>
                  <a:pt x="11034" y="5877"/>
                  <a:pt x="11158" y="6233"/>
                  <a:pt x="11237" y="6623"/>
                </a:cubicBezTo>
              </a:path>
              <a:path w="5210" h="1340">
                <a:moveTo>
                  <a:pt x="10567" y="5581"/>
                </a:moveTo>
                <a:cubicBezTo>
                  <a:pt x="11020" y="5517"/>
                  <a:pt x="11834" y="5490"/>
                  <a:pt x="11782" y="6226"/>
                </a:cubicBezTo>
                <a:cubicBezTo>
                  <a:pt x="11751" y="6667"/>
                  <a:pt x="11372" y="6737"/>
                  <a:pt x="11063" y="6821"/>
                </a:cubicBezTo>
              </a:path>
              <a:path w="5210" h="1340">
                <a:moveTo>
                  <a:pt x="11981" y="6201"/>
                </a:moveTo>
                <a:cubicBezTo>
                  <a:pt x="12115" y="6381"/>
                  <a:pt x="12152" y="6429"/>
                  <a:pt x="12229" y="6548"/>
                </a:cubicBezTo>
              </a:path>
              <a:path w="5210" h="1340">
                <a:moveTo>
                  <a:pt x="11782" y="5953"/>
                </a:moveTo>
                <a:lnTo>
                  <a:pt x="11782" y="5953"/>
                </a:lnTo>
              </a:path>
              <a:path w="5210" h="1340">
                <a:moveTo>
                  <a:pt x="12675" y="6226"/>
                </a:moveTo>
                <a:cubicBezTo>
                  <a:pt x="12766" y="6357"/>
                  <a:pt x="12857" y="6472"/>
                  <a:pt x="12948" y="6598"/>
                </a:cubicBezTo>
                <a:cubicBezTo>
                  <a:pt x="12934" y="6384"/>
                  <a:pt x="12936" y="6214"/>
                  <a:pt x="12973" y="6003"/>
                </a:cubicBezTo>
              </a:path>
              <a:path w="5210" h="1340">
                <a:moveTo>
                  <a:pt x="13419" y="6300"/>
                </a:moveTo>
                <a:cubicBezTo>
                  <a:pt x="13483" y="6405"/>
                  <a:pt x="13501" y="6426"/>
                  <a:pt x="13519" y="6499"/>
                </a:cubicBezTo>
              </a:path>
              <a:path w="5210" h="1340">
                <a:moveTo>
                  <a:pt x="13320" y="5879"/>
                </a:moveTo>
                <a:lnTo>
                  <a:pt x="13320" y="5879"/>
                </a:lnTo>
              </a:path>
              <a:path w="5210" h="1340">
                <a:moveTo>
                  <a:pt x="13643" y="6077"/>
                </a:moveTo>
                <a:cubicBezTo>
                  <a:pt x="13642" y="6201"/>
                  <a:pt x="13944" y="6172"/>
                  <a:pt x="14089" y="6201"/>
                </a:cubicBezTo>
                <a:cubicBezTo>
                  <a:pt x="13991" y="6479"/>
                  <a:pt x="13846" y="6506"/>
                  <a:pt x="13568" y="6424"/>
                </a:cubicBezTo>
              </a:path>
              <a:path w="5210" h="1340">
                <a:moveTo>
                  <a:pt x="14139" y="6028"/>
                </a:moveTo>
                <a:cubicBezTo>
                  <a:pt x="14256" y="6174"/>
                  <a:pt x="14361" y="6316"/>
                  <a:pt x="14461" y="6474"/>
                </a:cubicBezTo>
              </a:path>
              <a:path w="5210" h="1340">
                <a:moveTo>
                  <a:pt x="14114" y="5804"/>
                </a:moveTo>
                <a:lnTo>
                  <a:pt x="14114" y="5804"/>
                </a:lnTo>
              </a:path>
              <a:path w="5210" h="1340">
                <a:moveTo>
                  <a:pt x="14709" y="5928"/>
                </a:moveTo>
                <a:cubicBezTo>
                  <a:pt x="14578" y="6171"/>
                  <a:pt x="14571" y="6188"/>
                  <a:pt x="14635" y="6449"/>
                </a:cubicBezTo>
                <a:cubicBezTo>
                  <a:pt x="14901" y="6471"/>
                  <a:pt x="15196" y="6284"/>
                  <a:pt x="14908" y="5978"/>
                </a:cubicBezTo>
                <a:cubicBezTo>
                  <a:pt x="14777" y="5922"/>
                  <a:pt x="14765" y="5897"/>
                  <a:pt x="14684" y="5904"/>
                </a:cubicBezTo>
              </a:path>
              <a:path w="5210" h="1340">
                <a:moveTo>
                  <a:pt x="15280" y="6176"/>
                </a:moveTo>
                <a:cubicBezTo>
                  <a:pt x="15318" y="6291"/>
                  <a:pt x="15334" y="6305"/>
                  <a:pt x="15329" y="6375"/>
                </a:cubicBezTo>
                <a:cubicBezTo>
                  <a:pt x="15289" y="6114"/>
                  <a:pt x="15277" y="6077"/>
                  <a:pt x="15404" y="5854"/>
                </a:cubicBezTo>
                <a:cubicBezTo>
                  <a:pt x="15721" y="5893"/>
                  <a:pt x="15743" y="6030"/>
                  <a:pt x="15776" y="635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0040" y="4732200"/>
            <a:ext cx="517680" cy="938520"/>
          </a:xfrm>
          <a:custGeom>
            <a:avLst/>
            <a:gdLst/>
            <a:ahLst/>
            <a:rect l="l" t="t" r="r" b="b"/>
            <a:pathLst>
              <a:path w="1440" h="2606">
                <a:moveTo>
                  <a:pt x="5308" y="13146"/>
                </a:moveTo>
                <a:cubicBezTo>
                  <a:pt x="5355" y="13426"/>
                  <a:pt x="5406" y="13707"/>
                  <a:pt x="5432" y="13990"/>
                </a:cubicBezTo>
                <a:cubicBezTo>
                  <a:pt x="5432" y="14048"/>
                  <a:pt x="5432" y="14056"/>
                  <a:pt x="5432" y="14089"/>
                </a:cubicBezTo>
              </a:path>
              <a:path w="1440" h="2606">
                <a:moveTo>
                  <a:pt x="4638" y="14412"/>
                </a:moveTo>
                <a:cubicBezTo>
                  <a:pt x="5030" y="14270"/>
                  <a:pt x="5412" y="14178"/>
                  <a:pt x="5829" y="14139"/>
                </a:cubicBezTo>
                <a:cubicBezTo>
                  <a:pt x="5854" y="14139"/>
                  <a:pt x="5879" y="14139"/>
                  <a:pt x="5904" y="14139"/>
                </a:cubicBezTo>
              </a:path>
              <a:path w="1440" h="2606">
                <a:moveTo>
                  <a:pt x="5259" y="14759"/>
                </a:moveTo>
                <a:cubicBezTo>
                  <a:pt x="5358" y="14639"/>
                  <a:pt x="5481" y="14511"/>
                  <a:pt x="5655" y="14585"/>
                </a:cubicBezTo>
                <a:cubicBezTo>
                  <a:pt x="5913" y="14694"/>
                  <a:pt x="5713" y="14995"/>
                  <a:pt x="5606" y="15131"/>
                </a:cubicBezTo>
                <a:cubicBezTo>
                  <a:pt x="5439" y="15344"/>
                  <a:pt x="5244" y="15531"/>
                  <a:pt x="5085" y="15751"/>
                </a:cubicBezTo>
                <a:cubicBezTo>
                  <a:pt x="5137" y="15597"/>
                  <a:pt x="5221" y="15311"/>
                  <a:pt x="5457" y="15429"/>
                </a:cubicBezTo>
                <a:cubicBezTo>
                  <a:pt x="5649" y="15525"/>
                  <a:pt x="5767" y="15638"/>
                  <a:pt x="6003" y="15553"/>
                </a:cubicBezTo>
                <a:cubicBezTo>
                  <a:pt x="6028" y="15536"/>
                  <a:pt x="6052" y="15520"/>
                  <a:pt x="6077" y="1550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8840" y="4983120"/>
            <a:ext cx="268200" cy="3668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7218" y="14362"/>
                </a:moveTo>
                <a:cubicBezTo>
                  <a:pt x="7428" y="14322"/>
                  <a:pt x="7647" y="14337"/>
                  <a:pt x="7863" y="14337"/>
                </a:cubicBezTo>
                <a:cubicBezTo>
                  <a:pt x="7896" y="14337"/>
                  <a:pt x="7929" y="14337"/>
                  <a:pt x="7962" y="14337"/>
                </a:cubicBezTo>
              </a:path>
              <a:path w="745" h="1018">
                <a:moveTo>
                  <a:pt x="7640" y="13841"/>
                </a:moveTo>
                <a:lnTo>
                  <a:pt x="7640" y="13841"/>
                </a:lnTo>
              </a:path>
              <a:path w="745" h="1018">
                <a:moveTo>
                  <a:pt x="7689" y="14858"/>
                </a:moveTo>
                <a:lnTo>
                  <a:pt x="7689" y="14858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24160" y="4786200"/>
            <a:ext cx="401760" cy="812880"/>
          </a:xfrm>
          <a:custGeom>
            <a:avLst/>
            <a:gdLst/>
            <a:ahLst/>
            <a:rect l="l" t="t" r="r" b="b"/>
            <a:pathLst>
              <a:path w="1118" h="2259">
                <a:moveTo>
                  <a:pt x="9401" y="13345"/>
                </a:moveTo>
                <a:cubicBezTo>
                  <a:pt x="9409" y="13328"/>
                  <a:pt x="9418" y="13312"/>
                  <a:pt x="9426" y="13295"/>
                </a:cubicBezTo>
                <a:cubicBezTo>
                  <a:pt x="9426" y="13535"/>
                  <a:pt x="9469" y="13776"/>
                  <a:pt x="9451" y="14015"/>
                </a:cubicBezTo>
                <a:cubicBezTo>
                  <a:pt x="9443" y="14040"/>
                  <a:pt x="9434" y="14064"/>
                  <a:pt x="9426" y="14089"/>
                </a:cubicBezTo>
              </a:path>
              <a:path w="1118" h="2259">
                <a:moveTo>
                  <a:pt x="8954" y="14436"/>
                </a:moveTo>
                <a:cubicBezTo>
                  <a:pt x="9263" y="14418"/>
                  <a:pt x="9566" y="14355"/>
                  <a:pt x="9872" y="14312"/>
                </a:cubicBezTo>
                <a:cubicBezTo>
                  <a:pt x="9938" y="14304"/>
                  <a:pt x="10005" y="14296"/>
                  <a:pt x="10071" y="14288"/>
                </a:cubicBezTo>
              </a:path>
              <a:path w="1118" h="2259">
                <a:moveTo>
                  <a:pt x="9302" y="14759"/>
                </a:moveTo>
                <a:cubicBezTo>
                  <a:pt x="9370" y="14963"/>
                  <a:pt x="9331" y="15051"/>
                  <a:pt x="9227" y="15230"/>
                </a:cubicBezTo>
                <a:cubicBezTo>
                  <a:pt x="9393" y="15152"/>
                  <a:pt x="9565" y="15104"/>
                  <a:pt x="9748" y="15081"/>
                </a:cubicBezTo>
              </a:path>
              <a:path w="1118" h="2259">
                <a:moveTo>
                  <a:pt x="9624" y="14660"/>
                </a:moveTo>
                <a:cubicBezTo>
                  <a:pt x="9624" y="14958"/>
                  <a:pt x="9624" y="15255"/>
                  <a:pt x="9624" y="1555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28880" y="5830920"/>
            <a:ext cx="250920" cy="669960"/>
          </a:xfrm>
          <a:custGeom>
            <a:avLst/>
            <a:gdLst/>
            <a:ahLst/>
            <a:rect l="l" t="t" r="r" b="b"/>
            <a:pathLst>
              <a:path w="695" h="1862">
                <a:moveTo>
                  <a:pt x="5779" y="16197"/>
                </a:moveTo>
                <a:cubicBezTo>
                  <a:pt x="5742" y="16386"/>
                  <a:pt x="5712" y="16575"/>
                  <a:pt x="5705" y="16768"/>
                </a:cubicBezTo>
                <a:cubicBezTo>
                  <a:pt x="5705" y="16785"/>
                  <a:pt x="5705" y="16801"/>
                  <a:pt x="5705" y="16818"/>
                </a:cubicBezTo>
              </a:path>
              <a:path w="695" h="1862">
                <a:moveTo>
                  <a:pt x="5358" y="16942"/>
                </a:moveTo>
                <a:cubicBezTo>
                  <a:pt x="5574" y="16931"/>
                  <a:pt x="5786" y="16917"/>
                  <a:pt x="6003" y="16917"/>
                </a:cubicBezTo>
                <a:cubicBezTo>
                  <a:pt x="6019" y="16917"/>
                  <a:pt x="6036" y="16917"/>
                  <a:pt x="6052" y="16917"/>
                </a:cubicBezTo>
              </a:path>
              <a:path w="695" h="1862">
                <a:moveTo>
                  <a:pt x="5606" y="17314"/>
                </a:moveTo>
                <a:cubicBezTo>
                  <a:pt x="5616" y="17274"/>
                  <a:pt x="5698" y="17135"/>
                  <a:pt x="5755" y="17165"/>
                </a:cubicBezTo>
                <a:cubicBezTo>
                  <a:pt x="5873" y="17226"/>
                  <a:pt x="5870" y="17364"/>
                  <a:pt x="5804" y="17462"/>
                </a:cubicBezTo>
                <a:cubicBezTo>
                  <a:pt x="5737" y="17561"/>
                  <a:pt x="5613" y="17629"/>
                  <a:pt x="5556" y="17735"/>
                </a:cubicBezTo>
                <a:cubicBezTo>
                  <a:pt x="5500" y="17837"/>
                  <a:pt x="5467" y="17946"/>
                  <a:pt x="5432" y="18058"/>
                </a:cubicBezTo>
                <a:cubicBezTo>
                  <a:pt x="5443" y="18003"/>
                  <a:pt x="5469" y="17835"/>
                  <a:pt x="5556" y="17835"/>
                </a:cubicBezTo>
                <a:cubicBezTo>
                  <a:pt x="5637" y="17835"/>
                  <a:pt x="5695" y="17976"/>
                  <a:pt x="5779" y="17983"/>
                </a:cubicBezTo>
                <a:cubicBezTo>
                  <a:pt x="5847" y="17961"/>
                  <a:pt x="5865" y="17957"/>
                  <a:pt x="5904" y="1793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3200" y="5830920"/>
            <a:ext cx="1044720" cy="615960"/>
          </a:xfrm>
          <a:custGeom>
            <a:avLst/>
            <a:gdLst/>
            <a:ahLst/>
            <a:rect l="l" t="t" r="r" b="b"/>
            <a:pathLst>
              <a:path w="2903" h="1713">
                <a:moveTo>
                  <a:pt x="6871" y="16892"/>
                </a:moveTo>
                <a:cubicBezTo>
                  <a:pt x="7056" y="17095"/>
                  <a:pt x="7193" y="17309"/>
                  <a:pt x="7342" y="17537"/>
                </a:cubicBezTo>
                <a:cubicBezTo>
                  <a:pt x="7367" y="17570"/>
                  <a:pt x="7392" y="17603"/>
                  <a:pt x="7417" y="17636"/>
                </a:cubicBezTo>
              </a:path>
              <a:path w="2903" h="1713">
                <a:moveTo>
                  <a:pt x="7417" y="16842"/>
                </a:moveTo>
                <a:cubicBezTo>
                  <a:pt x="7288" y="17075"/>
                  <a:pt x="7190" y="17312"/>
                  <a:pt x="7045" y="17537"/>
                </a:cubicBezTo>
                <a:cubicBezTo>
                  <a:pt x="7001" y="17602"/>
                  <a:pt x="6990" y="17616"/>
                  <a:pt x="6970" y="17661"/>
                </a:cubicBezTo>
              </a:path>
              <a:path w="2903" h="1713">
                <a:moveTo>
                  <a:pt x="8161" y="16371"/>
                </a:moveTo>
                <a:cubicBezTo>
                  <a:pt x="8143" y="16515"/>
                  <a:pt x="8114" y="16644"/>
                  <a:pt x="8037" y="16768"/>
                </a:cubicBezTo>
                <a:cubicBezTo>
                  <a:pt x="8176" y="16725"/>
                  <a:pt x="8267" y="16712"/>
                  <a:pt x="8409" y="16743"/>
                </a:cubicBezTo>
              </a:path>
              <a:path w="2903" h="1713">
                <a:moveTo>
                  <a:pt x="8409" y="16197"/>
                </a:moveTo>
                <a:cubicBezTo>
                  <a:pt x="8409" y="16462"/>
                  <a:pt x="8409" y="16726"/>
                  <a:pt x="8409" y="16991"/>
                </a:cubicBezTo>
              </a:path>
              <a:path w="2903" h="1713">
                <a:moveTo>
                  <a:pt x="8037" y="17214"/>
                </a:moveTo>
                <a:cubicBezTo>
                  <a:pt x="8184" y="17214"/>
                  <a:pt x="8337" y="17164"/>
                  <a:pt x="8483" y="17140"/>
                </a:cubicBezTo>
                <a:cubicBezTo>
                  <a:pt x="8615" y="17118"/>
                  <a:pt x="8647" y="17110"/>
                  <a:pt x="8731" y="17115"/>
                </a:cubicBezTo>
              </a:path>
              <a:path w="2903" h="1713">
                <a:moveTo>
                  <a:pt x="8434" y="17413"/>
                </a:moveTo>
                <a:cubicBezTo>
                  <a:pt x="8399" y="17579"/>
                  <a:pt x="8378" y="17746"/>
                  <a:pt x="8334" y="17909"/>
                </a:cubicBezTo>
              </a:path>
              <a:path w="2903" h="1713">
                <a:moveTo>
                  <a:pt x="9351" y="16966"/>
                </a:moveTo>
                <a:cubicBezTo>
                  <a:pt x="9511" y="16966"/>
                  <a:pt x="9608" y="16980"/>
                  <a:pt x="9748" y="17066"/>
                </a:cubicBezTo>
                <a:cubicBezTo>
                  <a:pt x="9756" y="17074"/>
                  <a:pt x="9765" y="17082"/>
                  <a:pt x="9773" y="17090"/>
                </a:cubicBezTo>
              </a:path>
              <a:path w="2903" h="1713">
                <a:moveTo>
                  <a:pt x="9451" y="17388"/>
                </a:moveTo>
                <a:cubicBezTo>
                  <a:pt x="9563" y="17378"/>
                  <a:pt x="9635" y="17377"/>
                  <a:pt x="9748" y="1738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75040" y="5697360"/>
            <a:ext cx="277920" cy="839880"/>
          </a:xfrm>
          <a:custGeom>
            <a:avLst/>
            <a:gdLst/>
            <a:ahLst/>
            <a:rect l="l" t="t" r="r" b="b"/>
            <a:pathLst>
              <a:path w="770" h="2333">
                <a:moveTo>
                  <a:pt x="10864" y="16197"/>
                </a:moveTo>
                <a:cubicBezTo>
                  <a:pt x="10910" y="16304"/>
                  <a:pt x="10905" y="16436"/>
                  <a:pt x="10840" y="16545"/>
                </a:cubicBezTo>
                <a:cubicBezTo>
                  <a:pt x="10823" y="16561"/>
                  <a:pt x="10807" y="16578"/>
                  <a:pt x="10790" y="16594"/>
                </a:cubicBezTo>
                <a:cubicBezTo>
                  <a:pt x="10962" y="16533"/>
                  <a:pt x="11140" y="16431"/>
                  <a:pt x="11311" y="16446"/>
                </a:cubicBezTo>
              </a:path>
              <a:path w="770" h="2333">
                <a:moveTo>
                  <a:pt x="11212" y="15825"/>
                </a:moveTo>
                <a:cubicBezTo>
                  <a:pt x="11148" y="16171"/>
                  <a:pt x="11119" y="16514"/>
                  <a:pt x="11112" y="16867"/>
                </a:cubicBezTo>
                <a:cubicBezTo>
                  <a:pt x="11112" y="16925"/>
                  <a:pt x="11112" y="16933"/>
                  <a:pt x="11112" y="16966"/>
                </a:cubicBezTo>
              </a:path>
              <a:path w="770" h="2333">
                <a:moveTo>
                  <a:pt x="10765" y="17090"/>
                </a:moveTo>
                <a:cubicBezTo>
                  <a:pt x="11020" y="16995"/>
                  <a:pt x="11273" y="16919"/>
                  <a:pt x="11534" y="16842"/>
                </a:cubicBezTo>
              </a:path>
              <a:path w="770" h="2333">
                <a:moveTo>
                  <a:pt x="11088" y="17438"/>
                </a:moveTo>
                <a:cubicBezTo>
                  <a:pt x="11120" y="17291"/>
                  <a:pt x="11201" y="17265"/>
                  <a:pt x="11336" y="17214"/>
                </a:cubicBezTo>
                <a:cubicBezTo>
                  <a:pt x="11445" y="17398"/>
                  <a:pt x="11305" y="17547"/>
                  <a:pt x="11187" y="17711"/>
                </a:cubicBezTo>
                <a:cubicBezTo>
                  <a:pt x="11073" y="17870"/>
                  <a:pt x="11037" y="17961"/>
                  <a:pt x="10964" y="18132"/>
                </a:cubicBezTo>
                <a:cubicBezTo>
                  <a:pt x="10956" y="18140"/>
                  <a:pt x="10947" y="18149"/>
                  <a:pt x="10939" y="18157"/>
                </a:cubicBezTo>
                <a:cubicBezTo>
                  <a:pt x="10891" y="18037"/>
                  <a:pt x="10977" y="17869"/>
                  <a:pt x="11162" y="17884"/>
                </a:cubicBezTo>
                <a:cubicBezTo>
                  <a:pt x="11285" y="17894"/>
                  <a:pt x="11284" y="18061"/>
                  <a:pt x="11410" y="18033"/>
                </a:cubicBezTo>
                <a:cubicBezTo>
                  <a:pt x="11427" y="18025"/>
                  <a:pt x="11443" y="18016"/>
                  <a:pt x="11460" y="1800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4920" y="5572080"/>
            <a:ext cx="2036880" cy="849240"/>
          </a:xfrm>
          <a:custGeom>
            <a:avLst/>
            <a:gdLst/>
            <a:ahLst/>
            <a:rect l="l" t="t" r="r" b="b"/>
            <a:pathLst>
              <a:path w="5656" h="2358">
                <a:moveTo>
                  <a:pt x="14238" y="16743"/>
                </a:moveTo>
                <a:cubicBezTo>
                  <a:pt x="14224" y="16825"/>
                  <a:pt x="14102" y="17154"/>
                  <a:pt x="14312" y="17115"/>
                </a:cubicBezTo>
                <a:cubicBezTo>
                  <a:pt x="14472" y="17047"/>
                  <a:pt x="14518" y="17030"/>
                  <a:pt x="14610" y="16966"/>
                </a:cubicBezTo>
              </a:path>
              <a:path w="5656" h="2358">
                <a:moveTo>
                  <a:pt x="14511" y="16694"/>
                </a:moveTo>
                <a:cubicBezTo>
                  <a:pt x="14490" y="16959"/>
                  <a:pt x="14469" y="17222"/>
                  <a:pt x="14461" y="17487"/>
                </a:cubicBezTo>
              </a:path>
              <a:path w="5656" h="2358">
                <a:moveTo>
                  <a:pt x="14114" y="17562"/>
                </a:moveTo>
                <a:cubicBezTo>
                  <a:pt x="14103" y="17192"/>
                  <a:pt x="13999" y="16880"/>
                  <a:pt x="13940" y="16520"/>
                </a:cubicBezTo>
                <a:cubicBezTo>
                  <a:pt x="13940" y="16435"/>
                  <a:pt x="13934" y="16415"/>
                  <a:pt x="13965" y="16371"/>
                </a:cubicBezTo>
                <a:cubicBezTo>
                  <a:pt x="14115" y="16348"/>
                  <a:pt x="14250" y="16389"/>
                  <a:pt x="14412" y="16396"/>
                </a:cubicBezTo>
                <a:cubicBezTo>
                  <a:pt x="14704" y="16408"/>
                  <a:pt x="14998" y="16392"/>
                  <a:pt x="15280" y="16321"/>
                </a:cubicBezTo>
              </a:path>
              <a:path w="5656" h="2358">
                <a:moveTo>
                  <a:pt x="13395" y="16718"/>
                </a:moveTo>
                <a:cubicBezTo>
                  <a:pt x="13387" y="16751"/>
                  <a:pt x="13378" y="16785"/>
                  <a:pt x="13370" y="16818"/>
                </a:cubicBezTo>
                <a:cubicBezTo>
                  <a:pt x="13310" y="16876"/>
                  <a:pt x="13476" y="16688"/>
                  <a:pt x="13543" y="16793"/>
                </a:cubicBezTo>
                <a:cubicBezTo>
                  <a:pt x="13684" y="17011"/>
                  <a:pt x="13436" y="17266"/>
                  <a:pt x="13246" y="17314"/>
                </a:cubicBezTo>
                <a:cubicBezTo>
                  <a:pt x="13145" y="17314"/>
                  <a:pt x="13114" y="17334"/>
                  <a:pt x="13097" y="17264"/>
                </a:cubicBezTo>
                <a:cubicBezTo>
                  <a:pt x="13228" y="17121"/>
                  <a:pt x="13431" y="17040"/>
                  <a:pt x="13568" y="17264"/>
                </a:cubicBezTo>
                <a:cubicBezTo>
                  <a:pt x="13589" y="17389"/>
                  <a:pt x="13605" y="17416"/>
                  <a:pt x="13568" y="17487"/>
                </a:cubicBezTo>
              </a:path>
              <a:path w="5656" h="2358">
                <a:moveTo>
                  <a:pt x="14486" y="15652"/>
                </a:moveTo>
                <a:cubicBezTo>
                  <a:pt x="14541" y="15474"/>
                  <a:pt x="14553" y="15511"/>
                  <a:pt x="14734" y="15478"/>
                </a:cubicBezTo>
                <a:cubicBezTo>
                  <a:pt x="14844" y="15750"/>
                  <a:pt x="14846" y="16084"/>
                  <a:pt x="14486" y="16222"/>
                </a:cubicBezTo>
                <a:cubicBezTo>
                  <a:pt x="14445" y="16214"/>
                  <a:pt x="14403" y="16205"/>
                  <a:pt x="14362" y="16197"/>
                </a:cubicBezTo>
                <a:cubicBezTo>
                  <a:pt x="14328" y="15981"/>
                  <a:pt x="14410" y="15875"/>
                  <a:pt x="14660" y="15974"/>
                </a:cubicBezTo>
                <a:cubicBezTo>
                  <a:pt x="14804" y="16031"/>
                  <a:pt x="14795" y="16069"/>
                  <a:pt x="14808" y="16197"/>
                </a:cubicBezTo>
              </a:path>
              <a:path w="5656" h="2358">
                <a:moveTo>
                  <a:pt x="15900" y="16793"/>
                </a:moveTo>
                <a:cubicBezTo>
                  <a:pt x="16080" y="16753"/>
                  <a:pt x="16238" y="16726"/>
                  <a:pt x="16421" y="16718"/>
                </a:cubicBezTo>
              </a:path>
              <a:path w="5656" h="2358">
                <a:moveTo>
                  <a:pt x="15925" y="17090"/>
                </a:moveTo>
                <a:cubicBezTo>
                  <a:pt x="16123" y="17041"/>
                  <a:pt x="16189" y="17025"/>
                  <a:pt x="16321" y="16991"/>
                </a:cubicBezTo>
              </a:path>
              <a:path w="5656" h="2358">
                <a:moveTo>
                  <a:pt x="17239" y="16446"/>
                </a:moveTo>
                <a:cubicBezTo>
                  <a:pt x="17216" y="16630"/>
                  <a:pt x="17257" y="16453"/>
                  <a:pt x="17363" y="16371"/>
                </a:cubicBezTo>
                <a:cubicBezTo>
                  <a:pt x="17404" y="16346"/>
                  <a:pt x="17446" y="16322"/>
                  <a:pt x="17487" y="16297"/>
                </a:cubicBezTo>
                <a:cubicBezTo>
                  <a:pt x="17797" y="16475"/>
                  <a:pt x="17915" y="16751"/>
                  <a:pt x="17636" y="17090"/>
                </a:cubicBezTo>
                <a:cubicBezTo>
                  <a:pt x="17472" y="17290"/>
                  <a:pt x="17323" y="17320"/>
                  <a:pt x="17115" y="17289"/>
                </a:cubicBezTo>
                <a:cubicBezTo>
                  <a:pt x="17226" y="17056"/>
                  <a:pt x="17402" y="16977"/>
                  <a:pt x="17661" y="17140"/>
                </a:cubicBezTo>
                <a:cubicBezTo>
                  <a:pt x="17765" y="17244"/>
                  <a:pt x="17790" y="17261"/>
                  <a:pt x="17835" y="17338"/>
                </a:cubicBezTo>
              </a:path>
              <a:path w="5656" h="2358">
                <a:moveTo>
                  <a:pt x="17140" y="17711"/>
                </a:moveTo>
                <a:cubicBezTo>
                  <a:pt x="17677" y="17720"/>
                  <a:pt x="18459" y="17707"/>
                  <a:pt x="18703" y="17090"/>
                </a:cubicBezTo>
                <a:cubicBezTo>
                  <a:pt x="18906" y="16577"/>
                  <a:pt x="18585" y="15979"/>
                  <a:pt x="18058" y="15850"/>
                </a:cubicBezTo>
                <a:cubicBezTo>
                  <a:pt x="17288" y="15662"/>
                  <a:pt x="16734" y="15950"/>
                  <a:pt x="16594" y="16718"/>
                </a:cubicBezTo>
                <a:cubicBezTo>
                  <a:pt x="16495" y="17259"/>
                  <a:pt x="16603" y="17887"/>
                  <a:pt x="17289" y="17835"/>
                </a:cubicBezTo>
                <a:cubicBezTo>
                  <a:pt x="17438" y="17794"/>
                  <a:pt x="17586" y="17752"/>
                  <a:pt x="17735" y="1771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37200" y="3670200"/>
            <a:ext cx="428760" cy="17640"/>
          </a:xfrm>
          <a:custGeom>
            <a:avLst/>
            <a:gdLst/>
            <a:ahLst/>
            <a:rect l="l" t="t" r="r" b="b"/>
            <a:pathLst>
              <a:path w="1192" h="50">
                <a:moveTo>
                  <a:pt x="16768" y="10244"/>
                </a:moveTo>
                <a:cubicBezTo>
                  <a:pt x="17033" y="10234"/>
                  <a:pt x="17295" y="10220"/>
                  <a:pt x="17562" y="10220"/>
                </a:cubicBezTo>
                <a:cubicBezTo>
                  <a:pt x="17717" y="10220"/>
                  <a:pt x="17812" y="10211"/>
                  <a:pt x="17959" y="1019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Flip a Fraction to Divi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division sign to a multiplic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p the second fraction. (multiply by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roca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5960" y="1295280"/>
            <a:ext cx="687240" cy="500040"/>
          </a:xfrm>
          <a:custGeom>
            <a:avLst/>
            <a:gdLst/>
            <a:ahLst/>
            <a:rect l="l" t="t" r="r" b="b"/>
            <a:pathLst>
              <a:path w="1911" h="1390">
                <a:moveTo>
                  <a:pt x="14709" y="3696"/>
                </a:moveTo>
                <a:cubicBezTo>
                  <a:pt x="14732" y="3945"/>
                  <a:pt x="14721" y="4216"/>
                  <a:pt x="14833" y="4440"/>
                </a:cubicBezTo>
                <a:cubicBezTo>
                  <a:pt x="15057" y="4230"/>
                  <a:pt x="15026" y="3981"/>
                  <a:pt x="15032" y="3671"/>
                </a:cubicBezTo>
                <a:cubicBezTo>
                  <a:pt x="15032" y="3646"/>
                  <a:pt x="15032" y="3622"/>
                  <a:pt x="15032" y="3597"/>
                </a:cubicBezTo>
                <a:cubicBezTo>
                  <a:pt x="15072" y="3867"/>
                  <a:pt x="15141" y="4132"/>
                  <a:pt x="15230" y="4390"/>
                </a:cubicBezTo>
              </a:path>
              <a:path w="1911" h="1390">
                <a:moveTo>
                  <a:pt x="15429" y="3894"/>
                </a:moveTo>
                <a:cubicBezTo>
                  <a:pt x="15363" y="3981"/>
                  <a:pt x="15343" y="4000"/>
                  <a:pt x="15329" y="4068"/>
                </a:cubicBezTo>
                <a:cubicBezTo>
                  <a:pt x="15476" y="4109"/>
                  <a:pt x="15757" y="4173"/>
                  <a:pt x="15577" y="4390"/>
                </a:cubicBezTo>
                <a:cubicBezTo>
                  <a:pt x="15451" y="4466"/>
                  <a:pt x="15408" y="4491"/>
                  <a:pt x="15304" y="4440"/>
                </a:cubicBezTo>
              </a:path>
              <a:path w="1911" h="1390">
                <a:moveTo>
                  <a:pt x="15751" y="4217"/>
                </a:moveTo>
                <a:cubicBezTo>
                  <a:pt x="15784" y="4258"/>
                  <a:pt x="15817" y="4300"/>
                  <a:pt x="15850" y="4341"/>
                </a:cubicBezTo>
              </a:path>
              <a:path w="1911" h="1390">
                <a:moveTo>
                  <a:pt x="15701" y="3944"/>
                </a:moveTo>
                <a:lnTo>
                  <a:pt x="15701" y="3944"/>
                </a:lnTo>
              </a:path>
              <a:path w="1911" h="1390">
                <a:moveTo>
                  <a:pt x="16073" y="4415"/>
                </a:moveTo>
                <a:cubicBezTo>
                  <a:pt x="16136" y="4296"/>
                  <a:pt x="16007" y="4211"/>
                  <a:pt x="16073" y="4093"/>
                </a:cubicBezTo>
                <a:cubicBezTo>
                  <a:pt x="16179" y="3902"/>
                  <a:pt x="16326" y="4340"/>
                  <a:pt x="16346" y="4390"/>
                </a:cubicBezTo>
                <a:cubicBezTo>
                  <a:pt x="16476" y="4424"/>
                  <a:pt x="16462" y="4284"/>
                  <a:pt x="16446" y="4167"/>
                </a:cubicBezTo>
                <a:cubicBezTo>
                  <a:pt x="16422" y="4308"/>
                  <a:pt x="16412" y="4350"/>
                  <a:pt x="16446" y="4440"/>
                </a:cubicBezTo>
                <a:cubicBezTo>
                  <a:pt x="16467" y="4291"/>
                  <a:pt x="16422" y="4157"/>
                  <a:pt x="16495" y="4316"/>
                </a:cubicBezTo>
                <a:cubicBezTo>
                  <a:pt x="16585" y="4512"/>
                  <a:pt x="16739" y="4923"/>
                  <a:pt x="16371" y="4986"/>
                </a:cubicBezTo>
                <a:cubicBezTo>
                  <a:pt x="16321" y="4969"/>
                  <a:pt x="16272" y="4953"/>
                  <a:pt x="16222" y="493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7960" y="1187280"/>
            <a:ext cx="2251080" cy="608040"/>
          </a:xfrm>
          <a:custGeom>
            <a:avLst/>
            <a:gdLst/>
            <a:ahLst/>
            <a:rect l="l" t="t" r="r" b="b"/>
            <a:pathLst>
              <a:path w="6252" h="1688">
                <a:moveTo>
                  <a:pt x="17810" y="3919"/>
                </a:moveTo>
                <a:cubicBezTo>
                  <a:pt x="17876" y="4096"/>
                  <a:pt x="17937" y="4252"/>
                  <a:pt x="17959" y="4440"/>
                </a:cubicBezTo>
              </a:path>
              <a:path w="6252" h="1688">
                <a:moveTo>
                  <a:pt x="17661" y="3696"/>
                </a:moveTo>
                <a:lnTo>
                  <a:pt x="17661" y="3696"/>
                </a:lnTo>
              </a:path>
              <a:path w="6252" h="1688">
                <a:moveTo>
                  <a:pt x="18157" y="4018"/>
                </a:moveTo>
                <a:cubicBezTo>
                  <a:pt x="18261" y="4164"/>
                  <a:pt x="18287" y="4192"/>
                  <a:pt x="18331" y="4291"/>
                </a:cubicBezTo>
                <a:cubicBezTo>
                  <a:pt x="18203" y="4094"/>
                  <a:pt x="18186" y="4057"/>
                  <a:pt x="18281" y="3845"/>
                </a:cubicBezTo>
                <a:cubicBezTo>
                  <a:pt x="18511" y="3939"/>
                  <a:pt x="18549" y="4089"/>
                  <a:pt x="18579" y="4341"/>
                </a:cubicBezTo>
              </a:path>
              <a:path w="6252" h="1688">
                <a:moveTo>
                  <a:pt x="18554" y="3944"/>
                </a:moveTo>
                <a:cubicBezTo>
                  <a:pt x="18681" y="4007"/>
                  <a:pt x="18756" y="4111"/>
                  <a:pt x="18852" y="4217"/>
                </a:cubicBezTo>
                <a:cubicBezTo>
                  <a:pt x="18873" y="4109"/>
                  <a:pt x="18883" y="4003"/>
                  <a:pt x="18901" y="3894"/>
                </a:cubicBezTo>
              </a:path>
              <a:path w="6252" h="1688">
                <a:moveTo>
                  <a:pt x="18976" y="4043"/>
                </a:moveTo>
                <a:cubicBezTo>
                  <a:pt x="19101" y="4025"/>
                  <a:pt x="19137" y="4006"/>
                  <a:pt x="19174" y="3894"/>
                </a:cubicBezTo>
                <a:cubicBezTo>
                  <a:pt x="19009" y="3922"/>
                  <a:pt x="18937" y="4032"/>
                  <a:pt x="18976" y="4217"/>
                </a:cubicBezTo>
                <a:cubicBezTo>
                  <a:pt x="19007" y="4365"/>
                  <a:pt x="19121" y="4292"/>
                  <a:pt x="19199" y="4266"/>
                </a:cubicBezTo>
              </a:path>
              <a:path w="6252" h="1688">
                <a:moveTo>
                  <a:pt x="19273" y="4018"/>
                </a:moveTo>
                <a:cubicBezTo>
                  <a:pt x="19316" y="4125"/>
                  <a:pt x="19327" y="4149"/>
                  <a:pt x="19348" y="4217"/>
                </a:cubicBezTo>
                <a:cubicBezTo>
                  <a:pt x="19322" y="4155"/>
                  <a:pt x="19202" y="3920"/>
                  <a:pt x="19323" y="3870"/>
                </a:cubicBezTo>
                <a:cubicBezTo>
                  <a:pt x="19356" y="3870"/>
                  <a:pt x="19389" y="3870"/>
                  <a:pt x="19422" y="3870"/>
                </a:cubicBezTo>
              </a:path>
              <a:path w="6252" h="1688">
                <a:moveTo>
                  <a:pt x="19695" y="3845"/>
                </a:moveTo>
                <a:cubicBezTo>
                  <a:pt x="19636" y="3924"/>
                  <a:pt x="19611" y="3933"/>
                  <a:pt x="19621" y="3994"/>
                </a:cubicBezTo>
                <a:cubicBezTo>
                  <a:pt x="19766" y="4002"/>
                  <a:pt x="19804" y="4011"/>
                  <a:pt x="19918" y="4093"/>
                </a:cubicBezTo>
                <a:cubicBezTo>
                  <a:pt x="19780" y="4231"/>
                  <a:pt x="19762" y="4241"/>
                  <a:pt x="19571" y="4242"/>
                </a:cubicBezTo>
              </a:path>
              <a:path w="6252" h="1688">
                <a:moveTo>
                  <a:pt x="19943" y="3944"/>
                </a:moveTo>
                <a:cubicBezTo>
                  <a:pt x="20080" y="3944"/>
                  <a:pt x="20221" y="4011"/>
                  <a:pt x="20216" y="3845"/>
                </a:cubicBezTo>
                <a:cubicBezTo>
                  <a:pt x="20208" y="3804"/>
                  <a:pt x="20199" y="3762"/>
                  <a:pt x="20191" y="3721"/>
                </a:cubicBezTo>
                <a:cubicBezTo>
                  <a:pt x="20028" y="3769"/>
                  <a:pt x="19901" y="3935"/>
                  <a:pt x="20042" y="4142"/>
                </a:cubicBezTo>
                <a:cubicBezTo>
                  <a:pt x="20159" y="4314"/>
                  <a:pt x="20307" y="4203"/>
                  <a:pt x="20464" y="4167"/>
                </a:cubicBezTo>
              </a:path>
              <a:path w="6252" h="1688">
                <a:moveTo>
                  <a:pt x="20737" y="3299"/>
                </a:moveTo>
                <a:cubicBezTo>
                  <a:pt x="20737" y="3723"/>
                  <a:pt x="20579" y="4226"/>
                  <a:pt x="20489" y="4663"/>
                </a:cubicBezTo>
                <a:cubicBezTo>
                  <a:pt x="20450" y="4854"/>
                  <a:pt x="20452" y="4882"/>
                  <a:pt x="20414" y="4986"/>
                </a:cubicBezTo>
              </a:path>
              <a:path w="6252" h="1688">
                <a:moveTo>
                  <a:pt x="20762" y="4415"/>
                </a:moveTo>
                <a:cubicBezTo>
                  <a:pt x="20780" y="4526"/>
                  <a:pt x="20761" y="4548"/>
                  <a:pt x="20811" y="4589"/>
                </a:cubicBezTo>
                <a:cubicBezTo>
                  <a:pt x="20820" y="4424"/>
                  <a:pt x="20801" y="4145"/>
                  <a:pt x="20935" y="4018"/>
                </a:cubicBezTo>
                <a:cubicBezTo>
                  <a:pt x="20952" y="4018"/>
                  <a:pt x="20968" y="4018"/>
                  <a:pt x="20985" y="4018"/>
                </a:cubicBezTo>
              </a:path>
              <a:path w="6252" h="1688">
                <a:moveTo>
                  <a:pt x="21059" y="4341"/>
                </a:moveTo>
                <a:cubicBezTo>
                  <a:pt x="21160" y="4290"/>
                  <a:pt x="21221" y="4278"/>
                  <a:pt x="21307" y="4192"/>
                </a:cubicBezTo>
                <a:cubicBezTo>
                  <a:pt x="21151" y="4143"/>
                  <a:pt x="20946" y="4197"/>
                  <a:pt x="21010" y="4440"/>
                </a:cubicBezTo>
                <a:cubicBezTo>
                  <a:pt x="21099" y="4574"/>
                  <a:pt x="21114" y="4623"/>
                  <a:pt x="21233" y="4589"/>
                </a:cubicBezTo>
              </a:path>
              <a:path w="6252" h="1688">
                <a:moveTo>
                  <a:pt x="21456" y="4118"/>
                </a:moveTo>
                <a:cubicBezTo>
                  <a:pt x="21482" y="4182"/>
                  <a:pt x="21517" y="4313"/>
                  <a:pt x="21481" y="4118"/>
                </a:cubicBezTo>
                <a:cubicBezTo>
                  <a:pt x="21415" y="4222"/>
                  <a:pt x="21150" y="4681"/>
                  <a:pt x="21506" y="4614"/>
                </a:cubicBezTo>
                <a:cubicBezTo>
                  <a:pt x="21679" y="4514"/>
                  <a:pt x="21737" y="4481"/>
                  <a:pt x="21779" y="4341"/>
                </a:cubicBezTo>
                <a:cubicBezTo>
                  <a:pt x="21865" y="4296"/>
                  <a:pt x="21829" y="4416"/>
                  <a:pt x="21878" y="4589"/>
                </a:cubicBezTo>
              </a:path>
              <a:path w="6252" h="1688">
                <a:moveTo>
                  <a:pt x="21754" y="3994"/>
                </a:moveTo>
                <a:lnTo>
                  <a:pt x="21754" y="3994"/>
                </a:lnTo>
              </a:path>
              <a:path w="6252" h="1688">
                <a:moveTo>
                  <a:pt x="22002" y="4514"/>
                </a:moveTo>
                <a:cubicBezTo>
                  <a:pt x="22045" y="4731"/>
                  <a:pt x="22051" y="4783"/>
                  <a:pt x="22101" y="4911"/>
                </a:cubicBezTo>
                <a:cubicBezTo>
                  <a:pt x="22012" y="4604"/>
                  <a:pt x="21908" y="4396"/>
                  <a:pt x="22101" y="4142"/>
                </a:cubicBezTo>
                <a:cubicBezTo>
                  <a:pt x="22306" y="4379"/>
                  <a:pt x="22343" y="4473"/>
                  <a:pt x="22027" y="4589"/>
                </a:cubicBezTo>
              </a:path>
              <a:path w="6252" h="1688">
                <a:moveTo>
                  <a:pt x="22299" y="4341"/>
                </a:moveTo>
                <a:cubicBezTo>
                  <a:pt x="22360" y="4462"/>
                  <a:pt x="22385" y="4481"/>
                  <a:pt x="22374" y="4564"/>
                </a:cubicBezTo>
                <a:cubicBezTo>
                  <a:pt x="22407" y="4355"/>
                  <a:pt x="22377" y="4226"/>
                  <a:pt x="22572" y="4142"/>
                </a:cubicBezTo>
                <a:cubicBezTo>
                  <a:pt x="22745" y="4161"/>
                  <a:pt x="22669" y="4369"/>
                  <a:pt x="22696" y="4514"/>
                </a:cubicBezTo>
                <a:cubicBezTo>
                  <a:pt x="22704" y="4531"/>
                  <a:pt x="22713" y="4547"/>
                  <a:pt x="22721" y="4564"/>
                </a:cubicBezTo>
              </a:path>
              <a:path w="6252" h="1688">
                <a:moveTo>
                  <a:pt x="22696" y="3919"/>
                </a:moveTo>
                <a:lnTo>
                  <a:pt x="22696" y="3919"/>
                </a:lnTo>
              </a:path>
              <a:path w="6252" h="1688">
                <a:moveTo>
                  <a:pt x="23143" y="4142"/>
                </a:moveTo>
                <a:cubicBezTo>
                  <a:pt x="23028" y="4007"/>
                  <a:pt x="22920" y="4248"/>
                  <a:pt x="22920" y="4366"/>
                </a:cubicBezTo>
                <a:cubicBezTo>
                  <a:pt x="22936" y="4407"/>
                  <a:pt x="22953" y="4449"/>
                  <a:pt x="22969" y="4490"/>
                </a:cubicBezTo>
              </a:path>
              <a:path w="6252" h="1688">
                <a:moveTo>
                  <a:pt x="23465" y="4167"/>
                </a:moveTo>
                <a:cubicBezTo>
                  <a:pt x="23391" y="4233"/>
                  <a:pt x="23357" y="4297"/>
                  <a:pt x="23316" y="4390"/>
                </a:cubicBezTo>
                <a:cubicBezTo>
                  <a:pt x="23578" y="4303"/>
                  <a:pt x="23339" y="4311"/>
                  <a:pt x="23540" y="4390"/>
                </a:cubicBezTo>
                <a:cubicBezTo>
                  <a:pt x="23581" y="4390"/>
                  <a:pt x="23623" y="4390"/>
                  <a:pt x="23664" y="4390"/>
                </a:cubicBezTo>
                <a:cubicBezTo>
                  <a:pt x="23845" y="4139"/>
                  <a:pt x="23862" y="3986"/>
                  <a:pt x="23862" y="3671"/>
                </a:cubicBezTo>
                <a:cubicBezTo>
                  <a:pt x="23823" y="3863"/>
                  <a:pt x="23694" y="4173"/>
                  <a:pt x="23862" y="4341"/>
                </a:cubicBezTo>
                <a:cubicBezTo>
                  <a:pt x="23879" y="4349"/>
                  <a:pt x="23895" y="4358"/>
                  <a:pt x="23912" y="4366"/>
                </a:cubicBezTo>
              </a:path>
              <a:path w="6252" h="1688">
                <a:moveTo>
                  <a:pt x="22647" y="4192"/>
                </a:moveTo>
                <a:cubicBezTo>
                  <a:pt x="22624" y="4321"/>
                  <a:pt x="22633" y="4413"/>
                  <a:pt x="22647" y="4539"/>
                </a:cubicBezTo>
                <a:cubicBezTo>
                  <a:pt x="22755" y="4559"/>
                  <a:pt x="22806" y="4557"/>
                  <a:pt x="22845" y="4440"/>
                </a:cubicBezTo>
                <a:cubicBezTo>
                  <a:pt x="22865" y="4381"/>
                  <a:pt x="22870" y="4331"/>
                  <a:pt x="22870" y="4266"/>
                </a:cubicBezTo>
                <a:cubicBezTo>
                  <a:pt x="22870" y="4204"/>
                  <a:pt x="22848" y="4154"/>
                  <a:pt x="22796" y="4118"/>
                </a:cubicBezTo>
                <a:cubicBezTo>
                  <a:pt x="22754" y="4089"/>
                  <a:pt x="22669" y="4120"/>
                  <a:pt x="22647" y="4167"/>
                </a:cubicBezTo>
                <a:cubicBezTo>
                  <a:pt x="22611" y="4245"/>
                  <a:pt x="22586" y="4337"/>
                  <a:pt x="22622" y="4415"/>
                </a:cubicBezTo>
                <a:cubicBezTo>
                  <a:pt x="22647" y="4440"/>
                  <a:pt x="22655" y="4448"/>
                  <a:pt x="22671" y="446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29160" y="1598760"/>
            <a:ext cx="1965240" cy="179280"/>
          </a:xfrm>
          <a:custGeom>
            <a:avLst/>
            <a:gdLst/>
            <a:ahLst/>
            <a:rect l="l" t="t" r="r" b="b"/>
            <a:pathLst>
              <a:path w="5458" h="497">
                <a:moveTo>
                  <a:pt x="15081" y="4936"/>
                </a:moveTo>
                <a:cubicBezTo>
                  <a:pt x="15282" y="4859"/>
                  <a:pt x="15460" y="4840"/>
                  <a:pt x="15677" y="4837"/>
                </a:cubicBezTo>
                <a:cubicBezTo>
                  <a:pt x="15927" y="4833"/>
                  <a:pt x="16173" y="4800"/>
                  <a:pt x="16421" y="4787"/>
                </a:cubicBezTo>
                <a:cubicBezTo>
                  <a:pt x="16653" y="4775"/>
                  <a:pt x="16885" y="4777"/>
                  <a:pt x="17115" y="4762"/>
                </a:cubicBezTo>
                <a:cubicBezTo>
                  <a:pt x="17296" y="4750"/>
                  <a:pt x="17481" y="4748"/>
                  <a:pt x="17661" y="4738"/>
                </a:cubicBezTo>
                <a:cubicBezTo>
                  <a:pt x="17848" y="4728"/>
                  <a:pt x="18046" y="4736"/>
                  <a:pt x="18231" y="4713"/>
                </a:cubicBezTo>
                <a:cubicBezTo>
                  <a:pt x="18419" y="4690"/>
                  <a:pt x="18614" y="4689"/>
                  <a:pt x="18802" y="4663"/>
                </a:cubicBezTo>
                <a:cubicBezTo>
                  <a:pt x="18959" y="4641"/>
                  <a:pt x="19116" y="4624"/>
                  <a:pt x="19273" y="4589"/>
                </a:cubicBezTo>
                <a:cubicBezTo>
                  <a:pt x="19444" y="4550"/>
                  <a:pt x="19621" y="4562"/>
                  <a:pt x="19794" y="4539"/>
                </a:cubicBezTo>
                <a:cubicBezTo>
                  <a:pt x="19950" y="4518"/>
                  <a:pt x="20109" y="4512"/>
                  <a:pt x="20265" y="4490"/>
                </a:cubicBezTo>
                <a:cubicBezTo>
                  <a:pt x="20356" y="4477"/>
                  <a:pt x="20449" y="4456"/>
                  <a:pt x="20538" y="444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88000" y="3544920"/>
            <a:ext cx="1706400" cy="750960"/>
          </a:xfrm>
          <a:custGeom>
            <a:avLst/>
            <a:gdLst/>
            <a:ahLst/>
            <a:rect l="l" t="t" r="r" b="b"/>
            <a:pathLst>
              <a:path w="4738" h="2085">
                <a:moveTo>
                  <a:pt x="16594" y="9847"/>
                </a:moveTo>
                <a:cubicBezTo>
                  <a:pt x="16450" y="9865"/>
                  <a:pt x="16195" y="9809"/>
                  <a:pt x="16148" y="9971"/>
                </a:cubicBezTo>
                <a:cubicBezTo>
                  <a:pt x="16127" y="10137"/>
                  <a:pt x="16127" y="10172"/>
                  <a:pt x="16098" y="10269"/>
                </a:cubicBezTo>
                <a:cubicBezTo>
                  <a:pt x="16266" y="10270"/>
                  <a:pt x="16407" y="10071"/>
                  <a:pt x="16644" y="10170"/>
                </a:cubicBezTo>
                <a:cubicBezTo>
                  <a:pt x="16685" y="10211"/>
                  <a:pt x="16727" y="10253"/>
                  <a:pt x="16768" y="10294"/>
                </a:cubicBezTo>
                <a:cubicBezTo>
                  <a:pt x="16697" y="10567"/>
                  <a:pt x="16520" y="10696"/>
                  <a:pt x="16197" y="10616"/>
                </a:cubicBezTo>
                <a:cubicBezTo>
                  <a:pt x="16156" y="10591"/>
                  <a:pt x="16114" y="10567"/>
                  <a:pt x="16073" y="10542"/>
                </a:cubicBezTo>
              </a:path>
              <a:path w="4738" h="2085">
                <a:moveTo>
                  <a:pt x="15801" y="10815"/>
                </a:moveTo>
                <a:cubicBezTo>
                  <a:pt x="16231" y="10763"/>
                  <a:pt x="16708" y="10640"/>
                  <a:pt x="17140" y="10716"/>
                </a:cubicBezTo>
                <a:cubicBezTo>
                  <a:pt x="17148" y="10724"/>
                  <a:pt x="17157" y="10732"/>
                  <a:pt x="17165" y="10740"/>
                </a:cubicBezTo>
              </a:path>
              <a:path w="4738" h="2085">
                <a:moveTo>
                  <a:pt x="16173" y="11311"/>
                </a:moveTo>
                <a:cubicBezTo>
                  <a:pt x="16204" y="11541"/>
                  <a:pt x="16231" y="11684"/>
                  <a:pt x="16197" y="11906"/>
                </a:cubicBezTo>
              </a:path>
              <a:path w="4738" h="2085">
                <a:moveTo>
                  <a:pt x="16520" y="11212"/>
                </a:moveTo>
                <a:cubicBezTo>
                  <a:pt x="16764" y="11096"/>
                  <a:pt x="16977" y="11138"/>
                  <a:pt x="17090" y="11435"/>
                </a:cubicBezTo>
                <a:cubicBezTo>
                  <a:pt x="17211" y="11754"/>
                  <a:pt x="16901" y="12013"/>
                  <a:pt x="16594" y="11931"/>
                </a:cubicBezTo>
                <a:cubicBezTo>
                  <a:pt x="16553" y="11898"/>
                  <a:pt x="16511" y="11865"/>
                  <a:pt x="16470" y="11832"/>
                </a:cubicBezTo>
                <a:cubicBezTo>
                  <a:pt x="16658" y="11623"/>
                  <a:pt x="16867" y="11509"/>
                  <a:pt x="17165" y="11633"/>
                </a:cubicBezTo>
                <a:cubicBezTo>
                  <a:pt x="17226" y="11695"/>
                  <a:pt x="17250" y="11701"/>
                  <a:pt x="17239" y="11757"/>
                </a:cubicBezTo>
              </a:path>
              <a:path w="4738" h="2085">
                <a:moveTo>
                  <a:pt x="17785" y="10840"/>
                </a:moveTo>
                <a:cubicBezTo>
                  <a:pt x="18048" y="10820"/>
                  <a:pt x="18317" y="10796"/>
                  <a:pt x="18579" y="10765"/>
                </a:cubicBezTo>
                <a:cubicBezTo>
                  <a:pt x="18686" y="10747"/>
                  <a:pt x="18694" y="10739"/>
                  <a:pt x="18752" y="10740"/>
                </a:cubicBezTo>
              </a:path>
              <a:path w="4738" h="2085">
                <a:moveTo>
                  <a:pt x="18107" y="10319"/>
                </a:moveTo>
                <a:lnTo>
                  <a:pt x="18107" y="10319"/>
                </a:lnTo>
              </a:path>
              <a:path w="4738" h="2085">
                <a:moveTo>
                  <a:pt x="18306" y="11212"/>
                </a:moveTo>
                <a:lnTo>
                  <a:pt x="18306" y="11212"/>
                </a:lnTo>
              </a:path>
              <a:path w="4738" h="2085">
                <a:moveTo>
                  <a:pt x="19943" y="9947"/>
                </a:moveTo>
                <a:cubicBezTo>
                  <a:pt x="19833" y="9978"/>
                  <a:pt x="19697" y="9962"/>
                  <a:pt x="19596" y="9996"/>
                </a:cubicBezTo>
                <a:cubicBezTo>
                  <a:pt x="19512" y="10024"/>
                  <a:pt x="19546" y="10273"/>
                  <a:pt x="19546" y="10344"/>
                </a:cubicBezTo>
                <a:cubicBezTo>
                  <a:pt x="19703" y="10265"/>
                  <a:pt x="19857" y="10180"/>
                  <a:pt x="20042" y="10220"/>
                </a:cubicBezTo>
                <a:cubicBezTo>
                  <a:pt x="20092" y="10245"/>
                  <a:pt x="20141" y="10269"/>
                  <a:pt x="20191" y="10294"/>
                </a:cubicBezTo>
                <a:cubicBezTo>
                  <a:pt x="20178" y="10560"/>
                  <a:pt x="20013" y="10652"/>
                  <a:pt x="19720" y="10616"/>
                </a:cubicBezTo>
                <a:cubicBezTo>
                  <a:pt x="19679" y="10600"/>
                  <a:pt x="19637" y="10583"/>
                  <a:pt x="19596" y="10567"/>
                </a:cubicBezTo>
              </a:path>
              <a:path w="4738" h="2085">
                <a:moveTo>
                  <a:pt x="19348" y="10864"/>
                </a:moveTo>
                <a:cubicBezTo>
                  <a:pt x="19678" y="10831"/>
                  <a:pt x="20007" y="10782"/>
                  <a:pt x="20340" y="10765"/>
                </a:cubicBezTo>
                <a:cubicBezTo>
                  <a:pt x="20456" y="10765"/>
                  <a:pt x="20472" y="10765"/>
                  <a:pt x="20538" y="10765"/>
                </a:cubicBezTo>
              </a:path>
              <a:path w="4738" h="2085">
                <a:moveTo>
                  <a:pt x="19819" y="11162"/>
                </a:moveTo>
                <a:cubicBezTo>
                  <a:pt x="19901" y="11100"/>
                  <a:pt x="20152" y="10970"/>
                  <a:pt x="20191" y="11187"/>
                </a:cubicBezTo>
                <a:cubicBezTo>
                  <a:pt x="20213" y="11307"/>
                  <a:pt x="20041" y="11407"/>
                  <a:pt x="19968" y="11460"/>
                </a:cubicBezTo>
                <a:cubicBezTo>
                  <a:pt x="20094" y="11371"/>
                  <a:pt x="20087" y="11394"/>
                  <a:pt x="20241" y="11435"/>
                </a:cubicBezTo>
                <a:cubicBezTo>
                  <a:pt x="20296" y="11726"/>
                  <a:pt x="20211" y="11763"/>
                  <a:pt x="19918" y="11782"/>
                </a:cubicBezTo>
                <a:cubicBezTo>
                  <a:pt x="19885" y="11782"/>
                  <a:pt x="19852" y="11782"/>
                  <a:pt x="19819" y="1178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4429080"/>
            <a:ext cx="420840" cy="982800"/>
          </a:xfrm>
          <a:custGeom>
            <a:avLst/>
            <a:gdLst/>
            <a:ahLst/>
            <a:rect l="l" t="t" r="r" b="b"/>
            <a:pathLst>
              <a:path w="1167" h="2730">
                <a:moveTo>
                  <a:pt x="17066" y="12353"/>
                </a:moveTo>
                <a:cubicBezTo>
                  <a:pt x="17002" y="12409"/>
                  <a:pt x="16891" y="12436"/>
                  <a:pt x="16842" y="12477"/>
                </a:cubicBezTo>
                <a:cubicBezTo>
                  <a:pt x="16774" y="12535"/>
                  <a:pt x="16774" y="12740"/>
                  <a:pt x="16743" y="12824"/>
                </a:cubicBezTo>
                <a:cubicBezTo>
                  <a:pt x="16915" y="12750"/>
                  <a:pt x="17215" y="12657"/>
                  <a:pt x="17165" y="12998"/>
                </a:cubicBezTo>
                <a:cubicBezTo>
                  <a:pt x="17128" y="13248"/>
                  <a:pt x="16855" y="13156"/>
                  <a:pt x="16718" y="13097"/>
                </a:cubicBezTo>
              </a:path>
              <a:path w="1167" h="2730">
                <a:moveTo>
                  <a:pt x="16446" y="13444"/>
                </a:moveTo>
                <a:cubicBezTo>
                  <a:pt x="16745" y="13394"/>
                  <a:pt x="17036" y="13318"/>
                  <a:pt x="17338" y="13295"/>
                </a:cubicBezTo>
              </a:path>
              <a:path w="1167" h="2730">
                <a:moveTo>
                  <a:pt x="16619" y="13593"/>
                </a:moveTo>
                <a:cubicBezTo>
                  <a:pt x="16619" y="13774"/>
                  <a:pt x="16637" y="13967"/>
                  <a:pt x="16594" y="14139"/>
                </a:cubicBezTo>
              </a:path>
              <a:path w="1167" h="2730">
                <a:moveTo>
                  <a:pt x="16991" y="13667"/>
                </a:moveTo>
                <a:cubicBezTo>
                  <a:pt x="17130" y="13618"/>
                  <a:pt x="17148" y="13632"/>
                  <a:pt x="17289" y="13667"/>
                </a:cubicBezTo>
                <a:cubicBezTo>
                  <a:pt x="17324" y="13855"/>
                  <a:pt x="17309" y="14144"/>
                  <a:pt x="17041" y="14188"/>
                </a:cubicBezTo>
                <a:cubicBezTo>
                  <a:pt x="17016" y="14172"/>
                  <a:pt x="16991" y="14155"/>
                  <a:pt x="16966" y="14139"/>
                </a:cubicBezTo>
                <a:cubicBezTo>
                  <a:pt x="16993" y="13945"/>
                  <a:pt x="17048" y="13777"/>
                  <a:pt x="17289" y="13915"/>
                </a:cubicBezTo>
                <a:cubicBezTo>
                  <a:pt x="17355" y="13982"/>
                  <a:pt x="17371" y="13998"/>
                  <a:pt x="17413" y="14039"/>
                </a:cubicBezTo>
              </a:path>
              <a:path w="1167" h="2730">
                <a:moveTo>
                  <a:pt x="17289" y="12303"/>
                </a:moveTo>
                <a:cubicBezTo>
                  <a:pt x="17073" y="12569"/>
                  <a:pt x="16846" y="12735"/>
                  <a:pt x="16594" y="12948"/>
                </a:cubicBezTo>
                <a:cubicBezTo>
                  <a:pt x="16586" y="12965"/>
                  <a:pt x="16578" y="12981"/>
                  <a:pt x="16570" y="12998"/>
                </a:cubicBezTo>
              </a:path>
              <a:path w="1167" h="2730">
                <a:moveTo>
                  <a:pt x="16297" y="12378"/>
                </a:moveTo>
                <a:cubicBezTo>
                  <a:pt x="16289" y="12353"/>
                  <a:pt x="16280" y="12328"/>
                  <a:pt x="16272" y="12303"/>
                </a:cubicBezTo>
                <a:cubicBezTo>
                  <a:pt x="16272" y="12488"/>
                  <a:pt x="16257" y="12666"/>
                  <a:pt x="16247" y="12849"/>
                </a:cubicBezTo>
              </a:path>
              <a:path w="1167" h="2730">
                <a:moveTo>
                  <a:pt x="17289" y="13643"/>
                </a:moveTo>
                <a:cubicBezTo>
                  <a:pt x="17321" y="13422"/>
                  <a:pt x="17023" y="13813"/>
                  <a:pt x="16991" y="13841"/>
                </a:cubicBezTo>
                <a:cubicBezTo>
                  <a:pt x="16791" y="14015"/>
                  <a:pt x="16595" y="14174"/>
                  <a:pt x="16371" y="14312"/>
                </a:cubicBezTo>
              </a:path>
              <a:path w="1167" h="2730">
                <a:moveTo>
                  <a:pt x="16942" y="14288"/>
                </a:moveTo>
                <a:cubicBezTo>
                  <a:pt x="16906" y="14436"/>
                  <a:pt x="16871" y="14531"/>
                  <a:pt x="16793" y="14660"/>
                </a:cubicBezTo>
                <a:cubicBezTo>
                  <a:pt x="16935" y="14640"/>
                  <a:pt x="17049" y="14600"/>
                  <a:pt x="17190" y="14560"/>
                </a:cubicBezTo>
              </a:path>
              <a:path w="1167" h="2730">
                <a:moveTo>
                  <a:pt x="17090" y="14362"/>
                </a:moveTo>
                <a:cubicBezTo>
                  <a:pt x="17083" y="14592"/>
                  <a:pt x="17072" y="14809"/>
                  <a:pt x="17016" y="1503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2800" y="4232160"/>
            <a:ext cx="1706400" cy="1054080"/>
          </a:xfrm>
          <a:custGeom>
            <a:avLst/>
            <a:gdLst/>
            <a:ahLst/>
            <a:rect l="l" t="t" r="r" b="b"/>
            <a:pathLst>
              <a:path w="4739" h="2928">
                <a:moveTo>
                  <a:pt x="18256" y="12700"/>
                </a:moveTo>
                <a:cubicBezTo>
                  <a:pt x="18445" y="12742"/>
                  <a:pt x="18502" y="12980"/>
                  <a:pt x="18579" y="13146"/>
                </a:cubicBezTo>
                <a:cubicBezTo>
                  <a:pt x="18642" y="13293"/>
                  <a:pt x="18659" y="13323"/>
                  <a:pt x="18678" y="13419"/>
                </a:cubicBezTo>
              </a:path>
              <a:path w="4739" h="2928">
                <a:moveTo>
                  <a:pt x="18728" y="12650"/>
                </a:moveTo>
                <a:cubicBezTo>
                  <a:pt x="18634" y="12689"/>
                  <a:pt x="18389" y="13165"/>
                  <a:pt x="18281" y="13370"/>
                </a:cubicBezTo>
                <a:cubicBezTo>
                  <a:pt x="18264" y="13403"/>
                  <a:pt x="18248" y="13436"/>
                  <a:pt x="18231" y="13469"/>
                </a:cubicBezTo>
              </a:path>
              <a:path w="4739" h="2928">
                <a:moveTo>
                  <a:pt x="19496" y="12477"/>
                </a:moveTo>
                <a:cubicBezTo>
                  <a:pt x="19558" y="12409"/>
                  <a:pt x="19719" y="12273"/>
                  <a:pt x="19745" y="12477"/>
                </a:cubicBezTo>
                <a:cubicBezTo>
                  <a:pt x="19752" y="12530"/>
                  <a:pt x="19684" y="12682"/>
                  <a:pt x="19621" y="12700"/>
                </a:cubicBezTo>
                <a:cubicBezTo>
                  <a:pt x="19569" y="12700"/>
                  <a:pt x="19551" y="12701"/>
                  <a:pt x="19521" y="12725"/>
                </a:cubicBezTo>
                <a:cubicBezTo>
                  <a:pt x="19489" y="12693"/>
                  <a:pt x="19703" y="12656"/>
                  <a:pt x="19769" y="12675"/>
                </a:cubicBezTo>
                <a:cubicBezTo>
                  <a:pt x="19966" y="12731"/>
                  <a:pt x="19829" y="12940"/>
                  <a:pt x="19720" y="12998"/>
                </a:cubicBezTo>
                <a:cubicBezTo>
                  <a:pt x="19620" y="13051"/>
                  <a:pt x="19484" y="13047"/>
                  <a:pt x="19422" y="12973"/>
                </a:cubicBezTo>
              </a:path>
              <a:path w="4739" h="2928">
                <a:moveTo>
                  <a:pt x="19248" y="13345"/>
                </a:moveTo>
                <a:cubicBezTo>
                  <a:pt x="19528" y="13310"/>
                  <a:pt x="19809" y="13320"/>
                  <a:pt x="20092" y="13320"/>
                </a:cubicBezTo>
                <a:cubicBezTo>
                  <a:pt x="20125" y="13320"/>
                  <a:pt x="20158" y="13320"/>
                  <a:pt x="20191" y="13320"/>
                </a:cubicBezTo>
              </a:path>
              <a:path w="4739" h="2928">
                <a:moveTo>
                  <a:pt x="19794" y="13593"/>
                </a:moveTo>
                <a:cubicBezTo>
                  <a:pt x="19703" y="13585"/>
                  <a:pt x="19567" y="13526"/>
                  <a:pt x="19496" y="13568"/>
                </a:cubicBezTo>
                <a:cubicBezTo>
                  <a:pt x="19449" y="13596"/>
                  <a:pt x="19435" y="13691"/>
                  <a:pt x="19447" y="13742"/>
                </a:cubicBezTo>
                <a:cubicBezTo>
                  <a:pt x="19455" y="13767"/>
                  <a:pt x="19464" y="13791"/>
                  <a:pt x="19472" y="13816"/>
                </a:cubicBezTo>
                <a:cubicBezTo>
                  <a:pt x="19582" y="13794"/>
                  <a:pt x="19754" y="13682"/>
                  <a:pt x="19869" y="13767"/>
                </a:cubicBezTo>
                <a:cubicBezTo>
                  <a:pt x="20103" y="13939"/>
                  <a:pt x="19688" y="14079"/>
                  <a:pt x="19596" y="14089"/>
                </a:cubicBezTo>
                <a:cubicBezTo>
                  <a:pt x="19464" y="14089"/>
                  <a:pt x="19431" y="14089"/>
                  <a:pt x="19348" y="14089"/>
                </a:cubicBezTo>
              </a:path>
              <a:path w="4739" h="2928">
                <a:moveTo>
                  <a:pt x="19869" y="13593"/>
                </a:moveTo>
                <a:cubicBezTo>
                  <a:pt x="19707" y="13801"/>
                  <a:pt x="19530" y="13996"/>
                  <a:pt x="19348" y="14188"/>
                </a:cubicBezTo>
              </a:path>
              <a:path w="4739" h="2928">
                <a:moveTo>
                  <a:pt x="20365" y="14114"/>
                </a:moveTo>
                <a:cubicBezTo>
                  <a:pt x="20394" y="14296"/>
                  <a:pt x="20389" y="14477"/>
                  <a:pt x="20414" y="14660"/>
                </a:cubicBezTo>
              </a:path>
              <a:path w="4739" h="2928">
                <a:moveTo>
                  <a:pt x="19943" y="12452"/>
                </a:moveTo>
                <a:cubicBezTo>
                  <a:pt x="19693" y="12671"/>
                  <a:pt x="19457" y="12913"/>
                  <a:pt x="19199" y="13122"/>
                </a:cubicBezTo>
                <a:cubicBezTo>
                  <a:pt x="19182" y="13130"/>
                  <a:pt x="19166" y="13138"/>
                  <a:pt x="19149" y="13146"/>
                </a:cubicBezTo>
              </a:path>
              <a:path w="4739" h="2928">
                <a:moveTo>
                  <a:pt x="20340" y="12328"/>
                </a:moveTo>
                <a:cubicBezTo>
                  <a:pt x="20362" y="12478"/>
                  <a:pt x="20340" y="12626"/>
                  <a:pt x="20290" y="12774"/>
                </a:cubicBezTo>
              </a:path>
              <a:path w="4739" h="2928">
                <a:moveTo>
                  <a:pt x="20687" y="13246"/>
                </a:moveTo>
                <a:cubicBezTo>
                  <a:pt x="20801" y="13246"/>
                  <a:pt x="20899" y="13251"/>
                  <a:pt x="21010" y="13271"/>
                </a:cubicBezTo>
              </a:path>
              <a:path w="4739" h="2928">
                <a:moveTo>
                  <a:pt x="20910" y="13494"/>
                </a:moveTo>
                <a:cubicBezTo>
                  <a:pt x="20999" y="13457"/>
                  <a:pt x="21091" y="13425"/>
                  <a:pt x="21183" y="13395"/>
                </a:cubicBezTo>
              </a:path>
              <a:path w="4739" h="2928">
                <a:moveTo>
                  <a:pt x="22225" y="12303"/>
                </a:moveTo>
                <a:cubicBezTo>
                  <a:pt x="22186" y="12575"/>
                  <a:pt x="22148" y="12850"/>
                  <a:pt x="22126" y="13122"/>
                </a:cubicBezTo>
              </a:path>
              <a:path w="4739" h="2928">
                <a:moveTo>
                  <a:pt x="21853" y="13295"/>
                </a:moveTo>
                <a:cubicBezTo>
                  <a:pt x="22126" y="13254"/>
                  <a:pt x="22396" y="13221"/>
                  <a:pt x="22671" y="13196"/>
                </a:cubicBezTo>
              </a:path>
              <a:path w="4739" h="2928">
                <a:moveTo>
                  <a:pt x="22002" y="13519"/>
                </a:moveTo>
                <a:cubicBezTo>
                  <a:pt x="21955" y="13604"/>
                  <a:pt x="21905" y="13685"/>
                  <a:pt x="21853" y="13767"/>
                </a:cubicBezTo>
                <a:cubicBezTo>
                  <a:pt x="21977" y="13767"/>
                  <a:pt x="22101" y="13767"/>
                  <a:pt x="22225" y="13767"/>
                </a:cubicBezTo>
              </a:path>
              <a:path w="4739" h="2928">
                <a:moveTo>
                  <a:pt x="22200" y="13295"/>
                </a:moveTo>
                <a:cubicBezTo>
                  <a:pt x="22138" y="13544"/>
                  <a:pt x="22111" y="13810"/>
                  <a:pt x="22076" y="14064"/>
                </a:cubicBezTo>
                <a:cubicBezTo>
                  <a:pt x="22056" y="14239"/>
                  <a:pt x="22063" y="14267"/>
                  <a:pt x="22027" y="14362"/>
                </a:cubicBezTo>
              </a:path>
              <a:path w="4739" h="2928">
                <a:moveTo>
                  <a:pt x="22671" y="13221"/>
                </a:moveTo>
                <a:cubicBezTo>
                  <a:pt x="22721" y="13096"/>
                  <a:pt x="22767" y="12965"/>
                  <a:pt x="22796" y="12824"/>
                </a:cubicBezTo>
                <a:cubicBezTo>
                  <a:pt x="22834" y="12641"/>
                  <a:pt x="22827" y="12461"/>
                  <a:pt x="22796" y="12278"/>
                </a:cubicBezTo>
                <a:cubicBezTo>
                  <a:pt x="22780" y="12186"/>
                  <a:pt x="22725" y="11997"/>
                  <a:pt x="22647" y="11931"/>
                </a:cubicBezTo>
                <a:cubicBezTo>
                  <a:pt x="22551" y="11851"/>
                  <a:pt x="22449" y="11808"/>
                  <a:pt x="22324" y="11782"/>
                </a:cubicBezTo>
                <a:cubicBezTo>
                  <a:pt x="22142" y="11744"/>
                  <a:pt x="21993" y="11781"/>
                  <a:pt x="21828" y="11857"/>
                </a:cubicBezTo>
                <a:cubicBezTo>
                  <a:pt x="21644" y="11941"/>
                  <a:pt x="21485" y="12156"/>
                  <a:pt x="21382" y="12328"/>
                </a:cubicBezTo>
                <a:cubicBezTo>
                  <a:pt x="21276" y="12506"/>
                  <a:pt x="21154" y="12686"/>
                  <a:pt x="21134" y="12898"/>
                </a:cubicBezTo>
                <a:cubicBezTo>
                  <a:pt x="21112" y="13129"/>
                  <a:pt x="21154" y="13362"/>
                  <a:pt x="21158" y="13593"/>
                </a:cubicBezTo>
                <a:cubicBezTo>
                  <a:pt x="21161" y="13794"/>
                  <a:pt x="21138" y="13988"/>
                  <a:pt x="21134" y="14188"/>
                </a:cubicBezTo>
                <a:cubicBezTo>
                  <a:pt x="21131" y="14306"/>
                  <a:pt x="21172" y="14495"/>
                  <a:pt x="21258" y="14585"/>
                </a:cubicBezTo>
                <a:cubicBezTo>
                  <a:pt x="21368" y="14700"/>
                  <a:pt x="21593" y="14689"/>
                  <a:pt x="21729" y="14660"/>
                </a:cubicBezTo>
                <a:cubicBezTo>
                  <a:pt x="22031" y="14595"/>
                  <a:pt x="22185" y="14433"/>
                  <a:pt x="22423" y="14263"/>
                </a:cubicBezTo>
                <a:cubicBezTo>
                  <a:pt x="22535" y="14183"/>
                  <a:pt x="22697" y="14090"/>
                  <a:pt x="22771" y="13965"/>
                </a:cubicBezTo>
                <a:cubicBezTo>
                  <a:pt x="22848" y="13835"/>
                  <a:pt x="22881" y="13639"/>
                  <a:pt x="22920" y="13494"/>
                </a:cubicBezTo>
                <a:cubicBezTo>
                  <a:pt x="22964" y="13328"/>
                  <a:pt x="22974" y="13188"/>
                  <a:pt x="22944" y="13022"/>
                </a:cubicBezTo>
                <a:cubicBezTo>
                  <a:pt x="22931" y="12953"/>
                  <a:pt x="22925" y="12914"/>
                  <a:pt x="22920" y="1284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Cross Multiply to Divi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division sign to a multiplic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on the diagonal from top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928800"/>
            <a:ext cx="2930760" cy="830160"/>
          </a:xfrm>
          <a:custGeom>
            <a:avLst/>
            <a:gdLst/>
            <a:ahLst/>
            <a:rect l="l" t="t" r="r" b="b"/>
            <a:pathLst>
              <a:path w="8137" h="2308">
                <a:moveTo>
                  <a:pt x="17884" y="2580"/>
                </a:moveTo>
                <a:cubicBezTo>
                  <a:pt x="17719" y="2670"/>
                  <a:pt x="17488" y="2658"/>
                  <a:pt x="17338" y="2729"/>
                </a:cubicBezTo>
                <a:cubicBezTo>
                  <a:pt x="17325" y="2735"/>
                  <a:pt x="17298" y="3028"/>
                  <a:pt x="17289" y="3076"/>
                </a:cubicBezTo>
                <a:cubicBezTo>
                  <a:pt x="17490" y="3117"/>
                  <a:pt x="17696" y="2919"/>
                  <a:pt x="17909" y="3001"/>
                </a:cubicBezTo>
                <a:cubicBezTo>
                  <a:pt x="18332" y="3164"/>
                  <a:pt x="17507" y="3479"/>
                  <a:pt x="17462" y="3497"/>
                </a:cubicBezTo>
              </a:path>
              <a:path w="8137" h="2308">
                <a:moveTo>
                  <a:pt x="17041" y="3795"/>
                </a:moveTo>
                <a:cubicBezTo>
                  <a:pt x="17450" y="3699"/>
                  <a:pt x="17836" y="3634"/>
                  <a:pt x="18256" y="3621"/>
                </a:cubicBezTo>
              </a:path>
              <a:path w="8137" h="2308">
                <a:moveTo>
                  <a:pt x="17165" y="4142"/>
                </a:moveTo>
                <a:cubicBezTo>
                  <a:pt x="17251" y="4387"/>
                  <a:pt x="17308" y="4632"/>
                  <a:pt x="17363" y="4887"/>
                </a:cubicBezTo>
              </a:path>
              <a:path w="8137" h="2308">
                <a:moveTo>
                  <a:pt x="17835" y="4118"/>
                </a:moveTo>
                <a:cubicBezTo>
                  <a:pt x="18079" y="4176"/>
                  <a:pt x="18150" y="4218"/>
                  <a:pt x="18331" y="4390"/>
                </a:cubicBezTo>
                <a:cubicBezTo>
                  <a:pt x="18199" y="4696"/>
                  <a:pt x="18129" y="4788"/>
                  <a:pt x="17785" y="4787"/>
                </a:cubicBezTo>
                <a:cubicBezTo>
                  <a:pt x="17878" y="4618"/>
                  <a:pt x="18118" y="4372"/>
                  <a:pt x="18355" y="4564"/>
                </a:cubicBezTo>
                <a:cubicBezTo>
                  <a:pt x="18363" y="4597"/>
                  <a:pt x="18372" y="4630"/>
                  <a:pt x="18380" y="4663"/>
                </a:cubicBezTo>
              </a:path>
              <a:path w="8137" h="2308">
                <a:moveTo>
                  <a:pt x="19050" y="3820"/>
                </a:moveTo>
                <a:cubicBezTo>
                  <a:pt x="19291" y="3762"/>
                  <a:pt x="19518" y="3770"/>
                  <a:pt x="19769" y="3770"/>
                </a:cubicBezTo>
                <a:cubicBezTo>
                  <a:pt x="19802" y="3770"/>
                  <a:pt x="19836" y="3770"/>
                  <a:pt x="19869" y="3770"/>
                </a:cubicBezTo>
              </a:path>
              <a:path w="8137" h="2308">
                <a:moveTo>
                  <a:pt x="19397" y="3299"/>
                </a:moveTo>
                <a:lnTo>
                  <a:pt x="19397" y="3299"/>
                </a:lnTo>
              </a:path>
              <a:path w="8137" h="2308">
                <a:moveTo>
                  <a:pt x="19596" y="4266"/>
                </a:moveTo>
                <a:cubicBezTo>
                  <a:pt x="19604" y="4274"/>
                  <a:pt x="19613" y="4283"/>
                  <a:pt x="19621" y="4291"/>
                </a:cubicBezTo>
              </a:path>
              <a:path w="8137" h="2308">
                <a:moveTo>
                  <a:pt x="21233" y="2927"/>
                </a:moveTo>
                <a:cubicBezTo>
                  <a:pt x="21117" y="2927"/>
                  <a:pt x="20961" y="2870"/>
                  <a:pt x="20935" y="3026"/>
                </a:cubicBezTo>
                <a:cubicBezTo>
                  <a:pt x="20921" y="3110"/>
                  <a:pt x="20926" y="3206"/>
                  <a:pt x="20960" y="3274"/>
                </a:cubicBezTo>
                <a:cubicBezTo>
                  <a:pt x="21182" y="3156"/>
                  <a:pt x="21281" y="3176"/>
                  <a:pt x="21506" y="3274"/>
                </a:cubicBezTo>
                <a:cubicBezTo>
                  <a:pt x="21393" y="3524"/>
                  <a:pt x="21361" y="3487"/>
                  <a:pt x="21084" y="3572"/>
                </a:cubicBezTo>
              </a:path>
              <a:path w="8137" h="2308">
                <a:moveTo>
                  <a:pt x="20811" y="3894"/>
                </a:moveTo>
                <a:cubicBezTo>
                  <a:pt x="21082" y="3840"/>
                  <a:pt x="21367" y="3796"/>
                  <a:pt x="21630" y="3721"/>
                </a:cubicBezTo>
              </a:path>
              <a:path w="8137" h="2308">
                <a:moveTo>
                  <a:pt x="20786" y="4118"/>
                </a:moveTo>
                <a:cubicBezTo>
                  <a:pt x="20908" y="4110"/>
                  <a:pt x="21460" y="4057"/>
                  <a:pt x="21183" y="4341"/>
                </a:cubicBezTo>
                <a:cubicBezTo>
                  <a:pt x="21035" y="4426"/>
                  <a:pt x="21004" y="4445"/>
                  <a:pt x="20910" y="4490"/>
                </a:cubicBezTo>
                <a:cubicBezTo>
                  <a:pt x="21105" y="4392"/>
                  <a:pt x="21101" y="4343"/>
                  <a:pt x="21233" y="4514"/>
                </a:cubicBezTo>
                <a:cubicBezTo>
                  <a:pt x="21180" y="4604"/>
                  <a:pt x="20976" y="4936"/>
                  <a:pt x="20811" y="4787"/>
                </a:cubicBezTo>
                <a:cubicBezTo>
                  <a:pt x="20811" y="4771"/>
                  <a:pt x="20811" y="4754"/>
                  <a:pt x="20811" y="4738"/>
                </a:cubicBezTo>
              </a:path>
              <a:path w="8137" h="2308">
                <a:moveTo>
                  <a:pt x="19224" y="3398"/>
                </a:moveTo>
                <a:cubicBezTo>
                  <a:pt x="19441" y="3418"/>
                  <a:pt x="19634" y="3705"/>
                  <a:pt x="19794" y="3870"/>
                </a:cubicBezTo>
                <a:cubicBezTo>
                  <a:pt x="19899" y="3978"/>
                  <a:pt x="19999" y="4077"/>
                  <a:pt x="20117" y="4167"/>
                </a:cubicBezTo>
              </a:path>
              <a:path w="8137" h="2308">
                <a:moveTo>
                  <a:pt x="19670" y="3324"/>
                </a:moveTo>
                <a:cubicBezTo>
                  <a:pt x="19700" y="3588"/>
                  <a:pt x="19606" y="3786"/>
                  <a:pt x="19472" y="4018"/>
                </a:cubicBezTo>
                <a:cubicBezTo>
                  <a:pt x="19413" y="4121"/>
                  <a:pt x="19351" y="4210"/>
                  <a:pt x="19298" y="4316"/>
                </a:cubicBezTo>
                <a:cubicBezTo>
                  <a:pt x="19416" y="4030"/>
                  <a:pt x="19544" y="3776"/>
                  <a:pt x="19720" y="3522"/>
                </a:cubicBezTo>
                <a:cubicBezTo>
                  <a:pt x="19773" y="3446"/>
                  <a:pt x="19783" y="3399"/>
                  <a:pt x="19844" y="3349"/>
                </a:cubicBezTo>
                <a:cubicBezTo>
                  <a:pt x="19852" y="3341"/>
                  <a:pt x="19861" y="3332"/>
                  <a:pt x="19869" y="3324"/>
                </a:cubicBezTo>
              </a:path>
              <a:path w="8137" h="2308">
                <a:moveTo>
                  <a:pt x="21977" y="3820"/>
                </a:moveTo>
                <a:cubicBezTo>
                  <a:pt x="22076" y="3795"/>
                  <a:pt x="22109" y="3787"/>
                  <a:pt x="22175" y="3770"/>
                </a:cubicBezTo>
              </a:path>
              <a:path w="8137" h="2308">
                <a:moveTo>
                  <a:pt x="22051" y="4043"/>
                </a:moveTo>
                <a:cubicBezTo>
                  <a:pt x="22136" y="4020"/>
                  <a:pt x="22211" y="3994"/>
                  <a:pt x="22299" y="3994"/>
                </a:cubicBezTo>
              </a:path>
              <a:path w="8137" h="2308">
                <a:moveTo>
                  <a:pt x="22969" y="2753"/>
                </a:moveTo>
                <a:cubicBezTo>
                  <a:pt x="22931" y="2955"/>
                  <a:pt x="22944" y="3165"/>
                  <a:pt x="22944" y="3373"/>
                </a:cubicBezTo>
                <a:cubicBezTo>
                  <a:pt x="22944" y="3381"/>
                  <a:pt x="22944" y="3390"/>
                  <a:pt x="22944" y="3398"/>
                </a:cubicBezTo>
              </a:path>
              <a:path w="8137" h="2308">
                <a:moveTo>
                  <a:pt x="23589" y="2778"/>
                </a:moveTo>
                <a:cubicBezTo>
                  <a:pt x="23505" y="2846"/>
                  <a:pt x="23410" y="2814"/>
                  <a:pt x="23292" y="2803"/>
                </a:cubicBezTo>
                <a:cubicBezTo>
                  <a:pt x="23292" y="3015"/>
                  <a:pt x="23269" y="2991"/>
                  <a:pt x="23465" y="2977"/>
                </a:cubicBezTo>
                <a:cubicBezTo>
                  <a:pt x="23705" y="2960"/>
                  <a:pt x="23756" y="3191"/>
                  <a:pt x="23540" y="3299"/>
                </a:cubicBezTo>
                <a:cubicBezTo>
                  <a:pt x="23400" y="3323"/>
                  <a:pt x="23359" y="3331"/>
                  <a:pt x="23267" y="3324"/>
                </a:cubicBezTo>
              </a:path>
              <a:path w="8137" h="2308">
                <a:moveTo>
                  <a:pt x="22796" y="3621"/>
                </a:moveTo>
                <a:cubicBezTo>
                  <a:pt x="22981" y="3585"/>
                  <a:pt x="23228" y="3559"/>
                  <a:pt x="23416" y="3547"/>
                </a:cubicBezTo>
                <a:cubicBezTo>
                  <a:pt x="23554" y="3539"/>
                  <a:pt x="23698" y="3547"/>
                  <a:pt x="23837" y="3547"/>
                </a:cubicBezTo>
              </a:path>
              <a:path w="8137" h="2308">
                <a:moveTo>
                  <a:pt x="22845" y="3770"/>
                </a:moveTo>
                <a:cubicBezTo>
                  <a:pt x="22720" y="3928"/>
                  <a:pt x="22634" y="4096"/>
                  <a:pt x="22572" y="4291"/>
                </a:cubicBezTo>
                <a:cubicBezTo>
                  <a:pt x="22551" y="4373"/>
                  <a:pt x="22543" y="4389"/>
                  <a:pt x="22547" y="4440"/>
                </a:cubicBezTo>
                <a:cubicBezTo>
                  <a:pt x="22692" y="4528"/>
                  <a:pt x="22782" y="4467"/>
                  <a:pt x="22920" y="4366"/>
                </a:cubicBezTo>
                <a:cubicBezTo>
                  <a:pt x="22949" y="4336"/>
                  <a:pt x="22960" y="4321"/>
                  <a:pt x="22969" y="4291"/>
                </a:cubicBezTo>
                <a:cubicBezTo>
                  <a:pt x="22933" y="4242"/>
                  <a:pt x="22881" y="4172"/>
                  <a:pt x="22820" y="4242"/>
                </a:cubicBezTo>
                <a:cubicBezTo>
                  <a:pt x="22733" y="4342"/>
                  <a:pt x="22719" y="4446"/>
                  <a:pt x="22671" y="4564"/>
                </a:cubicBezTo>
              </a:path>
              <a:path w="8137" h="2308">
                <a:moveTo>
                  <a:pt x="23242" y="3994"/>
                </a:moveTo>
                <a:cubicBezTo>
                  <a:pt x="23127" y="3855"/>
                  <a:pt x="23092" y="4066"/>
                  <a:pt x="23068" y="4167"/>
                </a:cubicBezTo>
                <a:cubicBezTo>
                  <a:pt x="23037" y="4299"/>
                  <a:pt x="23028" y="4317"/>
                  <a:pt x="23093" y="4415"/>
                </a:cubicBezTo>
                <a:cubicBezTo>
                  <a:pt x="23233" y="4394"/>
                  <a:pt x="23345" y="4346"/>
                  <a:pt x="23391" y="4192"/>
                </a:cubicBezTo>
                <a:cubicBezTo>
                  <a:pt x="23430" y="4061"/>
                  <a:pt x="23300" y="3969"/>
                  <a:pt x="23192" y="3944"/>
                </a:cubicBezTo>
                <a:cubicBezTo>
                  <a:pt x="23176" y="3944"/>
                  <a:pt x="23159" y="3944"/>
                  <a:pt x="23143" y="3944"/>
                </a:cubicBezTo>
              </a:path>
              <a:path w="8137" h="2308">
                <a:moveTo>
                  <a:pt x="23862" y="3398"/>
                </a:moveTo>
                <a:cubicBezTo>
                  <a:pt x="23895" y="3398"/>
                  <a:pt x="23928" y="3398"/>
                  <a:pt x="23961" y="3398"/>
                </a:cubicBezTo>
              </a:path>
              <a:path w="8137" h="2308">
                <a:moveTo>
                  <a:pt x="23912" y="3597"/>
                </a:moveTo>
                <a:cubicBezTo>
                  <a:pt x="23970" y="3597"/>
                  <a:pt x="23995" y="3597"/>
                  <a:pt x="24036" y="3597"/>
                </a:cubicBezTo>
              </a:path>
              <a:path w="8137" h="2308">
                <a:moveTo>
                  <a:pt x="23887" y="3423"/>
                </a:moveTo>
                <a:cubicBezTo>
                  <a:pt x="23967" y="3400"/>
                  <a:pt x="24029" y="3373"/>
                  <a:pt x="24110" y="3373"/>
                </a:cubicBezTo>
              </a:path>
              <a:path w="8137" h="2308">
                <a:moveTo>
                  <a:pt x="23937" y="3646"/>
                </a:moveTo>
                <a:cubicBezTo>
                  <a:pt x="24008" y="3593"/>
                  <a:pt x="24021" y="3597"/>
                  <a:pt x="24110" y="3597"/>
                </a:cubicBezTo>
              </a:path>
              <a:path w="8137" h="2308">
                <a:moveTo>
                  <a:pt x="24705" y="2902"/>
                </a:moveTo>
                <a:cubicBezTo>
                  <a:pt x="24747" y="2916"/>
                  <a:pt x="24721" y="3140"/>
                  <a:pt x="24705" y="3249"/>
                </a:cubicBezTo>
                <a:cubicBezTo>
                  <a:pt x="24687" y="3323"/>
                  <a:pt x="24679" y="3330"/>
                  <a:pt x="24681" y="3373"/>
                </a:cubicBezTo>
              </a:path>
              <a:path w="8137" h="2308">
                <a:moveTo>
                  <a:pt x="24532" y="3522"/>
                </a:moveTo>
                <a:cubicBezTo>
                  <a:pt x="24656" y="3548"/>
                  <a:pt x="24787" y="3562"/>
                  <a:pt x="24904" y="3597"/>
                </a:cubicBezTo>
              </a:path>
              <a:path w="8137" h="2308">
                <a:moveTo>
                  <a:pt x="24433" y="3795"/>
                </a:moveTo>
                <a:cubicBezTo>
                  <a:pt x="24391" y="3912"/>
                  <a:pt x="24344" y="4009"/>
                  <a:pt x="24284" y="4118"/>
                </a:cubicBezTo>
                <a:cubicBezTo>
                  <a:pt x="24399" y="4130"/>
                  <a:pt x="24422" y="4133"/>
                  <a:pt x="24532" y="4118"/>
                </a:cubicBezTo>
              </a:path>
              <a:path w="8137" h="2308">
                <a:moveTo>
                  <a:pt x="24606" y="3770"/>
                </a:moveTo>
                <a:cubicBezTo>
                  <a:pt x="24560" y="3953"/>
                  <a:pt x="24519" y="4127"/>
                  <a:pt x="24507" y="4316"/>
                </a:cubicBezTo>
              </a:path>
              <a:path w="8137" h="2308">
                <a:moveTo>
                  <a:pt x="23986" y="4465"/>
                </a:moveTo>
                <a:cubicBezTo>
                  <a:pt x="24123" y="4564"/>
                  <a:pt x="24282" y="4600"/>
                  <a:pt x="24457" y="4564"/>
                </a:cubicBezTo>
                <a:cubicBezTo>
                  <a:pt x="24585" y="4538"/>
                  <a:pt x="24763" y="4434"/>
                  <a:pt x="24854" y="4341"/>
                </a:cubicBezTo>
                <a:cubicBezTo>
                  <a:pt x="24974" y="4217"/>
                  <a:pt x="25037" y="4058"/>
                  <a:pt x="25078" y="3894"/>
                </a:cubicBezTo>
                <a:cubicBezTo>
                  <a:pt x="25103" y="3796"/>
                  <a:pt x="25125" y="3690"/>
                  <a:pt x="25152" y="3597"/>
                </a:cubicBezTo>
                <a:cubicBezTo>
                  <a:pt x="25177" y="3512"/>
                  <a:pt x="25177" y="3442"/>
                  <a:pt x="25177" y="3349"/>
                </a:cubicBezTo>
                <a:cubicBezTo>
                  <a:pt x="25177" y="3180"/>
                  <a:pt x="25168" y="3018"/>
                  <a:pt x="25152" y="2853"/>
                </a:cubicBezTo>
                <a:cubicBezTo>
                  <a:pt x="25138" y="2703"/>
                  <a:pt x="25150" y="2803"/>
                  <a:pt x="25028" y="2729"/>
                </a:cubicBezTo>
                <a:cubicBezTo>
                  <a:pt x="24941" y="2676"/>
                  <a:pt x="24839" y="2613"/>
                  <a:pt x="24730" y="2629"/>
                </a:cubicBezTo>
                <a:cubicBezTo>
                  <a:pt x="24592" y="2650"/>
                  <a:pt x="24524" y="2775"/>
                  <a:pt x="24408" y="2828"/>
                </a:cubicBezTo>
                <a:cubicBezTo>
                  <a:pt x="24330" y="2864"/>
                  <a:pt x="24301" y="2886"/>
                  <a:pt x="24259" y="2977"/>
                </a:cubicBezTo>
                <a:cubicBezTo>
                  <a:pt x="24214" y="3073"/>
                  <a:pt x="24178" y="3178"/>
                  <a:pt x="24135" y="3274"/>
                </a:cubicBezTo>
                <a:cubicBezTo>
                  <a:pt x="24085" y="3385"/>
                  <a:pt x="24094" y="3526"/>
                  <a:pt x="24061" y="3646"/>
                </a:cubicBezTo>
                <a:cubicBezTo>
                  <a:pt x="24023" y="3782"/>
                  <a:pt x="24008" y="3935"/>
                  <a:pt x="23961" y="4068"/>
                </a:cubicBezTo>
                <a:cubicBezTo>
                  <a:pt x="23904" y="4227"/>
                  <a:pt x="23925" y="4277"/>
                  <a:pt x="23961" y="4440"/>
                </a:cubicBezTo>
                <a:cubicBezTo>
                  <a:pt x="23977" y="4513"/>
                  <a:pt x="23994" y="4591"/>
                  <a:pt x="24011" y="466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r>
              <a:rPr b="0" lang="en-US" sz="4000" spc="-1" strike="noStrike">
                <a:solidFill>
                  <a:srgbClr val="006699"/>
                </a:solidFill>
                <a:latin typeface="Baskerville Old Face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6699"/>
                </a:solidFill>
                <a:latin typeface="Baskerville Old Face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19320" y="2743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410080" y="2971800"/>
          <a:ext cx="144792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971800"/>
                    <a:ext cx="144792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312920" y="3537000"/>
            <a:ext cx="2259000" cy="1670040"/>
          </a:xfrm>
          <a:custGeom>
            <a:avLst/>
            <a:gdLst/>
            <a:ahLst/>
            <a:rect l="l" t="t" r="r" b="b"/>
            <a:pathLst>
              <a:path w="6277" h="4639">
                <a:moveTo>
                  <a:pt x="5978" y="9823"/>
                </a:moveTo>
                <a:cubicBezTo>
                  <a:pt x="6190" y="9840"/>
                  <a:pt x="6389" y="9908"/>
                  <a:pt x="6598" y="9947"/>
                </a:cubicBezTo>
                <a:cubicBezTo>
                  <a:pt x="6738" y="9966"/>
                  <a:pt x="6763" y="9974"/>
                  <a:pt x="6846" y="9971"/>
                </a:cubicBezTo>
              </a:path>
              <a:path w="6277" h="4639">
                <a:moveTo>
                  <a:pt x="6325" y="10269"/>
                </a:moveTo>
                <a:cubicBezTo>
                  <a:pt x="6325" y="10413"/>
                  <a:pt x="6301" y="10530"/>
                  <a:pt x="6276" y="10666"/>
                </a:cubicBezTo>
                <a:cubicBezTo>
                  <a:pt x="6276" y="10683"/>
                  <a:pt x="6276" y="10699"/>
                  <a:pt x="6276" y="10716"/>
                </a:cubicBezTo>
              </a:path>
              <a:path w="6277" h="4639">
                <a:moveTo>
                  <a:pt x="4564" y="12005"/>
                </a:moveTo>
                <a:cubicBezTo>
                  <a:pt x="4550" y="11868"/>
                  <a:pt x="4506" y="11741"/>
                  <a:pt x="4341" y="11733"/>
                </a:cubicBezTo>
                <a:cubicBezTo>
                  <a:pt x="4118" y="11722"/>
                  <a:pt x="4048" y="11898"/>
                  <a:pt x="4093" y="12055"/>
                </a:cubicBezTo>
                <a:cubicBezTo>
                  <a:pt x="4251" y="12031"/>
                  <a:pt x="4281" y="12026"/>
                  <a:pt x="4390" y="11906"/>
                </a:cubicBezTo>
                <a:cubicBezTo>
                  <a:pt x="4428" y="12122"/>
                  <a:pt x="4399" y="12294"/>
                  <a:pt x="4366" y="12502"/>
                </a:cubicBezTo>
                <a:cubicBezTo>
                  <a:pt x="4366" y="12527"/>
                  <a:pt x="4366" y="12551"/>
                  <a:pt x="4366" y="12576"/>
                </a:cubicBezTo>
              </a:path>
              <a:path w="6277" h="4639">
                <a:moveTo>
                  <a:pt x="3795" y="12750"/>
                </a:moveTo>
                <a:cubicBezTo>
                  <a:pt x="4172" y="12701"/>
                  <a:pt x="4507" y="12640"/>
                  <a:pt x="4887" y="12675"/>
                </a:cubicBezTo>
              </a:path>
              <a:path w="6277" h="4639">
                <a:moveTo>
                  <a:pt x="4118" y="13097"/>
                </a:moveTo>
                <a:cubicBezTo>
                  <a:pt x="4110" y="13316"/>
                  <a:pt x="4086" y="13527"/>
                  <a:pt x="4043" y="13742"/>
                </a:cubicBezTo>
              </a:path>
              <a:path w="6277" h="4639">
                <a:moveTo>
                  <a:pt x="4564" y="13122"/>
                </a:moveTo>
                <a:cubicBezTo>
                  <a:pt x="4423" y="13275"/>
                  <a:pt x="4387" y="13392"/>
                  <a:pt x="4341" y="13593"/>
                </a:cubicBezTo>
                <a:cubicBezTo>
                  <a:pt x="4517" y="13725"/>
                  <a:pt x="4699" y="13658"/>
                  <a:pt x="4787" y="13419"/>
                </a:cubicBezTo>
                <a:cubicBezTo>
                  <a:pt x="4848" y="13253"/>
                  <a:pt x="4680" y="13190"/>
                  <a:pt x="4564" y="13171"/>
                </a:cubicBezTo>
              </a:path>
              <a:path w="6277" h="4639">
                <a:moveTo>
                  <a:pt x="6598" y="11931"/>
                </a:moveTo>
                <a:cubicBezTo>
                  <a:pt x="6552" y="12091"/>
                  <a:pt x="6598" y="12360"/>
                  <a:pt x="6598" y="12551"/>
                </a:cubicBezTo>
                <a:cubicBezTo>
                  <a:pt x="6598" y="12584"/>
                  <a:pt x="6598" y="12617"/>
                  <a:pt x="6598" y="12650"/>
                </a:cubicBezTo>
              </a:path>
              <a:path w="6277" h="4639">
                <a:moveTo>
                  <a:pt x="6176" y="12874"/>
                </a:moveTo>
                <a:cubicBezTo>
                  <a:pt x="6468" y="12850"/>
                  <a:pt x="6751" y="12774"/>
                  <a:pt x="7045" y="12750"/>
                </a:cubicBezTo>
                <a:cubicBezTo>
                  <a:pt x="7078" y="12750"/>
                  <a:pt x="7111" y="12750"/>
                  <a:pt x="7144" y="12750"/>
                </a:cubicBezTo>
              </a:path>
              <a:path w="6277" h="4639">
                <a:moveTo>
                  <a:pt x="6672" y="13022"/>
                </a:moveTo>
                <a:cubicBezTo>
                  <a:pt x="6606" y="13202"/>
                  <a:pt x="6525" y="13375"/>
                  <a:pt x="6499" y="13568"/>
                </a:cubicBezTo>
                <a:cubicBezTo>
                  <a:pt x="6499" y="13593"/>
                  <a:pt x="6499" y="13618"/>
                  <a:pt x="6499" y="13643"/>
                </a:cubicBezTo>
                <a:cubicBezTo>
                  <a:pt x="6665" y="13678"/>
                  <a:pt x="6842" y="13658"/>
                  <a:pt x="6995" y="13568"/>
                </a:cubicBezTo>
                <a:cubicBezTo>
                  <a:pt x="7120" y="13495"/>
                  <a:pt x="7152" y="13411"/>
                  <a:pt x="7094" y="13295"/>
                </a:cubicBezTo>
                <a:cubicBezTo>
                  <a:pt x="6947" y="13327"/>
                  <a:pt x="6850" y="13388"/>
                  <a:pt x="6796" y="13543"/>
                </a:cubicBezTo>
                <a:cubicBezTo>
                  <a:pt x="6796" y="13560"/>
                  <a:pt x="6796" y="13576"/>
                  <a:pt x="6796" y="13593"/>
                </a:cubicBezTo>
              </a:path>
              <a:path w="6277" h="4639">
                <a:moveTo>
                  <a:pt x="5283" y="12576"/>
                </a:moveTo>
                <a:cubicBezTo>
                  <a:pt x="5334" y="12727"/>
                  <a:pt x="5480" y="12827"/>
                  <a:pt x="5581" y="12948"/>
                </a:cubicBezTo>
                <a:cubicBezTo>
                  <a:pt x="5598" y="12973"/>
                  <a:pt x="5614" y="12997"/>
                  <a:pt x="5631" y="13022"/>
                </a:cubicBezTo>
              </a:path>
              <a:path w="6277" h="4639">
                <a:moveTo>
                  <a:pt x="5705" y="12551"/>
                </a:moveTo>
                <a:cubicBezTo>
                  <a:pt x="5563" y="12646"/>
                  <a:pt x="5464" y="12788"/>
                  <a:pt x="5358" y="12923"/>
                </a:cubicBezTo>
                <a:cubicBezTo>
                  <a:pt x="5297" y="13004"/>
                  <a:pt x="5282" y="13016"/>
                  <a:pt x="5259" y="13072"/>
                </a:cubicBezTo>
              </a:path>
              <a:path w="6277" h="4639">
                <a:moveTo>
                  <a:pt x="3894" y="11733"/>
                </a:moveTo>
                <a:cubicBezTo>
                  <a:pt x="4101" y="11925"/>
                  <a:pt x="4331" y="12143"/>
                  <a:pt x="4539" y="12353"/>
                </a:cubicBezTo>
                <a:cubicBezTo>
                  <a:pt x="4672" y="12485"/>
                  <a:pt x="4689" y="12501"/>
                  <a:pt x="4762" y="12576"/>
                </a:cubicBezTo>
              </a:path>
              <a:path w="6277" h="4639">
                <a:moveTo>
                  <a:pt x="3671" y="11112"/>
                </a:moveTo>
                <a:cubicBezTo>
                  <a:pt x="3671" y="10999"/>
                  <a:pt x="3841" y="10969"/>
                  <a:pt x="3894" y="11112"/>
                </a:cubicBezTo>
                <a:cubicBezTo>
                  <a:pt x="3934" y="11220"/>
                  <a:pt x="3906" y="11266"/>
                  <a:pt x="3845" y="11286"/>
                </a:cubicBezTo>
                <a:cubicBezTo>
                  <a:pt x="3945" y="11206"/>
                  <a:pt x="4031" y="11265"/>
                  <a:pt x="3994" y="11410"/>
                </a:cubicBezTo>
                <a:cubicBezTo>
                  <a:pt x="3940" y="11619"/>
                  <a:pt x="3860" y="11608"/>
                  <a:pt x="3696" y="11609"/>
                </a:cubicBezTo>
              </a:path>
              <a:path w="6277" h="4639">
                <a:moveTo>
                  <a:pt x="6152" y="13122"/>
                </a:moveTo>
                <a:cubicBezTo>
                  <a:pt x="6460" y="13307"/>
                  <a:pt x="6651" y="13532"/>
                  <a:pt x="6846" y="13841"/>
                </a:cubicBezTo>
                <a:cubicBezTo>
                  <a:pt x="6863" y="13874"/>
                  <a:pt x="6879" y="13907"/>
                  <a:pt x="6896" y="13940"/>
                </a:cubicBezTo>
              </a:path>
              <a:path w="6277" h="4639">
                <a:moveTo>
                  <a:pt x="7069" y="13940"/>
                </a:moveTo>
                <a:cubicBezTo>
                  <a:pt x="7097" y="13820"/>
                  <a:pt x="7112" y="13804"/>
                  <a:pt x="7218" y="13742"/>
                </a:cubicBezTo>
                <a:cubicBezTo>
                  <a:pt x="7283" y="13887"/>
                  <a:pt x="7287" y="13900"/>
                  <a:pt x="7243" y="14064"/>
                </a:cubicBezTo>
                <a:cubicBezTo>
                  <a:pt x="7346" y="13876"/>
                  <a:pt x="7482" y="13964"/>
                  <a:pt x="7441" y="14188"/>
                </a:cubicBezTo>
                <a:cubicBezTo>
                  <a:pt x="7409" y="14362"/>
                  <a:pt x="7352" y="14403"/>
                  <a:pt x="7218" y="14436"/>
                </a:cubicBezTo>
              </a:path>
              <a:path w="6277" h="4639">
                <a:moveTo>
                  <a:pt x="7317" y="13915"/>
                </a:moveTo>
                <a:cubicBezTo>
                  <a:pt x="7276" y="13907"/>
                  <a:pt x="7205" y="13838"/>
                  <a:pt x="7169" y="13841"/>
                </a:cubicBezTo>
                <a:cubicBezTo>
                  <a:pt x="7097" y="13847"/>
                  <a:pt x="7122" y="14045"/>
                  <a:pt x="7119" y="14089"/>
                </a:cubicBezTo>
                <a:cubicBezTo>
                  <a:pt x="7135" y="13947"/>
                  <a:pt x="7172" y="13830"/>
                  <a:pt x="7218" y="13692"/>
                </a:cubicBezTo>
                <a:cubicBezTo>
                  <a:pt x="7412" y="13815"/>
                  <a:pt x="7350" y="14143"/>
                  <a:pt x="7317" y="14387"/>
                </a:cubicBezTo>
                <a:cubicBezTo>
                  <a:pt x="7293" y="14461"/>
                  <a:pt x="7284" y="14486"/>
                  <a:pt x="7218" y="14436"/>
                </a:cubicBezTo>
                <a:cubicBezTo>
                  <a:pt x="7190" y="14160"/>
                  <a:pt x="7264" y="14131"/>
                  <a:pt x="7516" y="14015"/>
                </a:cubicBezTo>
                <a:cubicBezTo>
                  <a:pt x="7671" y="13944"/>
                  <a:pt x="7800" y="13913"/>
                  <a:pt x="7838" y="13742"/>
                </a:cubicBezTo>
              </a:path>
              <a:path w="6277" h="4639">
                <a:moveTo>
                  <a:pt x="7144" y="13866"/>
                </a:moveTo>
                <a:cubicBezTo>
                  <a:pt x="7157" y="13791"/>
                  <a:pt x="7180" y="13758"/>
                  <a:pt x="7218" y="13692"/>
                </a:cubicBezTo>
                <a:cubicBezTo>
                  <a:pt x="7530" y="13724"/>
                  <a:pt x="7501" y="14011"/>
                  <a:pt x="7417" y="14312"/>
                </a:cubicBezTo>
                <a:cubicBezTo>
                  <a:pt x="7350" y="14423"/>
                  <a:pt x="7340" y="14464"/>
                  <a:pt x="7243" y="14436"/>
                </a:cubicBezTo>
                <a:cubicBezTo>
                  <a:pt x="7219" y="14224"/>
                  <a:pt x="7264" y="14023"/>
                  <a:pt x="7516" y="13965"/>
                </a:cubicBezTo>
                <a:cubicBezTo>
                  <a:pt x="7611" y="13989"/>
                  <a:pt x="7640" y="13995"/>
                  <a:pt x="7689" y="14039"/>
                </a:cubicBezTo>
              </a:path>
              <a:path w="6277" h="4639">
                <a:moveTo>
                  <a:pt x="7367" y="12750"/>
                </a:moveTo>
                <a:cubicBezTo>
                  <a:pt x="7468" y="12720"/>
                  <a:pt x="7566" y="12686"/>
                  <a:pt x="7665" y="12650"/>
                </a:cubicBezTo>
              </a:path>
              <a:path w="6277" h="4639">
                <a:moveTo>
                  <a:pt x="7466" y="12973"/>
                </a:moveTo>
                <a:cubicBezTo>
                  <a:pt x="7582" y="12901"/>
                  <a:pt x="7691" y="12836"/>
                  <a:pt x="7813" y="12774"/>
                </a:cubicBezTo>
              </a:path>
              <a:path w="6277" h="4639">
                <a:moveTo>
                  <a:pt x="8781" y="11956"/>
                </a:moveTo>
                <a:cubicBezTo>
                  <a:pt x="8868" y="11888"/>
                  <a:pt x="9283" y="11721"/>
                  <a:pt x="9029" y="11981"/>
                </a:cubicBezTo>
                <a:cubicBezTo>
                  <a:pt x="8971" y="12022"/>
                  <a:pt x="8913" y="12064"/>
                  <a:pt x="8855" y="12105"/>
                </a:cubicBezTo>
                <a:cubicBezTo>
                  <a:pt x="8830" y="12113"/>
                  <a:pt x="8806" y="12121"/>
                  <a:pt x="8781" y="12129"/>
                </a:cubicBezTo>
                <a:cubicBezTo>
                  <a:pt x="8955" y="12077"/>
                  <a:pt x="9240" y="12100"/>
                  <a:pt x="9029" y="12353"/>
                </a:cubicBezTo>
                <a:cubicBezTo>
                  <a:pt x="8874" y="12539"/>
                  <a:pt x="8710" y="12475"/>
                  <a:pt x="8508" y="12452"/>
                </a:cubicBezTo>
              </a:path>
              <a:path w="6277" h="4639">
                <a:moveTo>
                  <a:pt x="8558" y="12799"/>
                </a:moveTo>
                <a:cubicBezTo>
                  <a:pt x="8864" y="12783"/>
                  <a:pt x="9147" y="12773"/>
                  <a:pt x="9451" y="12799"/>
                </a:cubicBezTo>
              </a:path>
              <a:path w="6277" h="4639">
                <a:moveTo>
                  <a:pt x="8657" y="13146"/>
                </a:moveTo>
                <a:cubicBezTo>
                  <a:pt x="8673" y="13299"/>
                  <a:pt x="8671" y="13179"/>
                  <a:pt x="8880" y="13246"/>
                </a:cubicBezTo>
                <a:cubicBezTo>
                  <a:pt x="8807" y="13632"/>
                  <a:pt x="8706" y="13691"/>
                  <a:pt x="8310" y="13742"/>
                </a:cubicBezTo>
                <a:cubicBezTo>
                  <a:pt x="8491" y="13561"/>
                  <a:pt x="8700" y="13397"/>
                  <a:pt x="8905" y="13667"/>
                </a:cubicBezTo>
                <a:cubicBezTo>
                  <a:pt x="8913" y="13692"/>
                  <a:pt x="8922" y="13717"/>
                  <a:pt x="8930" y="13742"/>
                </a:cubicBezTo>
              </a:path>
              <a:path w="6277" h="4639">
                <a:moveTo>
                  <a:pt x="9277" y="13196"/>
                </a:moveTo>
                <a:cubicBezTo>
                  <a:pt x="9133" y="13415"/>
                  <a:pt x="9114" y="13437"/>
                  <a:pt x="9153" y="13692"/>
                </a:cubicBezTo>
                <a:cubicBezTo>
                  <a:pt x="9484" y="13661"/>
                  <a:pt x="9496" y="13506"/>
                  <a:pt x="9401" y="13221"/>
                </a:cubicBezTo>
              </a:path>
              <a:path w="6277" h="4639">
                <a:moveTo>
                  <a:pt x="8111" y="12005"/>
                </a:moveTo>
                <a:cubicBezTo>
                  <a:pt x="7982" y="12157"/>
                  <a:pt x="7846" y="12292"/>
                  <a:pt x="7764" y="12477"/>
                </a:cubicBezTo>
                <a:cubicBezTo>
                  <a:pt x="7678" y="12670"/>
                  <a:pt x="7644" y="12864"/>
                  <a:pt x="7640" y="13072"/>
                </a:cubicBezTo>
                <a:cubicBezTo>
                  <a:pt x="7637" y="13261"/>
                  <a:pt x="7651" y="13449"/>
                  <a:pt x="7739" y="13618"/>
                </a:cubicBezTo>
                <a:cubicBezTo>
                  <a:pt x="7818" y="13770"/>
                  <a:pt x="7903" y="13905"/>
                  <a:pt x="8037" y="14015"/>
                </a:cubicBezTo>
                <a:cubicBezTo>
                  <a:pt x="8147" y="14105"/>
                  <a:pt x="8297" y="14123"/>
                  <a:pt x="8434" y="14114"/>
                </a:cubicBezTo>
                <a:cubicBezTo>
                  <a:pt x="8644" y="14100"/>
                  <a:pt x="8908" y="14075"/>
                  <a:pt x="9103" y="13990"/>
                </a:cubicBezTo>
                <a:cubicBezTo>
                  <a:pt x="9328" y="13891"/>
                  <a:pt x="9637" y="13701"/>
                  <a:pt x="9773" y="13494"/>
                </a:cubicBezTo>
                <a:cubicBezTo>
                  <a:pt x="9913" y="13280"/>
                  <a:pt x="9952" y="12894"/>
                  <a:pt x="9897" y="12650"/>
                </a:cubicBezTo>
                <a:cubicBezTo>
                  <a:pt x="9844" y="12414"/>
                  <a:pt x="9761" y="12173"/>
                  <a:pt x="9649" y="11956"/>
                </a:cubicBezTo>
                <a:cubicBezTo>
                  <a:pt x="9556" y="11777"/>
                  <a:pt x="9441" y="11734"/>
                  <a:pt x="9277" y="11633"/>
                </a:cubicBezTo>
                <a:cubicBezTo>
                  <a:pt x="9152" y="11556"/>
                  <a:pt x="9026" y="11538"/>
                  <a:pt x="8880" y="11534"/>
                </a:cubicBezTo>
                <a:cubicBezTo>
                  <a:pt x="8640" y="11528"/>
                  <a:pt x="8436" y="11859"/>
                  <a:pt x="8334" y="12055"/>
                </a:cubicBezTo>
                <a:cubicBezTo>
                  <a:pt x="8214" y="12285"/>
                  <a:pt x="8184" y="12502"/>
                  <a:pt x="8136" y="1275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27800" y="4330800"/>
            <a:ext cx="2822400" cy="1330200"/>
          </a:xfrm>
          <a:custGeom>
            <a:avLst/>
            <a:gdLst/>
            <a:ahLst/>
            <a:rect l="l" t="t" r="r" b="b"/>
            <a:pathLst>
              <a:path w="7839" h="3697">
                <a:moveTo>
                  <a:pt x="15999" y="12650"/>
                </a:moveTo>
                <a:cubicBezTo>
                  <a:pt x="15912" y="12657"/>
                  <a:pt x="15603" y="12650"/>
                  <a:pt x="15553" y="12725"/>
                </a:cubicBezTo>
                <a:cubicBezTo>
                  <a:pt x="15487" y="12825"/>
                  <a:pt x="15534" y="13097"/>
                  <a:pt x="15503" y="13221"/>
                </a:cubicBezTo>
                <a:cubicBezTo>
                  <a:pt x="15604" y="13091"/>
                  <a:pt x="15806" y="12964"/>
                  <a:pt x="15974" y="13097"/>
                </a:cubicBezTo>
                <a:cubicBezTo>
                  <a:pt x="16234" y="13303"/>
                  <a:pt x="15851" y="13526"/>
                  <a:pt x="15677" y="13543"/>
                </a:cubicBezTo>
                <a:cubicBezTo>
                  <a:pt x="15636" y="13535"/>
                  <a:pt x="15594" y="13527"/>
                  <a:pt x="15553" y="13519"/>
                </a:cubicBezTo>
              </a:path>
              <a:path w="7839" h="3697">
                <a:moveTo>
                  <a:pt x="15379" y="13841"/>
                </a:moveTo>
                <a:cubicBezTo>
                  <a:pt x="15635" y="13753"/>
                  <a:pt x="15830" y="13712"/>
                  <a:pt x="16098" y="13692"/>
                </a:cubicBezTo>
              </a:path>
              <a:path w="7839" h="3697">
                <a:moveTo>
                  <a:pt x="16123" y="14114"/>
                </a:moveTo>
                <a:cubicBezTo>
                  <a:pt x="16123" y="14007"/>
                  <a:pt x="16118" y="13967"/>
                  <a:pt x="16049" y="13915"/>
                </a:cubicBezTo>
                <a:cubicBezTo>
                  <a:pt x="15739" y="13977"/>
                  <a:pt x="15665" y="14065"/>
                  <a:pt x="15652" y="14387"/>
                </a:cubicBezTo>
                <a:cubicBezTo>
                  <a:pt x="15792" y="14309"/>
                  <a:pt x="15975" y="13963"/>
                  <a:pt x="16024" y="14139"/>
                </a:cubicBezTo>
                <a:cubicBezTo>
                  <a:pt x="16079" y="14339"/>
                  <a:pt x="16029" y="14536"/>
                  <a:pt x="15999" y="14734"/>
                </a:cubicBezTo>
              </a:path>
              <a:path w="7839" h="3697">
                <a:moveTo>
                  <a:pt x="16594" y="13667"/>
                </a:moveTo>
                <a:cubicBezTo>
                  <a:pt x="16695" y="13850"/>
                  <a:pt x="16795" y="13992"/>
                  <a:pt x="16942" y="14139"/>
                </a:cubicBezTo>
              </a:path>
              <a:path w="7839" h="3697">
                <a:moveTo>
                  <a:pt x="16892" y="13692"/>
                </a:moveTo>
                <a:cubicBezTo>
                  <a:pt x="16830" y="13902"/>
                  <a:pt x="16766" y="14105"/>
                  <a:pt x="16694" y="14312"/>
                </a:cubicBezTo>
              </a:path>
              <a:path w="7839" h="3697">
                <a:moveTo>
                  <a:pt x="17611" y="12973"/>
                </a:moveTo>
                <a:cubicBezTo>
                  <a:pt x="17803" y="12866"/>
                  <a:pt x="18030" y="13134"/>
                  <a:pt x="17959" y="13370"/>
                </a:cubicBezTo>
                <a:cubicBezTo>
                  <a:pt x="17873" y="13655"/>
                  <a:pt x="17660" y="13549"/>
                  <a:pt x="17487" y="13494"/>
                </a:cubicBezTo>
                <a:cubicBezTo>
                  <a:pt x="17600" y="13325"/>
                  <a:pt x="17771" y="13417"/>
                  <a:pt x="18008" y="13469"/>
                </a:cubicBezTo>
              </a:path>
              <a:path w="7839" h="3697">
                <a:moveTo>
                  <a:pt x="18157" y="12874"/>
                </a:moveTo>
                <a:cubicBezTo>
                  <a:pt x="18278" y="12840"/>
                  <a:pt x="18389" y="12801"/>
                  <a:pt x="18504" y="12750"/>
                </a:cubicBezTo>
                <a:cubicBezTo>
                  <a:pt x="18529" y="12964"/>
                  <a:pt x="18521" y="13155"/>
                  <a:pt x="18504" y="13370"/>
                </a:cubicBezTo>
              </a:path>
              <a:path w="7839" h="3697">
                <a:moveTo>
                  <a:pt x="17413" y="13891"/>
                </a:moveTo>
                <a:cubicBezTo>
                  <a:pt x="17867" y="13750"/>
                  <a:pt x="18254" y="13660"/>
                  <a:pt x="18728" y="13667"/>
                </a:cubicBezTo>
                <a:cubicBezTo>
                  <a:pt x="18761" y="13667"/>
                  <a:pt x="18794" y="13667"/>
                  <a:pt x="18827" y="13667"/>
                </a:cubicBezTo>
              </a:path>
              <a:path w="7839" h="3697">
                <a:moveTo>
                  <a:pt x="17760" y="14089"/>
                </a:moveTo>
                <a:cubicBezTo>
                  <a:pt x="17773" y="14325"/>
                  <a:pt x="17771" y="14459"/>
                  <a:pt x="17711" y="14684"/>
                </a:cubicBezTo>
              </a:path>
              <a:path w="7839" h="3697">
                <a:moveTo>
                  <a:pt x="18455" y="13891"/>
                </a:moveTo>
                <a:cubicBezTo>
                  <a:pt x="18308" y="13947"/>
                  <a:pt x="18204" y="13942"/>
                  <a:pt x="18132" y="14089"/>
                </a:cubicBezTo>
                <a:cubicBezTo>
                  <a:pt x="18113" y="14163"/>
                  <a:pt x="18105" y="14170"/>
                  <a:pt x="18107" y="14213"/>
                </a:cubicBezTo>
                <a:cubicBezTo>
                  <a:pt x="18237" y="14163"/>
                  <a:pt x="18756" y="13988"/>
                  <a:pt x="18604" y="14362"/>
                </a:cubicBezTo>
                <a:cubicBezTo>
                  <a:pt x="18449" y="14544"/>
                  <a:pt x="18389" y="14604"/>
                  <a:pt x="18207" y="14610"/>
                </a:cubicBezTo>
              </a:path>
              <a:path w="7839" h="3697">
                <a:moveTo>
                  <a:pt x="15503" y="12502"/>
                </a:moveTo>
                <a:cubicBezTo>
                  <a:pt x="15639" y="12225"/>
                  <a:pt x="15853" y="12881"/>
                  <a:pt x="16073" y="13097"/>
                </a:cubicBezTo>
                <a:cubicBezTo>
                  <a:pt x="16230" y="13251"/>
                  <a:pt x="16384" y="13396"/>
                  <a:pt x="16545" y="13543"/>
                </a:cubicBezTo>
              </a:path>
              <a:path w="7839" h="3697">
                <a:moveTo>
                  <a:pt x="16173" y="12030"/>
                </a:moveTo>
                <a:cubicBezTo>
                  <a:pt x="16186" y="12223"/>
                  <a:pt x="16214" y="12409"/>
                  <a:pt x="16247" y="12601"/>
                </a:cubicBezTo>
              </a:path>
              <a:path w="7839" h="3697">
                <a:moveTo>
                  <a:pt x="17810" y="14139"/>
                </a:moveTo>
                <a:cubicBezTo>
                  <a:pt x="18070" y="14284"/>
                  <a:pt x="18260" y="14462"/>
                  <a:pt x="18554" y="14585"/>
                </a:cubicBezTo>
                <a:cubicBezTo>
                  <a:pt x="18738" y="14647"/>
                  <a:pt x="18775" y="14653"/>
                  <a:pt x="18876" y="14709"/>
                </a:cubicBezTo>
              </a:path>
              <a:path w="7839" h="3697">
                <a:moveTo>
                  <a:pt x="19025" y="15106"/>
                </a:moveTo>
                <a:cubicBezTo>
                  <a:pt x="19144" y="14998"/>
                  <a:pt x="19336" y="14937"/>
                  <a:pt x="19248" y="15180"/>
                </a:cubicBezTo>
                <a:cubicBezTo>
                  <a:pt x="19223" y="15230"/>
                  <a:pt x="19199" y="15279"/>
                  <a:pt x="19174" y="15329"/>
                </a:cubicBezTo>
                <a:cubicBezTo>
                  <a:pt x="19046" y="15457"/>
                  <a:pt x="19424" y="15149"/>
                  <a:pt x="19298" y="15478"/>
                </a:cubicBezTo>
                <a:cubicBezTo>
                  <a:pt x="19223" y="15673"/>
                  <a:pt x="19074" y="15679"/>
                  <a:pt x="18901" y="15726"/>
                </a:cubicBezTo>
              </a:path>
              <a:path w="7839" h="3697">
                <a:moveTo>
                  <a:pt x="15453" y="14610"/>
                </a:moveTo>
                <a:cubicBezTo>
                  <a:pt x="15742" y="14417"/>
                  <a:pt x="15981" y="14131"/>
                  <a:pt x="16247" y="13891"/>
                </a:cubicBezTo>
              </a:path>
              <a:path w="7839" h="3697">
                <a:moveTo>
                  <a:pt x="15354" y="14932"/>
                </a:moveTo>
                <a:cubicBezTo>
                  <a:pt x="15390" y="15158"/>
                  <a:pt x="15404" y="15373"/>
                  <a:pt x="15404" y="15602"/>
                </a:cubicBezTo>
              </a:path>
              <a:path w="7839" h="3697">
                <a:moveTo>
                  <a:pt x="17587" y="13593"/>
                </a:moveTo>
                <a:cubicBezTo>
                  <a:pt x="17869" y="13339"/>
                  <a:pt x="18159" y="13123"/>
                  <a:pt x="18479" y="12923"/>
                </a:cubicBezTo>
              </a:path>
              <a:path w="7839" h="3697">
                <a:moveTo>
                  <a:pt x="17810" y="12452"/>
                </a:moveTo>
                <a:cubicBezTo>
                  <a:pt x="17848" y="12424"/>
                  <a:pt x="18100" y="12220"/>
                  <a:pt x="18083" y="12402"/>
                </a:cubicBezTo>
                <a:cubicBezTo>
                  <a:pt x="18032" y="12529"/>
                  <a:pt x="18013" y="12574"/>
                  <a:pt x="17959" y="12650"/>
                </a:cubicBezTo>
                <a:cubicBezTo>
                  <a:pt x="18103" y="12609"/>
                  <a:pt x="18144" y="12568"/>
                  <a:pt x="18182" y="12675"/>
                </a:cubicBezTo>
                <a:cubicBezTo>
                  <a:pt x="18005" y="12843"/>
                  <a:pt x="17928" y="12870"/>
                  <a:pt x="17686" y="12923"/>
                </a:cubicBezTo>
              </a:path>
              <a:path w="7839" h="3697">
                <a:moveTo>
                  <a:pt x="19224" y="13643"/>
                </a:moveTo>
                <a:cubicBezTo>
                  <a:pt x="19398" y="13584"/>
                  <a:pt x="19586" y="13571"/>
                  <a:pt x="19769" y="13543"/>
                </a:cubicBezTo>
              </a:path>
              <a:path w="7839" h="3697">
                <a:moveTo>
                  <a:pt x="19546" y="13841"/>
                </a:moveTo>
                <a:cubicBezTo>
                  <a:pt x="19671" y="13820"/>
                  <a:pt x="19698" y="13819"/>
                  <a:pt x="19769" y="13791"/>
                </a:cubicBezTo>
              </a:path>
              <a:path w="7839" h="3697">
                <a:moveTo>
                  <a:pt x="20315" y="12576"/>
                </a:moveTo>
                <a:cubicBezTo>
                  <a:pt x="20367" y="12459"/>
                  <a:pt x="20611" y="12326"/>
                  <a:pt x="20737" y="12477"/>
                </a:cubicBezTo>
                <a:cubicBezTo>
                  <a:pt x="20866" y="12632"/>
                  <a:pt x="20536" y="12777"/>
                  <a:pt x="20464" y="12824"/>
                </a:cubicBezTo>
                <a:cubicBezTo>
                  <a:pt x="20505" y="12799"/>
                  <a:pt x="20547" y="12775"/>
                  <a:pt x="20588" y="12750"/>
                </a:cubicBezTo>
                <a:cubicBezTo>
                  <a:pt x="20889" y="12914"/>
                  <a:pt x="20751" y="13095"/>
                  <a:pt x="20414" y="13171"/>
                </a:cubicBezTo>
                <a:cubicBezTo>
                  <a:pt x="20236" y="13171"/>
                  <a:pt x="20199" y="13196"/>
                  <a:pt x="20117" y="13122"/>
                </a:cubicBezTo>
              </a:path>
              <a:path w="7839" h="3697">
                <a:moveTo>
                  <a:pt x="20017" y="13667"/>
                </a:moveTo>
                <a:cubicBezTo>
                  <a:pt x="20351" y="13589"/>
                  <a:pt x="20691" y="13561"/>
                  <a:pt x="21034" y="13543"/>
                </a:cubicBezTo>
                <a:cubicBezTo>
                  <a:pt x="21075" y="13543"/>
                  <a:pt x="21117" y="13543"/>
                  <a:pt x="21158" y="13543"/>
                </a:cubicBezTo>
              </a:path>
              <a:path w="7839" h="3697">
                <a:moveTo>
                  <a:pt x="20265" y="14064"/>
                </a:moveTo>
                <a:cubicBezTo>
                  <a:pt x="20406" y="13978"/>
                  <a:pt x="20452" y="13956"/>
                  <a:pt x="20613" y="13965"/>
                </a:cubicBezTo>
                <a:cubicBezTo>
                  <a:pt x="20672" y="14203"/>
                  <a:pt x="20565" y="14323"/>
                  <a:pt x="20340" y="14436"/>
                </a:cubicBezTo>
                <a:cubicBezTo>
                  <a:pt x="20365" y="14420"/>
                  <a:pt x="20389" y="14403"/>
                  <a:pt x="20414" y="14387"/>
                </a:cubicBezTo>
                <a:cubicBezTo>
                  <a:pt x="20678" y="14387"/>
                  <a:pt x="20896" y="14529"/>
                  <a:pt x="20563" y="14759"/>
                </a:cubicBezTo>
                <a:cubicBezTo>
                  <a:pt x="20435" y="14847"/>
                  <a:pt x="20329" y="14833"/>
                  <a:pt x="20191" y="14833"/>
                </a:cubicBezTo>
              </a:path>
              <a:path w="7839" h="3697">
                <a:moveTo>
                  <a:pt x="21332" y="13444"/>
                </a:moveTo>
                <a:cubicBezTo>
                  <a:pt x="21440" y="13397"/>
                  <a:pt x="21602" y="13394"/>
                  <a:pt x="21729" y="13370"/>
                </a:cubicBezTo>
              </a:path>
              <a:path w="7839" h="3697">
                <a:moveTo>
                  <a:pt x="21456" y="13692"/>
                </a:moveTo>
                <a:cubicBezTo>
                  <a:pt x="21572" y="13692"/>
                  <a:pt x="21687" y="13692"/>
                  <a:pt x="21803" y="13692"/>
                </a:cubicBezTo>
              </a:path>
              <a:path w="7839" h="3697">
                <a:moveTo>
                  <a:pt x="22027" y="13122"/>
                </a:moveTo>
                <a:cubicBezTo>
                  <a:pt x="22027" y="13072"/>
                  <a:pt x="22027" y="13023"/>
                  <a:pt x="22027" y="12973"/>
                </a:cubicBezTo>
                <a:cubicBezTo>
                  <a:pt x="22099" y="13266"/>
                  <a:pt x="22110" y="13653"/>
                  <a:pt x="22101" y="13965"/>
                </a:cubicBezTo>
                <a:cubicBezTo>
                  <a:pt x="22081" y="14064"/>
                  <a:pt x="22073" y="14080"/>
                  <a:pt x="22076" y="14139"/>
                </a:cubicBezTo>
              </a:path>
              <a:path w="7839" h="3697">
                <a:moveTo>
                  <a:pt x="21729" y="14412"/>
                </a:moveTo>
                <a:cubicBezTo>
                  <a:pt x="21879" y="14635"/>
                  <a:pt x="22117" y="14601"/>
                  <a:pt x="22374" y="14536"/>
                </a:cubicBezTo>
                <a:cubicBezTo>
                  <a:pt x="22772" y="14435"/>
                  <a:pt x="23014" y="14068"/>
                  <a:pt x="23143" y="13692"/>
                </a:cubicBezTo>
                <a:cubicBezTo>
                  <a:pt x="23263" y="13340"/>
                  <a:pt x="23201" y="12907"/>
                  <a:pt x="23044" y="12576"/>
                </a:cubicBezTo>
                <a:cubicBezTo>
                  <a:pt x="22919" y="12311"/>
                  <a:pt x="22663" y="12193"/>
                  <a:pt x="22374" y="12229"/>
                </a:cubicBezTo>
                <a:cubicBezTo>
                  <a:pt x="22163" y="12255"/>
                  <a:pt x="21873" y="12393"/>
                  <a:pt x="21729" y="12551"/>
                </a:cubicBezTo>
                <a:cubicBezTo>
                  <a:pt x="21512" y="12789"/>
                  <a:pt x="21496" y="13193"/>
                  <a:pt x="21481" y="13494"/>
                </a:cubicBezTo>
                <a:cubicBezTo>
                  <a:pt x="21463" y="13834"/>
                  <a:pt x="21547" y="14082"/>
                  <a:pt x="21803" y="14312"/>
                </a:cubicBezTo>
                <a:cubicBezTo>
                  <a:pt x="21962" y="14455"/>
                  <a:pt x="22078" y="14468"/>
                  <a:pt x="22275" y="1448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 Students will be able to divide fractions &amp; mixed numbers.</a:t>
            </a: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0200" y="3884760"/>
            <a:ext cx="1625760" cy="1231920"/>
          </a:xfrm>
          <a:custGeom>
            <a:avLst/>
            <a:gdLst/>
            <a:ahLst/>
            <a:rect l="l" t="t" r="r" b="b"/>
            <a:pathLst>
              <a:path w="4516" h="3424">
                <a:moveTo>
                  <a:pt x="1910" y="10889"/>
                </a:moveTo>
                <a:cubicBezTo>
                  <a:pt x="1924" y="10894"/>
                  <a:pt x="2050" y="11047"/>
                  <a:pt x="2108" y="11112"/>
                </a:cubicBezTo>
              </a:path>
              <a:path w="4516" h="3424">
                <a:moveTo>
                  <a:pt x="2009" y="10790"/>
                </a:moveTo>
                <a:cubicBezTo>
                  <a:pt x="1995" y="10905"/>
                  <a:pt x="1948" y="10997"/>
                  <a:pt x="1935" y="11112"/>
                </a:cubicBezTo>
              </a:path>
              <a:path w="4516" h="3424">
                <a:moveTo>
                  <a:pt x="496" y="11385"/>
                </a:moveTo>
                <a:cubicBezTo>
                  <a:pt x="575" y="11307"/>
                  <a:pt x="607" y="11282"/>
                  <a:pt x="695" y="11311"/>
                </a:cubicBezTo>
                <a:cubicBezTo>
                  <a:pt x="767" y="11466"/>
                  <a:pt x="780" y="11789"/>
                  <a:pt x="521" y="11857"/>
                </a:cubicBezTo>
                <a:cubicBezTo>
                  <a:pt x="496" y="11840"/>
                  <a:pt x="471" y="11824"/>
                  <a:pt x="446" y="11807"/>
                </a:cubicBezTo>
                <a:cubicBezTo>
                  <a:pt x="508" y="11591"/>
                  <a:pt x="598" y="11672"/>
                  <a:pt x="769" y="11782"/>
                </a:cubicBezTo>
              </a:path>
              <a:path w="4516" h="3424">
                <a:moveTo>
                  <a:pt x="843" y="11187"/>
                </a:moveTo>
                <a:cubicBezTo>
                  <a:pt x="855" y="11415"/>
                  <a:pt x="816" y="11496"/>
                  <a:pt x="967" y="11633"/>
                </a:cubicBezTo>
                <a:cubicBezTo>
                  <a:pt x="1081" y="11419"/>
                  <a:pt x="1064" y="11431"/>
                  <a:pt x="967" y="11212"/>
                </a:cubicBezTo>
              </a:path>
              <a:path w="4516" h="3424">
                <a:moveTo>
                  <a:pt x="1116" y="11807"/>
                </a:moveTo>
                <a:cubicBezTo>
                  <a:pt x="1133" y="11790"/>
                  <a:pt x="1149" y="11774"/>
                  <a:pt x="1166" y="11757"/>
                </a:cubicBezTo>
                <a:cubicBezTo>
                  <a:pt x="1175" y="11845"/>
                  <a:pt x="1217" y="11842"/>
                  <a:pt x="1215" y="11931"/>
                </a:cubicBezTo>
                <a:cubicBezTo>
                  <a:pt x="1199" y="11989"/>
                  <a:pt x="1182" y="12047"/>
                  <a:pt x="1166" y="12105"/>
                </a:cubicBezTo>
              </a:path>
              <a:path w="4516" h="3424">
                <a:moveTo>
                  <a:pt x="719" y="12402"/>
                </a:moveTo>
                <a:cubicBezTo>
                  <a:pt x="1000" y="12416"/>
                  <a:pt x="1187" y="12306"/>
                  <a:pt x="1439" y="12179"/>
                </a:cubicBezTo>
              </a:path>
              <a:path w="4516" h="3424">
                <a:moveTo>
                  <a:pt x="719" y="12750"/>
                </a:moveTo>
                <a:cubicBezTo>
                  <a:pt x="851" y="12642"/>
                  <a:pt x="1076" y="12671"/>
                  <a:pt x="1042" y="12923"/>
                </a:cubicBezTo>
                <a:cubicBezTo>
                  <a:pt x="973" y="13059"/>
                  <a:pt x="960" y="13100"/>
                  <a:pt x="868" y="13146"/>
                </a:cubicBezTo>
                <a:cubicBezTo>
                  <a:pt x="824" y="12973"/>
                  <a:pt x="989" y="12998"/>
                  <a:pt x="1116" y="12998"/>
                </a:cubicBezTo>
              </a:path>
              <a:path w="4516" h="3424">
                <a:moveTo>
                  <a:pt x="1166" y="12551"/>
                </a:moveTo>
                <a:cubicBezTo>
                  <a:pt x="1252" y="12539"/>
                  <a:pt x="1241" y="12496"/>
                  <a:pt x="1215" y="12601"/>
                </a:cubicBezTo>
                <a:cubicBezTo>
                  <a:pt x="1401" y="12627"/>
                  <a:pt x="1560" y="12757"/>
                  <a:pt x="1265" y="12849"/>
                </a:cubicBezTo>
                <a:cubicBezTo>
                  <a:pt x="1224" y="12849"/>
                  <a:pt x="1182" y="12849"/>
                  <a:pt x="1141" y="12849"/>
                </a:cubicBezTo>
              </a:path>
              <a:path w="4516" h="3424">
                <a:moveTo>
                  <a:pt x="1960" y="12576"/>
                </a:moveTo>
                <a:cubicBezTo>
                  <a:pt x="2128" y="12536"/>
                  <a:pt x="2526" y="12544"/>
                  <a:pt x="2356" y="12874"/>
                </a:cubicBezTo>
                <a:cubicBezTo>
                  <a:pt x="2242" y="13094"/>
                  <a:pt x="2118" y="13059"/>
                  <a:pt x="1960" y="12998"/>
                </a:cubicBezTo>
                <a:cubicBezTo>
                  <a:pt x="1990" y="12814"/>
                  <a:pt x="2096" y="12798"/>
                  <a:pt x="2282" y="12849"/>
                </a:cubicBezTo>
                <a:cubicBezTo>
                  <a:pt x="2375" y="12895"/>
                  <a:pt x="2404" y="12906"/>
                  <a:pt x="2431" y="12973"/>
                </a:cubicBezTo>
              </a:path>
              <a:path w="4516" h="3424">
                <a:moveTo>
                  <a:pt x="2505" y="12477"/>
                </a:moveTo>
                <a:cubicBezTo>
                  <a:pt x="2573" y="12450"/>
                  <a:pt x="2631" y="12434"/>
                  <a:pt x="2704" y="12427"/>
                </a:cubicBezTo>
                <a:cubicBezTo>
                  <a:pt x="2698" y="12504"/>
                  <a:pt x="2697" y="12537"/>
                  <a:pt x="2654" y="12601"/>
                </a:cubicBezTo>
                <a:cubicBezTo>
                  <a:pt x="2775" y="12614"/>
                  <a:pt x="3033" y="12663"/>
                  <a:pt x="2853" y="12849"/>
                </a:cubicBezTo>
                <a:cubicBezTo>
                  <a:pt x="2764" y="12893"/>
                  <a:pt x="2743" y="12909"/>
                  <a:pt x="2679" y="12898"/>
                </a:cubicBezTo>
              </a:path>
              <a:path w="4516" h="3424">
                <a:moveTo>
                  <a:pt x="1910" y="13221"/>
                </a:moveTo>
                <a:cubicBezTo>
                  <a:pt x="2253" y="13111"/>
                  <a:pt x="2615" y="13146"/>
                  <a:pt x="2977" y="13146"/>
                </a:cubicBezTo>
                <a:cubicBezTo>
                  <a:pt x="3175" y="13146"/>
                  <a:pt x="3208" y="13146"/>
                  <a:pt x="3324" y="13146"/>
                </a:cubicBezTo>
              </a:path>
              <a:path w="4516" h="3424">
                <a:moveTo>
                  <a:pt x="2530" y="13519"/>
                </a:moveTo>
                <a:cubicBezTo>
                  <a:pt x="2511" y="13601"/>
                  <a:pt x="2483" y="13685"/>
                  <a:pt x="2456" y="13767"/>
                </a:cubicBezTo>
                <a:cubicBezTo>
                  <a:pt x="2612" y="13766"/>
                  <a:pt x="2666" y="13762"/>
                  <a:pt x="2803" y="13667"/>
                </a:cubicBezTo>
              </a:path>
              <a:path w="4516" h="3424">
                <a:moveTo>
                  <a:pt x="2729" y="13395"/>
                </a:moveTo>
                <a:cubicBezTo>
                  <a:pt x="2744" y="13644"/>
                  <a:pt x="2773" y="13890"/>
                  <a:pt x="2778" y="14139"/>
                </a:cubicBezTo>
                <a:cubicBezTo>
                  <a:pt x="2778" y="14164"/>
                  <a:pt x="2778" y="14188"/>
                  <a:pt x="2778" y="14213"/>
                </a:cubicBezTo>
              </a:path>
              <a:path w="4516" h="3424">
                <a:moveTo>
                  <a:pt x="3646" y="13171"/>
                </a:moveTo>
                <a:cubicBezTo>
                  <a:pt x="3792" y="13198"/>
                  <a:pt x="3897" y="13192"/>
                  <a:pt x="4043" y="13171"/>
                </a:cubicBezTo>
                <a:cubicBezTo>
                  <a:pt x="4051" y="13171"/>
                  <a:pt x="4060" y="13171"/>
                  <a:pt x="4068" y="13171"/>
                </a:cubicBezTo>
              </a:path>
              <a:path w="4516" h="3424">
                <a:moveTo>
                  <a:pt x="3746" y="12898"/>
                </a:moveTo>
                <a:lnTo>
                  <a:pt x="3746" y="12898"/>
                </a:lnTo>
              </a:path>
              <a:path w="4516" h="3424">
                <a:moveTo>
                  <a:pt x="3870" y="13791"/>
                </a:moveTo>
                <a:lnTo>
                  <a:pt x="3870" y="13791"/>
                </a:lnTo>
              </a:path>
              <a:path w="4516" h="3424">
                <a:moveTo>
                  <a:pt x="3621" y="13171"/>
                </a:moveTo>
                <a:cubicBezTo>
                  <a:pt x="3554" y="13101"/>
                  <a:pt x="3715" y="13124"/>
                  <a:pt x="3746" y="13122"/>
                </a:cubicBezTo>
              </a:path>
              <a:path w="4516" h="3424">
                <a:moveTo>
                  <a:pt x="3696" y="10939"/>
                </a:moveTo>
                <a:cubicBezTo>
                  <a:pt x="3732" y="10997"/>
                  <a:pt x="3755" y="11026"/>
                  <a:pt x="3770" y="11088"/>
                </a:cubicBezTo>
              </a:path>
              <a:path w="4516" h="3424">
                <a:moveTo>
                  <a:pt x="3770" y="10914"/>
                </a:moveTo>
                <a:cubicBezTo>
                  <a:pt x="3713" y="11028"/>
                  <a:pt x="3674" y="11156"/>
                  <a:pt x="3621" y="11261"/>
                </a:cubicBezTo>
              </a:path>
              <a:path w="4516" h="3424">
                <a:moveTo>
                  <a:pt x="4440" y="12576"/>
                </a:moveTo>
                <a:cubicBezTo>
                  <a:pt x="4440" y="12695"/>
                  <a:pt x="4426" y="12806"/>
                  <a:pt x="4415" y="12923"/>
                </a:cubicBezTo>
                <a:cubicBezTo>
                  <a:pt x="4415" y="12940"/>
                  <a:pt x="4415" y="12956"/>
                  <a:pt x="4415" y="12973"/>
                </a:cubicBezTo>
              </a:path>
              <a:path w="4516" h="3424">
                <a:moveTo>
                  <a:pt x="4787" y="12477"/>
                </a:moveTo>
                <a:cubicBezTo>
                  <a:pt x="4777" y="12648"/>
                  <a:pt x="4766" y="12838"/>
                  <a:pt x="4713" y="12998"/>
                </a:cubicBezTo>
              </a:path>
              <a:path w="4516" h="3424">
                <a:moveTo>
                  <a:pt x="4316" y="13271"/>
                </a:moveTo>
                <a:cubicBezTo>
                  <a:pt x="4497" y="13256"/>
                  <a:pt x="4684" y="13223"/>
                  <a:pt x="4862" y="13196"/>
                </a:cubicBezTo>
                <a:cubicBezTo>
                  <a:pt x="4895" y="13188"/>
                  <a:pt x="4928" y="13179"/>
                  <a:pt x="4961" y="13171"/>
                </a:cubicBezTo>
              </a:path>
              <a:path w="4516" h="3424">
                <a:moveTo>
                  <a:pt x="4713" y="13519"/>
                </a:moveTo>
                <a:cubicBezTo>
                  <a:pt x="4615" y="13406"/>
                  <a:pt x="4519" y="13364"/>
                  <a:pt x="4415" y="13519"/>
                </a:cubicBezTo>
                <a:cubicBezTo>
                  <a:pt x="4247" y="13769"/>
                  <a:pt x="4520" y="13745"/>
                  <a:pt x="4614" y="13891"/>
                </a:cubicBezTo>
                <a:cubicBezTo>
                  <a:pt x="4689" y="14008"/>
                  <a:pt x="4604" y="14083"/>
                  <a:pt x="4539" y="14163"/>
                </a:cubicBezTo>
                <a:cubicBezTo>
                  <a:pt x="4513" y="13959"/>
                  <a:pt x="4575" y="13830"/>
                  <a:pt x="4663" y="1364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960" y="5197320"/>
            <a:ext cx="2975040" cy="1027440"/>
          </a:xfrm>
          <a:custGeom>
            <a:avLst/>
            <a:gdLst/>
            <a:ahLst/>
            <a:rect l="l" t="t" r="r" b="b"/>
            <a:pathLst>
              <a:path w="8261" h="2854">
                <a:moveTo>
                  <a:pt x="2108" y="15131"/>
                </a:moveTo>
                <a:cubicBezTo>
                  <a:pt x="2246" y="14993"/>
                  <a:pt x="2360" y="15188"/>
                  <a:pt x="2332" y="15354"/>
                </a:cubicBezTo>
                <a:cubicBezTo>
                  <a:pt x="2297" y="15561"/>
                  <a:pt x="2168" y="15624"/>
                  <a:pt x="2009" y="15677"/>
                </a:cubicBezTo>
                <a:cubicBezTo>
                  <a:pt x="2033" y="15483"/>
                  <a:pt x="2086" y="15378"/>
                  <a:pt x="2307" y="15478"/>
                </a:cubicBezTo>
                <a:cubicBezTo>
                  <a:pt x="2388" y="15539"/>
                  <a:pt x="2410" y="15544"/>
                  <a:pt x="2431" y="15602"/>
                </a:cubicBezTo>
              </a:path>
              <a:path w="8261" h="2854">
                <a:moveTo>
                  <a:pt x="2555" y="15056"/>
                </a:moveTo>
                <a:cubicBezTo>
                  <a:pt x="2594" y="15005"/>
                  <a:pt x="2794" y="14846"/>
                  <a:pt x="2778" y="15032"/>
                </a:cubicBezTo>
                <a:cubicBezTo>
                  <a:pt x="2732" y="15147"/>
                  <a:pt x="2723" y="15182"/>
                  <a:pt x="2654" y="15230"/>
                </a:cubicBezTo>
                <a:cubicBezTo>
                  <a:pt x="2799" y="15181"/>
                  <a:pt x="2845" y="15163"/>
                  <a:pt x="2927" y="15255"/>
                </a:cubicBezTo>
                <a:cubicBezTo>
                  <a:pt x="2804" y="15478"/>
                  <a:pt x="2739" y="15542"/>
                  <a:pt x="2480" y="15528"/>
                </a:cubicBezTo>
              </a:path>
              <a:path w="8261" h="2854">
                <a:moveTo>
                  <a:pt x="2133" y="15875"/>
                </a:moveTo>
                <a:cubicBezTo>
                  <a:pt x="2432" y="15823"/>
                  <a:pt x="2733" y="15775"/>
                  <a:pt x="3026" y="15701"/>
                </a:cubicBezTo>
              </a:path>
              <a:path w="8261" h="2854">
                <a:moveTo>
                  <a:pt x="2381" y="16098"/>
                </a:moveTo>
                <a:cubicBezTo>
                  <a:pt x="2306" y="16324"/>
                  <a:pt x="2649" y="16108"/>
                  <a:pt x="2729" y="16073"/>
                </a:cubicBezTo>
              </a:path>
              <a:path w="8261" h="2854">
                <a:moveTo>
                  <a:pt x="2753" y="15949"/>
                </a:moveTo>
                <a:cubicBezTo>
                  <a:pt x="2688" y="16100"/>
                  <a:pt x="2660" y="16230"/>
                  <a:pt x="2654" y="16396"/>
                </a:cubicBezTo>
                <a:cubicBezTo>
                  <a:pt x="2654" y="16413"/>
                  <a:pt x="2654" y="16429"/>
                  <a:pt x="2654" y="16446"/>
                </a:cubicBezTo>
              </a:path>
              <a:path w="8261" h="2854">
                <a:moveTo>
                  <a:pt x="2356" y="15974"/>
                </a:moveTo>
                <a:cubicBezTo>
                  <a:pt x="2356" y="15999"/>
                  <a:pt x="2356" y="16024"/>
                  <a:pt x="2356" y="16049"/>
                </a:cubicBezTo>
              </a:path>
              <a:path w="8261" h="2854">
                <a:moveTo>
                  <a:pt x="3324" y="15726"/>
                </a:moveTo>
                <a:cubicBezTo>
                  <a:pt x="3466" y="15850"/>
                  <a:pt x="3603" y="15976"/>
                  <a:pt x="3746" y="16098"/>
                </a:cubicBezTo>
              </a:path>
              <a:path w="8261" h="2854">
                <a:moveTo>
                  <a:pt x="3770" y="15528"/>
                </a:moveTo>
                <a:cubicBezTo>
                  <a:pt x="3669" y="15732"/>
                  <a:pt x="3612" y="15942"/>
                  <a:pt x="3522" y="16148"/>
                </a:cubicBezTo>
                <a:cubicBezTo>
                  <a:pt x="3494" y="16176"/>
                  <a:pt x="3485" y="16180"/>
                  <a:pt x="3497" y="16123"/>
                </a:cubicBezTo>
              </a:path>
              <a:path w="8261" h="2854">
                <a:moveTo>
                  <a:pt x="4316" y="14957"/>
                </a:moveTo>
                <a:cubicBezTo>
                  <a:pt x="4066" y="15130"/>
                  <a:pt x="4228" y="15094"/>
                  <a:pt x="4415" y="15230"/>
                </a:cubicBezTo>
                <a:cubicBezTo>
                  <a:pt x="4448" y="15263"/>
                  <a:pt x="4481" y="15296"/>
                  <a:pt x="4514" y="15329"/>
                </a:cubicBezTo>
                <a:cubicBezTo>
                  <a:pt x="4438" y="15457"/>
                  <a:pt x="4409" y="15499"/>
                  <a:pt x="4291" y="15503"/>
                </a:cubicBezTo>
                <a:cubicBezTo>
                  <a:pt x="4300" y="15428"/>
                  <a:pt x="4546" y="15035"/>
                  <a:pt x="4539" y="14982"/>
                </a:cubicBezTo>
                <a:cubicBezTo>
                  <a:pt x="4523" y="14974"/>
                  <a:pt x="4506" y="14965"/>
                  <a:pt x="4490" y="14957"/>
                </a:cubicBezTo>
              </a:path>
              <a:path w="8261" h="2854">
                <a:moveTo>
                  <a:pt x="4093" y="15677"/>
                </a:moveTo>
                <a:cubicBezTo>
                  <a:pt x="4340" y="15594"/>
                  <a:pt x="4628" y="15481"/>
                  <a:pt x="4887" y="15453"/>
                </a:cubicBezTo>
                <a:cubicBezTo>
                  <a:pt x="4895" y="15461"/>
                  <a:pt x="4903" y="15470"/>
                  <a:pt x="4911" y="15478"/>
                </a:cubicBezTo>
              </a:path>
              <a:path w="8261" h="2854">
                <a:moveTo>
                  <a:pt x="4142" y="15825"/>
                </a:moveTo>
                <a:cubicBezTo>
                  <a:pt x="4178" y="15979"/>
                  <a:pt x="4161" y="16095"/>
                  <a:pt x="4118" y="16247"/>
                </a:cubicBezTo>
              </a:path>
              <a:path w="8261" h="2854">
                <a:moveTo>
                  <a:pt x="4539" y="15850"/>
                </a:moveTo>
                <a:cubicBezTo>
                  <a:pt x="4533" y="15972"/>
                  <a:pt x="4534" y="16116"/>
                  <a:pt x="4490" y="16222"/>
                </a:cubicBezTo>
              </a:path>
              <a:path w="8261" h="2854">
                <a:moveTo>
                  <a:pt x="2133" y="16644"/>
                </a:moveTo>
                <a:cubicBezTo>
                  <a:pt x="2082" y="16644"/>
                  <a:pt x="2501" y="16336"/>
                  <a:pt x="2604" y="16247"/>
                </a:cubicBezTo>
                <a:cubicBezTo>
                  <a:pt x="2773" y="16099"/>
                  <a:pt x="2805" y="16062"/>
                  <a:pt x="2927" y="15999"/>
                </a:cubicBezTo>
              </a:path>
              <a:path w="8261" h="2854">
                <a:moveTo>
                  <a:pt x="1488" y="16594"/>
                </a:moveTo>
                <a:cubicBezTo>
                  <a:pt x="1488" y="16826"/>
                  <a:pt x="1488" y="17057"/>
                  <a:pt x="1488" y="17289"/>
                </a:cubicBezTo>
              </a:path>
              <a:path w="8261" h="2854">
                <a:moveTo>
                  <a:pt x="3870" y="15528"/>
                </a:moveTo>
                <a:cubicBezTo>
                  <a:pt x="3974" y="15361"/>
                  <a:pt x="4179" y="15229"/>
                  <a:pt x="4341" y="15106"/>
                </a:cubicBezTo>
                <a:cubicBezTo>
                  <a:pt x="4366" y="15089"/>
                  <a:pt x="4390" y="15073"/>
                  <a:pt x="4415" y="15056"/>
                </a:cubicBezTo>
              </a:path>
              <a:path w="8261" h="2854">
                <a:moveTo>
                  <a:pt x="4862" y="14536"/>
                </a:moveTo>
                <a:cubicBezTo>
                  <a:pt x="4892" y="14476"/>
                  <a:pt x="4910" y="14453"/>
                  <a:pt x="4961" y="14436"/>
                </a:cubicBezTo>
                <a:cubicBezTo>
                  <a:pt x="5111" y="14603"/>
                  <a:pt x="5070" y="14776"/>
                  <a:pt x="4887" y="14932"/>
                </a:cubicBezTo>
                <a:cubicBezTo>
                  <a:pt x="4870" y="14932"/>
                  <a:pt x="4854" y="14932"/>
                  <a:pt x="4837" y="14932"/>
                </a:cubicBezTo>
                <a:cubicBezTo>
                  <a:pt x="4864" y="14774"/>
                  <a:pt x="5010" y="14759"/>
                  <a:pt x="5159" y="14784"/>
                </a:cubicBezTo>
                <a:cubicBezTo>
                  <a:pt x="5252" y="14830"/>
                  <a:pt x="5282" y="14840"/>
                  <a:pt x="5308" y="14908"/>
                </a:cubicBezTo>
              </a:path>
              <a:path w="8261" h="2854">
                <a:moveTo>
                  <a:pt x="5556" y="15652"/>
                </a:moveTo>
                <a:cubicBezTo>
                  <a:pt x="5702" y="15587"/>
                  <a:pt x="5843" y="15558"/>
                  <a:pt x="6003" y="15528"/>
                </a:cubicBezTo>
              </a:path>
              <a:path w="8261" h="2854">
                <a:moveTo>
                  <a:pt x="5606" y="15900"/>
                </a:moveTo>
                <a:cubicBezTo>
                  <a:pt x="5730" y="15859"/>
                  <a:pt x="5854" y="15817"/>
                  <a:pt x="5978" y="15776"/>
                </a:cubicBezTo>
              </a:path>
              <a:path w="8261" h="2854">
                <a:moveTo>
                  <a:pt x="6623" y="14759"/>
                </a:moveTo>
                <a:cubicBezTo>
                  <a:pt x="6592" y="14858"/>
                  <a:pt x="6564" y="14955"/>
                  <a:pt x="6548" y="15056"/>
                </a:cubicBezTo>
                <a:cubicBezTo>
                  <a:pt x="6671" y="15036"/>
                  <a:pt x="6774" y="14997"/>
                  <a:pt x="6896" y="14957"/>
                </a:cubicBezTo>
              </a:path>
              <a:path w="8261" h="2854">
                <a:moveTo>
                  <a:pt x="6871" y="14684"/>
                </a:moveTo>
                <a:cubicBezTo>
                  <a:pt x="6841" y="14890"/>
                  <a:pt x="6788" y="15098"/>
                  <a:pt x="6747" y="15304"/>
                </a:cubicBezTo>
              </a:path>
              <a:path w="8261" h="2854">
                <a:moveTo>
                  <a:pt x="7069" y="14784"/>
                </a:moveTo>
                <a:cubicBezTo>
                  <a:pt x="7051" y="14954"/>
                  <a:pt x="7047" y="15087"/>
                  <a:pt x="7069" y="15255"/>
                </a:cubicBezTo>
                <a:cubicBezTo>
                  <a:pt x="7237" y="15192"/>
                  <a:pt x="7278" y="15139"/>
                  <a:pt x="7317" y="14982"/>
                </a:cubicBezTo>
                <a:cubicBezTo>
                  <a:pt x="7196" y="15094"/>
                  <a:pt x="7187" y="15142"/>
                  <a:pt x="7144" y="15304"/>
                </a:cubicBezTo>
              </a:path>
              <a:path w="8261" h="2854">
                <a:moveTo>
                  <a:pt x="6449" y="15726"/>
                </a:moveTo>
                <a:cubicBezTo>
                  <a:pt x="6714" y="15628"/>
                  <a:pt x="6972" y="15550"/>
                  <a:pt x="7243" y="15478"/>
                </a:cubicBezTo>
              </a:path>
              <a:path w="8261" h="2854">
                <a:moveTo>
                  <a:pt x="6524" y="15949"/>
                </a:moveTo>
                <a:cubicBezTo>
                  <a:pt x="6491" y="16157"/>
                  <a:pt x="6475" y="16389"/>
                  <a:pt x="6350" y="16545"/>
                </a:cubicBezTo>
              </a:path>
              <a:path w="8261" h="2854">
                <a:moveTo>
                  <a:pt x="6896" y="15974"/>
                </a:moveTo>
                <a:cubicBezTo>
                  <a:pt x="6867" y="16133"/>
                  <a:pt x="6851" y="16295"/>
                  <a:pt x="6796" y="16446"/>
                </a:cubicBezTo>
              </a:path>
              <a:path w="8261" h="2854">
                <a:moveTo>
                  <a:pt x="7565" y="15528"/>
                </a:moveTo>
                <a:cubicBezTo>
                  <a:pt x="7654" y="15496"/>
                  <a:pt x="7745" y="15475"/>
                  <a:pt x="7838" y="15453"/>
                </a:cubicBezTo>
              </a:path>
              <a:path w="8261" h="2854">
                <a:moveTo>
                  <a:pt x="7590" y="15726"/>
                </a:moveTo>
                <a:cubicBezTo>
                  <a:pt x="7682" y="15704"/>
                  <a:pt x="7769" y="15685"/>
                  <a:pt x="7863" y="15677"/>
                </a:cubicBezTo>
              </a:path>
              <a:path w="8261" h="2854">
                <a:moveTo>
                  <a:pt x="8806" y="15801"/>
                </a:moveTo>
                <a:cubicBezTo>
                  <a:pt x="8788" y="15902"/>
                  <a:pt x="8759" y="16012"/>
                  <a:pt x="8781" y="16098"/>
                </a:cubicBezTo>
                <a:cubicBezTo>
                  <a:pt x="8904" y="16072"/>
                  <a:pt x="8972" y="16024"/>
                  <a:pt x="9079" y="15949"/>
                </a:cubicBezTo>
              </a:path>
              <a:path w="8261" h="2854">
                <a:moveTo>
                  <a:pt x="9004" y="15850"/>
                </a:moveTo>
                <a:cubicBezTo>
                  <a:pt x="8999" y="16026"/>
                  <a:pt x="8987" y="16196"/>
                  <a:pt x="8979" y="16371"/>
                </a:cubicBezTo>
              </a:path>
              <a:path w="8261" h="2854">
                <a:moveTo>
                  <a:pt x="9277" y="15751"/>
                </a:moveTo>
                <a:cubicBezTo>
                  <a:pt x="9277" y="15824"/>
                  <a:pt x="9208" y="16217"/>
                  <a:pt x="9277" y="16247"/>
                </a:cubicBezTo>
                <a:cubicBezTo>
                  <a:pt x="9454" y="16325"/>
                  <a:pt x="9445" y="15992"/>
                  <a:pt x="9451" y="15925"/>
                </a:cubicBezTo>
                <a:cubicBezTo>
                  <a:pt x="9365" y="16049"/>
                  <a:pt x="9337" y="16145"/>
                  <a:pt x="9302" y="16297"/>
                </a:cubicBezTo>
              </a:path>
              <a:path w="8261" h="2854">
                <a:moveTo>
                  <a:pt x="8582" y="16520"/>
                </a:moveTo>
                <a:cubicBezTo>
                  <a:pt x="8644" y="16321"/>
                  <a:pt x="8604" y="16201"/>
                  <a:pt x="8558" y="15999"/>
                </a:cubicBezTo>
                <a:cubicBezTo>
                  <a:pt x="8540" y="15919"/>
                  <a:pt x="8475" y="15811"/>
                  <a:pt x="8558" y="15751"/>
                </a:cubicBezTo>
                <a:cubicBezTo>
                  <a:pt x="8723" y="15632"/>
                  <a:pt x="9168" y="15679"/>
                  <a:pt x="9351" y="15652"/>
                </a:cubicBezTo>
                <a:cubicBezTo>
                  <a:pt x="9574" y="15611"/>
                  <a:pt x="9616" y="15604"/>
                  <a:pt x="9748" y="15577"/>
                </a:cubicBezTo>
              </a:path>
              <a:path w="8261" h="2854">
                <a:moveTo>
                  <a:pt x="7838" y="15974"/>
                </a:moveTo>
                <a:cubicBezTo>
                  <a:pt x="7819" y="16172"/>
                  <a:pt x="7786" y="16371"/>
                  <a:pt x="7764" y="16570"/>
                </a:cubicBezTo>
                <a:cubicBezTo>
                  <a:pt x="7764" y="16553"/>
                  <a:pt x="7764" y="16537"/>
                  <a:pt x="7764" y="16520"/>
                </a:cubicBezTo>
              </a:path>
              <a:path w="8261" h="2854">
                <a:moveTo>
                  <a:pt x="8161" y="15974"/>
                </a:moveTo>
                <a:cubicBezTo>
                  <a:pt x="8137" y="16172"/>
                  <a:pt x="8122" y="16370"/>
                  <a:pt x="8111" y="1657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5357880"/>
            <a:ext cx="88920" cy="233280"/>
          </a:xfrm>
          <a:custGeom>
            <a:avLst/>
            <a:gdLst/>
            <a:ahLst/>
            <a:rect l="l" t="t" r="r" b="b"/>
            <a:pathLst>
              <a:path w="249" h="646">
                <a:moveTo>
                  <a:pt x="9277" y="15056"/>
                </a:moveTo>
                <a:cubicBezTo>
                  <a:pt x="9252" y="15146"/>
                  <a:pt x="9223" y="15240"/>
                  <a:pt x="9203" y="15329"/>
                </a:cubicBezTo>
                <a:cubicBezTo>
                  <a:pt x="9295" y="15308"/>
                  <a:pt x="9361" y="15271"/>
                  <a:pt x="9451" y="15230"/>
                </a:cubicBezTo>
              </a:path>
              <a:path w="249" h="646">
                <a:moveTo>
                  <a:pt x="9451" y="14883"/>
                </a:moveTo>
                <a:cubicBezTo>
                  <a:pt x="9420" y="15098"/>
                  <a:pt x="9410" y="15322"/>
                  <a:pt x="9351" y="1552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5880" y="5929200"/>
            <a:ext cx="366480" cy="563760"/>
          </a:xfrm>
          <a:custGeom>
            <a:avLst/>
            <a:gdLst/>
            <a:ahLst/>
            <a:rect l="l" t="t" r="r" b="b"/>
            <a:pathLst>
              <a:path w="1018" h="1564">
                <a:moveTo>
                  <a:pt x="8880" y="16594"/>
                </a:moveTo>
                <a:cubicBezTo>
                  <a:pt x="8810" y="16669"/>
                  <a:pt x="8824" y="16741"/>
                  <a:pt x="8806" y="16842"/>
                </a:cubicBezTo>
                <a:cubicBezTo>
                  <a:pt x="8904" y="16793"/>
                  <a:pt x="8988" y="16733"/>
                  <a:pt x="9079" y="16669"/>
                </a:cubicBezTo>
              </a:path>
              <a:path w="1018" h="1564">
                <a:moveTo>
                  <a:pt x="9103" y="16495"/>
                </a:moveTo>
                <a:cubicBezTo>
                  <a:pt x="9046" y="16650"/>
                  <a:pt x="9018" y="16799"/>
                  <a:pt x="9004" y="16966"/>
                </a:cubicBezTo>
              </a:path>
              <a:path w="1018" h="1564">
                <a:moveTo>
                  <a:pt x="9277" y="16594"/>
                </a:moveTo>
                <a:cubicBezTo>
                  <a:pt x="9277" y="16672"/>
                  <a:pt x="9276" y="16721"/>
                  <a:pt x="9252" y="16793"/>
                </a:cubicBezTo>
                <a:cubicBezTo>
                  <a:pt x="9332" y="16786"/>
                  <a:pt x="9378" y="16776"/>
                  <a:pt x="9451" y="16743"/>
                </a:cubicBezTo>
              </a:path>
              <a:path w="1018" h="1564">
                <a:moveTo>
                  <a:pt x="9451" y="16470"/>
                </a:moveTo>
                <a:cubicBezTo>
                  <a:pt x="9423" y="16642"/>
                  <a:pt x="9417" y="16829"/>
                  <a:pt x="9376" y="16991"/>
                </a:cubicBezTo>
              </a:path>
              <a:path w="1018" h="1564">
                <a:moveTo>
                  <a:pt x="8781" y="17264"/>
                </a:moveTo>
                <a:cubicBezTo>
                  <a:pt x="9021" y="17207"/>
                  <a:pt x="9278" y="17181"/>
                  <a:pt x="9525" y="17165"/>
                </a:cubicBezTo>
                <a:cubicBezTo>
                  <a:pt x="9566" y="17165"/>
                  <a:pt x="9608" y="17165"/>
                  <a:pt x="9649" y="17165"/>
                </a:cubicBezTo>
              </a:path>
              <a:path w="1018" h="1564">
                <a:moveTo>
                  <a:pt x="8682" y="16694"/>
                </a:moveTo>
                <a:cubicBezTo>
                  <a:pt x="8707" y="16702"/>
                  <a:pt x="8731" y="16710"/>
                  <a:pt x="8756" y="16718"/>
                </a:cubicBezTo>
              </a:path>
              <a:path w="1018" h="1564">
                <a:moveTo>
                  <a:pt x="9426" y="17512"/>
                </a:moveTo>
                <a:cubicBezTo>
                  <a:pt x="9534" y="17490"/>
                  <a:pt x="9560" y="17477"/>
                  <a:pt x="9624" y="17512"/>
                </a:cubicBezTo>
                <a:cubicBezTo>
                  <a:pt x="9553" y="17715"/>
                  <a:pt x="9444" y="17855"/>
                  <a:pt x="9327" y="18033"/>
                </a:cubicBezTo>
                <a:cubicBezTo>
                  <a:pt x="9460" y="17955"/>
                  <a:pt x="9555" y="17912"/>
                  <a:pt x="9699" y="1785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1000" y="4313160"/>
            <a:ext cx="250920" cy="446040"/>
          </a:xfrm>
          <a:custGeom>
            <a:avLst/>
            <a:gdLst/>
            <a:ahLst/>
            <a:rect l="l" t="t" r="r" b="b"/>
            <a:pathLst>
              <a:path w="695" h="1241">
                <a:moveTo>
                  <a:pt x="12576" y="12080"/>
                </a:moveTo>
                <a:cubicBezTo>
                  <a:pt x="12635" y="12002"/>
                  <a:pt x="12635" y="11996"/>
                  <a:pt x="12725" y="12005"/>
                </a:cubicBezTo>
                <a:cubicBezTo>
                  <a:pt x="12706" y="12121"/>
                  <a:pt x="12695" y="12127"/>
                  <a:pt x="12601" y="12204"/>
                </a:cubicBezTo>
                <a:cubicBezTo>
                  <a:pt x="12696" y="12166"/>
                  <a:pt x="12872" y="12132"/>
                  <a:pt x="12725" y="12303"/>
                </a:cubicBezTo>
                <a:cubicBezTo>
                  <a:pt x="12627" y="12418"/>
                  <a:pt x="12574" y="12387"/>
                  <a:pt x="12477" y="12328"/>
                </a:cubicBezTo>
              </a:path>
              <a:path w="695" h="1241">
                <a:moveTo>
                  <a:pt x="13022" y="11981"/>
                </a:moveTo>
                <a:cubicBezTo>
                  <a:pt x="13047" y="12115"/>
                  <a:pt x="13065" y="12242"/>
                  <a:pt x="13072" y="12378"/>
                </a:cubicBezTo>
              </a:path>
              <a:path w="695" h="1241">
                <a:moveTo>
                  <a:pt x="12551" y="12576"/>
                </a:moveTo>
                <a:cubicBezTo>
                  <a:pt x="12757" y="12514"/>
                  <a:pt x="12970" y="12465"/>
                  <a:pt x="13171" y="12402"/>
                </a:cubicBezTo>
              </a:path>
              <a:path w="695" h="1241">
                <a:moveTo>
                  <a:pt x="12973" y="12849"/>
                </a:moveTo>
                <a:cubicBezTo>
                  <a:pt x="12945" y="12748"/>
                  <a:pt x="12877" y="12620"/>
                  <a:pt x="12750" y="12725"/>
                </a:cubicBezTo>
                <a:cubicBezTo>
                  <a:pt x="12684" y="12812"/>
                  <a:pt x="12664" y="12830"/>
                  <a:pt x="12650" y="12898"/>
                </a:cubicBezTo>
                <a:cubicBezTo>
                  <a:pt x="12810" y="12869"/>
                  <a:pt x="12884" y="12710"/>
                  <a:pt x="12898" y="12874"/>
                </a:cubicBezTo>
                <a:cubicBezTo>
                  <a:pt x="12908" y="12989"/>
                  <a:pt x="12915" y="13105"/>
                  <a:pt x="12923" y="1322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1160" y="4964040"/>
            <a:ext cx="766800" cy="696960"/>
          </a:xfrm>
          <a:custGeom>
            <a:avLst/>
            <a:gdLst/>
            <a:ahLst/>
            <a:rect l="l" t="t" r="r" b="b"/>
            <a:pathLst>
              <a:path w="2134" h="1936">
                <a:moveTo>
                  <a:pt x="9947" y="14387"/>
                </a:moveTo>
                <a:cubicBezTo>
                  <a:pt x="9977" y="14375"/>
                  <a:pt x="10226" y="14267"/>
                  <a:pt x="10170" y="14412"/>
                </a:cubicBezTo>
                <a:cubicBezTo>
                  <a:pt x="10068" y="14564"/>
                  <a:pt x="10032" y="14618"/>
                  <a:pt x="9947" y="14709"/>
                </a:cubicBezTo>
                <a:cubicBezTo>
                  <a:pt x="9816" y="14774"/>
                  <a:pt x="10195" y="14649"/>
                  <a:pt x="10244" y="14635"/>
                </a:cubicBezTo>
              </a:path>
              <a:path w="2134" h="1936">
                <a:moveTo>
                  <a:pt x="9847" y="15007"/>
                </a:moveTo>
                <a:cubicBezTo>
                  <a:pt x="10029" y="14931"/>
                  <a:pt x="10204" y="14861"/>
                  <a:pt x="10393" y="14808"/>
                </a:cubicBezTo>
              </a:path>
              <a:path w="2134" h="1936">
                <a:moveTo>
                  <a:pt x="9947" y="15156"/>
                </a:moveTo>
                <a:cubicBezTo>
                  <a:pt x="9902" y="15291"/>
                  <a:pt x="9866" y="15421"/>
                  <a:pt x="9823" y="15553"/>
                </a:cubicBezTo>
              </a:path>
              <a:path w="2134" h="1936">
                <a:moveTo>
                  <a:pt x="10120" y="15131"/>
                </a:moveTo>
                <a:cubicBezTo>
                  <a:pt x="10142" y="15260"/>
                  <a:pt x="10142" y="15349"/>
                  <a:pt x="10120" y="15478"/>
                </a:cubicBezTo>
              </a:path>
              <a:path w="2134" h="1936">
                <a:moveTo>
                  <a:pt x="9153" y="15404"/>
                </a:moveTo>
                <a:cubicBezTo>
                  <a:pt x="9211" y="15528"/>
                  <a:pt x="9256" y="15587"/>
                  <a:pt x="9401" y="15652"/>
                </a:cubicBezTo>
                <a:cubicBezTo>
                  <a:pt x="9656" y="15766"/>
                  <a:pt x="9953" y="15731"/>
                  <a:pt x="10220" y="15701"/>
                </a:cubicBezTo>
                <a:cubicBezTo>
                  <a:pt x="10523" y="15666"/>
                  <a:pt x="10701" y="15574"/>
                  <a:pt x="10914" y="15354"/>
                </a:cubicBezTo>
                <a:cubicBezTo>
                  <a:pt x="11152" y="15107"/>
                  <a:pt x="11187" y="14843"/>
                  <a:pt x="11137" y="14511"/>
                </a:cubicBezTo>
                <a:cubicBezTo>
                  <a:pt x="11089" y="14195"/>
                  <a:pt x="10884" y="13981"/>
                  <a:pt x="10592" y="13866"/>
                </a:cubicBezTo>
                <a:cubicBezTo>
                  <a:pt x="10348" y="13770"/>
                  <a:pt x="10052" y="13772"/>
                  <a:pt x="9798" y="13816"/>
                </a:cubicBezTo>
                <a:cubicBezTo>
                  <a:pt x="9529" y="13863"/>
                  <a:pt x="9320" y="13957"/>
                  <a:pt x="9203" y="14213"/>
                </a:cubicBezTo>
                <a:cubicBezTo>
                  <a:pt x="9109" y="14417"/>
                  <a:pt x="9038" y="14685"/>
                  <a:pt x="9029" y="14908"/>
                </a:cubicBezTo>
                <a:cubicBezTo>
                  <a:pt x="9022" y="15090"/>
                  <a:pt x="9085" y="15251"/>
                  <a:pt x="9103" y="15429"/>
                </a:cubicBezTo>
                <a:cubicBezTo>
                  <a:pt x="9109" y="15487"/>
                  <a:pt x="9116" y="15522"/>
                  <a:pt x="9128" y="1557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87880" y="4749840"/>
            <a:ext cx="2259000" cy="1206360"/>
          </a:xfrm>
          <a:custGeom>
            <a:avLst/>
            <a:gdLst/>
            <a:ahLst/>
            <a:rect l="l" t="t" r="r" b="b"/>
            <a:pathLst>
              <a:path w="6277" h="3350">
                <a:moveTo>
                  <a:pt x="11683" y="13841"/>
                </a:moveTo>
                <a:lnTo>
                  <a:pt x="11683" y="13841"/>
                </a:lnTo>
              </a:path>
              <a:path w="6277" h="3350">
                <a:moveTo>
                  <a:pt x="11757" y="13841"/>
                </a:moveTo>
                <a:cubicBezTo>
                  <a:pt x="11787" y="13811"/>
                  <a:pt x="12004" y="13669"/>
                  <a:pt x="12005" y="13816"/>
                </a:cubicBezTo>
                <a:cubicBezTo>
                  <a:pt x="11978" y="13928"/>
                  <a:pt x="11961" y="13970"/>
                  <a:pt x="11881" y="14015"/>
                </a:cubicBezTo>
                <a:cubicBezTo>
                  <a:pt x="11856" y="14015"/>
                  <a:pt x="11832" y="14015"/>
                  <a:pt x="11807" y="14015"/>
                </a:cubicBezTo>
                <a:cubicBezTo>
                  <a:pt x="11909" y="13976"/>
                  <a:pt x="12153" y="13977"/>
                  <a:pt x="12005" y="14163"/>
                </a:cubicBezTo>
                <a:cubicBezTo>
                  <a:pt x="11871" y="14331"/>
                  <a:pt x="11683" y="14345"/>
                  <a:pt x="11683" y="14139"/>
                </a:cubicBezTo>
              </a:path>
              <a:path w="6277" h="3350">
                <a:moveTo>
                  <a:pt x="12353" y="13717"/>
                </a:moveTo>
                <a:cubicBezTo>
                  <a:pt x="12397" y="13862"/>
                  <a:pt x="12433" y="13991"/>
                  <a:pt x="12452" y="14139"/>
                </a:cubicBezTo>
              </a:path>
              <a:path w="6277" h="3350">
                <a:moveTo>
                  <a:pt x="11881" y="14511"/>
                </a:moveTo>
                <a:cubicBezTo>
                  <a:pt x="12112" y="14438"/>
                  <a:pt x="12334" y="14357"/>
                  <a:pt x="12576" y="14337"/>
                </a:cubicBezTo>
              </a:path>
              <a:path w="6277" h="3350">
                <a:moveTo>
                  <a:pt x="12353" y="14709"/>
                </a:moveTo>
                <a:cubicBezTo>
                  <a:pt x="12335" y="14636"/>
                  <a:pt x="12179" y="14696"/>
                  <a:pt x="12105" y="14709"/>
                </a:cubicBezTo>
                <a:cubicBezTo>
                  <a:pt x="11950" y="14737"/>
                  <a:pt x="12010" y="14818"/>
                  <a:pt x="11981" y="14957"/>
                </a:cubicBezTo>
                <a:cubicBezTo>
                  <a:pt x="12182" y="14902"/>
                  <a:pt x="12228" y="14849"/>
                  <a:pt x="12427" y="14932"/>
                </a:cubicBezTo>
                <a:cubicBezTo>
                  <a:pt x="12350" y="15175"/>
                  <a:pt x="12240" y="15191"/>
                  <a:pt x="11981" y="15180"/>
                </a:cubicBezTo>
              </a:path>
              <a:path w="6277" h="3350">
                <a:moveTo>
                  <a:pt x="13122" y="14213"/>
                </a:moveTo>
                <a:cubicBezTo>
                  <a:pt x="13217" y="14374"/>
                  <a:pt x="13305" y="14537"/>
                  <a:pt x="13419" y="14684"/>
                </a:cubicBezTo>
              </a:path>
              <a:path w="6277" h="3350">
                <a:moveTo>
                  <a:pt x="13444" y="14114"/>
                </a:moveTo>
                <a:cubicBezTo>
                  <a:pt x="13372" y="14328"/>
                  <a:pt x="13264" y="14522"/>
                  <a:pt x="13196" y="14734"/>
                </a:cubicBezTo>
              </a:path>
              <a:path w="6277" h="3350">
                <a:moveTo>
                  <a:pt x="14064" y="13915"/>
                </a:moveTo>
                <a:cubicBezTo>
                  <a:pt x="13995" y="13755"/>
                  <a:pt x="13895" y="13707"/>
                  <a:pt x="13767" y="13891"/>
                </a:cubicBezTo>
                <a:cubicBezTo>
                  <a:pt x="13767" y="13907"/>
                  <a:pt x="13767" y="13924"/>
                  <a:pt x="13767" y="13940"/>
                </a:cubicBezTo>
                <a:cubicBezTo>
                  <a:pt x="13835" y="13940"/>
                  <a:pt x="14044" y="13782"/>
                  <a:pt x="14064" y="13866"/>
                </a:cubicBezTo>
                <a:cubicBezTo>
                  <a:pt x="14064" y="14015"/>
                  <a:pt x="14064" y="14048"/>
                  <a:pt x="14064" y="14139"/>
                </a:cubicBezTo>
              </a:path>
              <a:path w="6277" h="3350">
                <a:moveTo>
                  <a:pt x="13791" y="14387"/>
                </a:moveTo>
                <a:cubicBezTo>
                  <a:pt x="13988" y="14331"/>
                  <a:pt x="14160" y="14282"/>
                  <a:pt x="14362" y="14263"/>
                </a:cubicBezTo>
              </a:path>
              <a:path w="6277" h="3350">
                <a:moveTo>
                  <a:pt x="13568" y="14734"/>
                </a:moveTo>
                <a:cubicBezTo>
                  <a:pt x="13625" y="14725"/>
                  <a:pt x="14001" y="14601"/>
                  <a:pt x="13891" y="14784"/>
                </a:cubicBezTo>
                <a:cubicBezTo>
                  <a:pt x="13793" y="14881"/>
                  <a:pt x="13762" y="14913"/>
                  <a:pt x="13667" y="14932"/>
                </a:cubicBezTo>
                <a:cubicBezTo>
                  <a:pt x="13774" y="14906"/>
                  <a:pt x="13814" y="14898"/>
                  <a:pt x="13891" y="14908"/>
                </a:cubicBezTo>
                <a:cubicBezTo>
                  <a:pt x="13869" y="15077"/>
                  <a:pt x="13814" y="15142"/>
                  <a:pt x="13618" y="15106"/>
                </a:cubicBezTo>
              </a:path>
              <a:path w="6277" h="3350">
                <a:moveTo>
                  <a:pt x="14188" y="14610"/>
                </a:moveTo>
                <a:cubicBezTo>
                  <a:pt x="14287" y="14764"/>
                  <a:pt x="14338" y="14869"/>
                  <a:pt x="14362" y="15056"/>
                </a:cubicBezTo>
              </a:path>
              <a:path w="6277" h="3350">
                <a:moveTo>
                  <a:pt x="11633" y="13692"/>
                </a:moveTo>
                <a:cubicBezTo>
                  <a:pt x="11818" y="13719"/>
                  <a:pt x="11996" y="13800"/>
                  <a:pt x="12179" y="13841"/>
                </a:cubicBezTo>
                <a:cubicBezTo>
                  <a:pt x="12368" y="13883"/>
                  <a:pt x="12560" y="13902"/>
                  <a:pt x="12750" y="13940"/>
                </a:cubicBezTo>
              </a:path>
              <a:path w="6277" h="3350">
                <a:moveTo>
                  <a:pt x="11981" y="13196"/>
                </a:moveTo>
                <a:cubicBezTo>
                  <a:pt x="12071" y="13332"/>
                  <a:pt x="12120" y="13439"/>
                  <a:pt x="12179" y="13593"/>
                </a:cubicBezTo>
              </a:path>
              <a:path w="6277" h="3350">
                <a:moveTo>
                  <a:pt x="13519" y="14784"/>
                </a:moveTo>
                <a:cubicBezTo>
                  <a:pt x="13681" y="14743"/>
                  <a:pt x="13953" y="14761"/>
                  <a:pt x="14139" y="14759"/>
                </a:cubicBezTo>
                <a:cubicBezTo>
                  <a:pt x="14263" y="14757"/>
                  <a:pt x="14387" y="14759"/>
                  <a:pt x="14511" y="14759"/>
                </a:cubicBezTo>
              </a:path>
              <a:path w="6277" h="3350">
                <a:moveTo>
                  <a:pt x="14362" y="15354"/>
                </a:moveTo>
                <a:cubicBezTo>
                  <a:pt x="14362" y="15503"/>
                  <a:pt x="14362" y="15652"/>
                  <a:pt x="14362" y="15801"/>
                </a:cubicBezTo>
              </a:path>
              <a:path w="6277" h="3350">
                <a:moveTo>
                  <a:pt x="14486" y="14387"/>
                </a:moveTo>
                <a:cubicBezTo>
                  <a:pt x="14579" y="14378"/>
                  <a:pt x="14665" y="14362"/>
                  <a:pt x="14759" y="14362"/>
                </a:cubicBezTo>
              </a:path>
              <a:path w="6277" h="3350">
                <a:moveTo>
                  <a:pt x="14560" y="14536"/>
                </a:moveTo>
                <a:cubicBezTo>
                  <a:pt x="14644" y="14528"/>
                  <a:pt x="14723" y="14516"/>
                  <a:pt x="14808" y="14511"/>
                </a:cubicBezTo>
              </a:path>
              <a:path w="6277" h="3350">
                <a:moveTo>
                  <a:pt x="15404" y="14015"/>
                </a:moveTo>
                <a:cubicBezTo>
                  <a:pt x="15430" y="13926"/>
                  <a:pt x="15394" y="13806"/>
                  <a:pt x="15280" y="13767"/>
                </a:cubicBezTo>
                <a:cubicBezTo>
                  <a:pt x="15083" y="13700"/>
                  <a:pt x="15138" y="13973"/>
                  <a:pt x="15156" y="14064"/>
                </a:cubicBezTo>
                <a:cubicBezTo>
                  <a:pt x="15272" y="14025"/>
                  <a:pt x="15325" y="13970"/>
                  <a:pt x="15354" y="13841"/>
                </a:cubicBezTo>
                <a:cubicBezTo>
                  <a:pt x="15415" y="13970"/>
                  <a:pt x="15440" y="14093"/>
                  <a:pt x="15453" y="14238"/>
                </a:cubicBezTo>
              </a:path>
              <a:path w="6277" h="3350">
                <a:moveTo>
                  <a:pt x="15131" y="14486"/>
                </a:moveTo>
                <a:cubicBezTo>
                  <a:pt x="15287" y="14428"/>
                  <a:pt x="15446" y="14403"/>
                  <a:pt x="15602" y="14337"/>
                </a:cubicBezTo>
              </a:path>
              <a:path w="6277" h="3350">
                <a:moveTo>
                  <a:pt x="15478" y="14660"/>
                </a:moveTo>
                <a:cubicBezTo>
                  <a:pt x="15380" y="14679"/>
                  <a:pt x="15258" y="14700"/>
                  <a:pt x="15230" y="14784"/>
                </a:cubicBezTo>
                <a:cubicBezTo>
                  <a:pt x="15209" y="14866"/>
                  <a:pt x="15201" y="14881"/>
                  <a:pt x="15205" y="14932"/>
                </a:cubicBezTo>
                <a:cubicBezTo>
                  <a:pt x="15332" y="14821"/>
                  <a:pt x="15360" y="14814"/>
                  <a:pt x="15478" y="14932"/>
                </a:cubicBezTo>
                <a:cubicBezTo>
                  <a:pt x="15406" y="15105"/>
                  <a:pt x="15342" y="15137"/>
                  <a:pt x="15156" y="15156"/>
                </a:cubicBezTo>
                <a:cubicBezTo>
                  <a:pt x="15139" y="15156"/>
                  <a:pt x="15123" y="15156"/>
                  <a:pt x="15106" y="15156"/>
                </a:cubicBezTo>
              </a:path>
              <a:path w="6277" h="3350">
                <a:moveTo>
                  <a:pt x="15900" y="14511"/>
                </a:moveTo>
                <a:cubicBezTo>
                  <a:pt x="15966" y="14511"/>
                  <a:pt x="16032" y="14511"/>
                  <a:pt x="16098" y="14511"/>
                </a:cubicBezTo>
              </a:path>
              <a:path w="6277" h="3350">
                <a:moveTo>
                  <a:pt x="15974" y="14660"/>
                </a:moveTo>
                <a:cubicBezTo>
                  <a:pt x="16055" y="14673"/>
                  <a:pt x="16092" y="14669"/>
                  <a:pt x="16173" y="14660"/>
                </a:cubicBezTo>
              </a:path>
              <a:path w="6277" h="3350">
                <a:moveTo>
                  <a:pt x="17363" y="14709"/>
                </a:moveTo>
                <a:cubicBezTo>
                  <a:pt x="17363" y="14658"/>
                  <a:pt x="17338" y="14473"/>
                  <a:pt x="17239" y="14610"/>
                </a:cubicBezTo>
                <a:cubicBezTo>
                  <a:pt x="17231" y="14651"/>
                  <a:pt x="17222" y="14693"/>
                  <a:pt x="17214" y="14734"/>
                </a:cubicBezTo>
                <a:cubicBezTo>
                  <a:pt x="17300" y="14785"/>
                  <a:pt x="17333" y="14740"/>
                  <a:pt x="17363" y="14660"/>
                </a:cubicBezTo>
                <a:cubicBezTo>
                  <a:pt x="17363" y="14842"/>
                  <a:pt x="17363" y="15023"/>
                  <a:pt x="17363" y="15205"/>
                </a:cubicBezTo>
              </a:path>
              <a:path w="6277" h="3350">
                <a:moveTo>
                  <a:pt x="17090" y="15230"/>
                </a:moveTo>
                <a:cubicBezTo>
                  <a:pt x="17077" y="15090"/>
                  <a:pt x="17042" y="14947"/>
                  <a:pt x="17016" y="14808"/>
                </a:cubicBezTo>
                <a:cubicBezTo>
                  <a:pt x="17002" y="14735"/>
                  <a:pt x="16997" y="14605"/>
                  <a:pt x="16966" y="14536"/>
                </a:cubicBezTo>
                <a:cubicBezTo>
                  <a:pt x="16958" y="14528"/>
                  <a:pt x="16950" y="14519"/>
                  <a:pt x="16942" y="14511"/>
                </a:cubicBezTo>
                <a:cubicBezTo>
                  <a:pt x="17140" y="14449"/>
                  <a:pt x="17334" y="14449"/>
                  <a:pt x="17537" y="14412"/>
                </a:cubicBezTo>
                <a:cubicBezTo>
                  <a:pt x="17645" y="14392"/>
                  <a:pt x="17812" y="14355"/>
                  <a:pt x="17909" y="14312"/>
                </a:cubicBezTo>
              </a:path>
              <a:path w="6277" h="3350">
                <a:moveTo>
                  <a:pt x="16694" y="14660"/>
                </a:moveTo>
                <a:cubicBezTo>
                  <a:pt x="16622" y="14667"/>
                  <a:pt x="16553" y="14616"/>
                  <a:pt x="16495" y="14660"/>
                </a:cubicBezTo>
                <a:cubicBezTo>
                  <a:pt x="16433" y="14707"/>
                  <a:pt x="16438" y="14815"/>
                  <a:pt x="16421" y="14883"/>
                </a:cubicBezTo>
                <a:cubicBezTo>
                  <a:pt x="16536" y="14836"/>
                  <a:pt x="16591" y="14792"/>
                  <a:pt x="16694" y="14858"/>
                </a:cubicBezTo>
                <a:cubicBezTo>
                  <a:pt x="16763" y="14902"/>
                  <a:pt x="16759" y="15045"/>
                  <a:pt x="16718" y="15106"/>
                </a:cubicBezTo>
                <a:cubicBezTo>
                  <a:pt x="16653" y="15202"/>
                  <a:pt x="16501" y="15254"/>
                  <a:pt x="16396" y="15205"/>
                </a:cubicBezTo>
                <a:cubicBezTo>
                  <a:pt x="16396" y="15170"/>
                  <a:pt x="16387" y="15157"/>
                  <a:pt x="16346" y="15156"/>
                </a:cubicBezTo>
              </a:path>
              <a:path w="6277" h="3350">
                <a:moveTo>
                  <a:pt x="17190" y="13841"/>
                </a:moveTo>
                <a:cubicBezTo>
                  <a:pt x="17161" y="13973"/>
                  <a:pt x="17165" y="14101"/>
                  <a:pt x="17165" y="14238"/>
                </a:cubicBezTo>
              </a:path>
              <a:path w="6277" h="3350">
                <a:moveTo>
                  <a:pt x="17338" y="15825"/>
                </a:moveTo>
                <a:cubicBezTo>
                  <a:pt x="17316" y="15711"/>
                  <a:pt x="17332" y="15659"/>
                  <a:pt x="17338" y="15553"/>
                </a:cubicBezTo>
                <a:cubicBezTo>
                  <a:pt x="17338" y="15536"/>
                  <a:pt x="17338" y="15520"/>
                  <a:pt x="17338" y="15503"/>
                </a:cubicBezTo>
                <a:cubicBezTo>
                  <a:pt x="17325" y="15660"/>
                  <a:pt x="17304" y="15682"/>
                  <a:pt x="17462" y="15602"/>
                </a:cubicBezTo>
              </a:path>
              <a:path w="6277" h="3350">
                <a:moveTo>
                  <a:pt x="17462" y="15329"/>
                </a:moveTo>
                <a:cubicBezTo>
                  <a:pt x="17344" y="15466"/>
                  <a:pt x="17392" y="15643"/>
                  <a:pt x="17413" y="15825"/>
                </a:cubicBezTo>
              </a:path>
              <a:path w="6277" h="3350">
                <a:moveTo>
                  <a:pt x="17090" y="16073"/>
                </a:moveTo>
                <a:cubicBezTo>
                  <a:pt x="17336" y="15962"/>
                  <a:pt x="17568" y="15853"/>
                  <a:pt x="17835" y="15801"/>
                </a:cubicBezTo>
              </a:path>
              <a:path w="6277" h="3350">
                <a:moveTo>
                  <a:pt x="17338" y="15577"/>
                </a:moveTo>
                <a:cubicBezTo>
                  <a:pt x="17376" y="15540"/>
                  <a:pt x="17395" y="15517"/>
                  <a:pt x="17413" y="15478"/>
                </a:cubicBezTo>
                <a:cubicBezTo>
                  <a:pt x="17452" y="15524"/>
                  <a:pt x="17445" y="15699"/>
                  <a:pt x="17512" y="15677"/>
                </a:cubicBezTo>
                <a:cubicBezTo>
                  <a:pt x="17589" y="15625"/>
                  <a:pt x="17617" y="15609"/>
                  <a:pt x="17686" y="15627"/>
                </a:cubicBezTo>
                <a:cubicBezTo>
                  <a:pt x="17635" y="15806"/>
                  <a:pt x="17551" y="15801"/>
                  <a:pt x="17388" y="15825"/>
                </a:cubicBezTo>
              </a:path>
              <a:path w="6277" h="3350">
                <a:moveTo>
                  <a:pt x="17438" y="15404"/>
                </a:moveTo>
                <a:cubicBezTo>
                  <a:pt x="17570" y="15361"/>
                  <a:pt x="17702" y="15321"/>
                  <a:pt x="17835" y="15280"/>
                </a:cubicBezTo>
              </a:path>
              <a:path w="6277" h="3350">
                <a:moveTo>
                  <a:pt x="17512" y="16073"/>
                </a:moveTo>
                <a:cubicBezTo>
                  <a:pt x="17512" y="16272"/>
                  <a:pt x="17598" y="16340"/>
                  <a:pt x="17735" y="16123"/>
                </a:cubicBezTo>
                <a:cubicBezTo>
                  <a:pt x="17856" y="15932"/>
                  <a:pt x="17679" y="16417"/>
                  <a:pt x="17661" y="1654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3080" y="5392800"/>
            <a:ext cx="2313000" cy="841320"/>
          </a:xfrm>
          <a:custGeom>
            <a:avLst/>
            <a:gdLst/>
            <a:ahLst/>
            <a:rect l="l" t="t" r="r" b="b"/>
            <a:pathLst>
              <a:path w="6425" h="2333">
                <a:moveTo>
                  <a:pt x="19745" y="15180"/>
                </a:moveTo>
                <a:cubicBezTo>
                  <a:pt x="19682" y="15057"/>
                  <a:pt x="19439" y="15213"/>
                  <a:pt x="19348" y="15304"/>
                </a:cubicBezTo>
                <a:cubicBezTo>
                  <a:pt x="19164" y="15489"/>
                  <a:pt x="19613" y="15493"/>
                  <a:pt x="19645" y="15652"/>
                </a:cubicBezTo>
                <a:cubicBezTo>
                  <a:pt x="19629" y="15677"/>
                  <a:pt x="19612" y="15701"/>
                  <a:pt x="19596" y="15726"/>
                </a:cubicBezTo>
                <a:cubicBezTo>
                  <a:pt x="19571" y="15734"/>
                  <a:pt x="19546" y="15743"/>
                  <a:pt x="19521" y="15751"/>
                </a:cubicBezTo>
                <a:cubicBezTo>
                  <a:pt x="19521" y="15596"/>
                  <a:pt x="19656" y="15430"/>
                  <a:pt x="19745" y="15280"/>
                </a:cubicBezTo>
              </a:path>
              <a:path w="6425" h="2333">
                <a:moveTo>
                  <a:pt x="19273" y="16024"/>
                </a:moveTo>
                <a:cubicBezTo>
                  <a:pt x="19494" y="15920"/>
                  <a:pt x="19676" y="15907"/>
                  <a:pt x="19918" y="15925"/>
                </a:cubicBezTo>
              </a:path>
              <a:path w="6425" h="2333">
                <a:moveTo>
                  <a:pt x="19571" y="16123"/>
                </a:moveTo>
                <a:cubicBezTo>
                  <a:pt x="19545" y="16200"/>
                  <a:pt x="19475" y="16538"/>
                  <a:pt x="19397" y="16694"/>
                </a:cubicBezTo>
                <a:cubicBezTo>
                  <a:pt x="19381" y="16710"/>
                  <a:pt x="19364" y="16727"/>
                  <a:pt x="19348" y="16743"/>
                </a:cubicBezTo>
              </a:path>
              <a:path w="6425" h="2333">
                <a:moveTo>
                  <a:pt x="20191" y="15974"/>
                </a:moveTo>
                <a:cubicBezTo>
                  <a:pt x="20272" y="16091"/>
                  <a:pt x="20356" y="16205"/>
                  <a:pt x="20439" y="16321"/>
                </a:cubicBezTo>
              </a:path>
              <a:path w="6425" h="2333">
                <a:moveTo>
                  <a:pt x="20464" y="15850"/>
                </a:moveTo>
                <a:cubicBezTo>
                  <a:pt x="20374" y="16038"/>
                  <a:pt x="20277" y="16221"/>
                  <a:pt x="20166" y="16396"/>
                </a:cubicBezTo>
              </a:path>
              <a:path w="6425" h="2333">
                <a:moveTo>
                  <a:pt x="21109" y="15577"/>
                </a:moveTo>
                <a:cubicBezTo>
                  <a:pt x="21162" y="15487"/>
                  <a:pt x="21178" y="15460"/>
                  <a:pt x="21282" y="15429"/>
                </a:cubicBezTo>
                <a:cubicBezTo>
                  <a:pt x="21233" y="15579"/>
                  <a:pt x="21193" y="15642"/>
                  <a:pt x="21084" y="15751"/>
                </a:cubicBezTo>
                <a:cubicBezTo>
                  <a:pt x="21274" y="15644"/>
                  <a:pt x="21410" y="15707"/>
                  <a:pt x="21183" y="15900"/>
                </a:cubicBezTo>
                <a:cubicBezTo>
                  <a:pt x="21087" y="15948"/>
                  <a:pt x="21056" y="15965"/>
                  <a:pt x="20985" y="15925"/>
                </a:cubicBezTo>
              </a:path>
              <a:path w="6425" h="2333">
                <a:moveTo>
                  <a:pt x="20935" y="16173"/>
                </a:moveTo>
                <a:cubicBezTo>
                  <a:pt x="21146" y="16089"/>
                  <a:pt x="21310" y="16028"/>
                  <a:pt x="21530" y="15999"/>
                </a:cubicBezTo>
              </a:path>
              <a:path w="6425" h="2333">
                <a:moveTo>
                  <a:pt x="21158" y="16371"/>
                </a:moveTo>
                <a:cubicBezTo>
                  <a:pt x="21011" y="16371"/>
                  <a:pt x="20963" y="16370"/>
                  <a:pt x="20886" y="16446"/>
                </a:cubicBezTo>
                <a:cubicBezTo>
                  <a:pt x="20806" y="16664"/>
                  <a:pt x="21025" y="16515"/>
                  <a:pt x="21109" y="16694"/>
                </a:cubicBezTo>
                <a:cubicBezTo>
                  <a:pt x="21182" y="16849"/>
                  <a:pt x="21028" y="16889"/>
                  <a:pt x="20935" y="16917"/>
                </a:cubicBezTo>
                <a:cubicBezTo>
                  <a:pt x="20996" y="16741"/>
                  <a:pt x="21079" y="16605"/>
                  <a:pt x="21183" y="16446"/>
                </a:cubicBezTo>
              </a:path>
              <a:path w="6425" h="2333">
                <a:moveTo>
                  <a:pt x="19224" y="15180"/>
                </a:moveTo>
                <a:cubicBezTo>
                  <a:pt x="19372" y="15368"/>
                  <a:pt x="19588" y="15562"/>
                  <a:pt x="19695" y="15776"/>
                </a:cubicBezTo>
                <a:cubicBezTo>
                  <a:pt x="19695" y="15792"/>
                  <a:pt x="19695" y="15809"/>
                  <a:pt x="19695" y="15825"/>
                </a:cubicBezTo>
              </a:path>
              <a:path w="6425" h="2333">
                <a:moveTo>
                  <a:pt x="20861" y="16470"/>
                </a:moveTo>
                <a:cubicBezTo>
                  <a:pt x="20807" y="16444"/>
                  <a:pt x="20787" y="16432"/>
                  <a:pt x="20762" y="16396"/>
                </a:cubicBezTo>
                <a:cubicBezTo>
                  <a:pt x="20986" y="16587"/>
                  <a:pt x="21123" y="16746"/>
                  <a:pt x="21233" y="17016"/>
                </a:cubicBezTo>
                <a:cubicBezTo>
                  <a:pt x="21241" y="17033"/>
                  <a:pt x="21250" y="17049"/>
                  <a:pt x="21258" y="17066"/>
                </a:cubicBezTo>
              </a:path>
              <a:path w="6425" h="2333">
                <a:moveTo>
                  <a:pt x="19000" y="14982"/>
                </a:moveTo>
                <a:cubicBezTo>
                  <a:pt x="18993" y="15158"/>
                  <a:pt x="18973" y="15328"/>
                  <a:pt x="18951" y="15503"/>
                </a:cubicBezTo>
              </a:path>
              <a:path w="6425" h="2333">
                <a:moveTo>
                  <a:pt x="21530" y="17016"/>
                </a:moveTo>
                <a:cubicBezTo>
                  <a:pt x="21508" y="17174"/>
                  <a:pt x="21497" y="17216"/>
                  <a:pt x="21530" y="17314"/>
                </a:cubicBezTo>
              </a:path>
              <a:path w="6425" h="2333">
                <a:moveTo>
                  <a:pt x="21828" y="16173"/>
                </a:moveTo>
                <a:cubicBezTo>
                  <a:pt x="21904" y="16150"/>
                  <a:pt x="21972" y="16131"/>
                  <a:pt x="22051" y="16123"/>
                </a:cubicBezTo>
              </a:path>
              <a:path w="6425" h="2333">
                <a:moveTo>
                  <a:pt x="21878" y="16371"/>
                </a:moveTo>
                <a:cubicBezTo>
                  <a:pt x="21911" y="16346"/>
                  <a:pt x="21944" y="16322"/>
                  <a:pt x="21977" y="16297"/>
                </a:cubicBezTo>
              </a:path>
              <a:path w="6425" h="2333">
                <a:moveTo>
                  <a:pt x="22647" y="15379"/>
                </a:moveTo>
                <a:cubicBezTo>
                  <a:pt x="22750" y="15344"/>
                  <a:pt x="22811" y="15295"/>
                  <a:pt x="22920" y="15304"/>
                </a:cubicBezTo>
                <a:cubicBezTo>
                  <a:pt x="22824" y="15577"/>
                  <a:pt x="22798" y="15507"/>
                  <a:pt x="22994" y="15627"/>
                </a:cubicBezTo>
                <a:cubicBezTo>
                  <a:pt x="22866" y="15844"/>
                  <a:pt x="22761" y="15955"/>
                  <a:pt x="22523" y="15850"/>
                </a:cubicBezTo>
              </a:path>
              <a:path w="6425" h="2333">
                <a:moveTo>
                  <a:pt x="22423" y="16371"/>
                </a:moveTo>
                <a:cubicBezTo>
                  <a:pt x="22645" y="16328"/>
                  <a:pt x="22867" y="16270"/>
                  <a:pt x="23093" y="16247"/>
                </a:cubicBezTo>
                <a:cubicBezTo>
                  <a:pt x="23161" y="16247"/>
                  <a:pt x="23180" y="16250"/>
                  <a:pt x="23217" y="16222"/>
                </a:cubicBezTo>
              </a:path>
              <a:path w="6425" h="2333">
                <a:moveTo>
                  <a:pt x="22671" y="16570"/>
                </a:moveTo>
                <a:cubicBezTo>
                  <a:pt x="22653" y="16728"/>
                  <a:pt x="22610" y="16882"/>
                  <a:pt x="22597" y="17041"/>
                </a:cubicBezTo>
              </a:path>
              <a:path w="6425" h="2333">
                <a:moveTo>
                  <a:pt x="23564" y="16247"/>
                </a:moveTo>
                <a:cubicBezTo>
                  <a:pt x="23648" y="16247"/>
                  <a:pt x="23682" y="16245"/>
                  <a:pt x="23738" y="16222"/>
                </a:cubicBezTo>
              </a:path>
              <a:path w="6425" h="2333">
                <a:moveTo>
                  <a:pt x="23465" y="16495"/>
                </a:moveTo>
                <a:cubicBezTo>
                  <a:pt x="23571" y="16489"/>
                  <a:pt x="23660" y="16475"/>
                  <a:pt x="23763" y="16446"/>
                </a:cubicBezTo>
              </a:path>
              <a:path w="6425" h="2333">
                <a:moveTo>
                  <a:pt x="24259" y="15999"/>
                </a:moveTo>
                <a:cubicBezTo>
                  <a:pt x="24344" y="15999"/>
                  <a:pt x="24399" y="15963"/>
                  <a:pt x="24482" y="15949"/>
                </a:cubicBezTo>
                <a:cubicBezTo>
                  <a:pt x="24520" y="16089"/>
                  <a:pt x="24480" y="16266"/>
                  <a:pt x="24333" y="16346"/>
                </a:cubicBezTo>
                <a:cubicBezTo>
                  <a:pt x="24333" y="16330"/>
                  <a:pt x="24333" y="16313"/>
                  <a:pt x="24333" y="16297"/>
                </a:cubicBezTo>
                <a:cubicBezTo>
                  <a:pt x="24562" y="16251"/>
                  <a:pt x="24695" y="16339"/>
                  <a:pt x="24507" y="16594"/>
                </a:cubicBezTo>
                <a:cubicBezTo>
                  <a:pt x="24395" y="16746"/>
                  <a:pt x="24265" y="16726"/>
                  <a:pt x="24110" y="16718"/>
                </a:cubicBezTo>
              </a:path>
              <a:path w="6425" h="2333">
                <a:moveTo>
                  <a:pt x="23937" y="17016"/>
                </a:moveTo>
                <a:cubicBezTo>
                  <a:pt x="24043" y="17142"/>
                  <a:pt x="24241" y="17157"/>
                  <a:pt x="24408" y="17140"/>
                </a:cubicBezTo>
                <a:cubicBezTo>
                  <a:pt x="24728" y="17107"/>
                  <a:pt x="25063" y="16926"/>
                  <a:pt x="25226" y="16644"/>
                </a:cubicBezTo>
                <a:cubicBezTo>
                  <a:pt x="25409" y="16327"/>
                  <a:pt x="25456" y="15989"/>
                  <a:pt x="25152" y="15751"/>
                </a:cubicBezTo>
                <a:cubicBezTo>
                  <a:pt x="24903" y="15556"/>
                  <a:pt x="24563" y="15564"/>
                  <a:pt x="24284" y="15677"/>
                </a:cubicBezTo>
                <a:cubicBezTo>
                  <a:pt x="23866" y="15847"/>
                  <a:pt x="23741" y="16377"/>
                  <a:pt x="23788" y="16793"/>
                </a:cubicBezTo>
                <a:cubicBezTo>
                  <a:pt x="23884" y="17059"/>
                  <a:pt x="23911" y="17146"/>
                  <a:pt x="24110" y="1721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1040" y="3276720"/>
            <a:ext cx="54000" cy="3636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10716" y="9103"/>
                </a:moveTo>
                <a:cubicBezTo>
                  <a:pt x="10716" y="9145"/>
                  <a:pt x="10716" y="9170"/>
                  <a:pt x="10716" y="9203"/>
                </a:cubicBezTo>
              </a:path>
              <a:path w="150" h="101">
                <a:moveTo>
                  <a:pt x="10616" y="9178"/>
                </a:moveTo>
                <a:cubicBezTo>
                  <a:pt x="10686" y="9178"/>
                  <a:pt x="10721" y="9169"/>
                  <a:pt x="10765" y="912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9640" y="3241800"/>
            <a:ext cx="4572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2799" y="9004"/>
                </a:moveTo>
                <a:cubicBezTo>
                  <a:pt x="12799" y="9089"/>
                  <a:pt x="12793" y="9109"/>
                  <a:pt x="12824" y="9153"/>
                </a:cubicBezTo>
              </a:path>
              <a:path w="125" h="150">
                <a:moveTo>
                  <a:pt x="12750" y="9103"/>
                </a:moveTo>
                <a:cubicBezTo>
                  <a:pt x="12790" y="9063"/>
                  <a:pt x="12820" y="9055"/>
                  <a:pt x="12874" y="907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27840" y="4554360"/>
            <a:ext cx="696960" cy="679680"/>
          </a:xfrm>
          <a:custGeom>
            <a:avLst/>
            <a:gdLst/>
            <a:ahLst/>
            <a:rect l="l" t="t" r="r" b="b"/>
            <a:pathLst>
              <a:path w="1936" h="1887">
                <a:moveTo>
                  <a:pt x="17562" y="13295"/>
                </a:moveTo>
                <a:cubicBezTo>
                  <a:pt x="17562" y="13357"/>
                  <a:pt x="17511" y="13548"/>
                  <a:pt x="17611" y="13519"/>
                </a:cubicBezTo>
                <a:cubicBezTo>
                  <a:pt x="17652" y="13502"/>
                  <a:pt x="17694" y="13486"/>
                  <a:pt x="17735" y="13469"/>
                </a:cubicBezTo>
              </a:path>
              <a:path w="1936" h="1887">
                <a:moveTo>
                  <a:pt x="17810" y="13122"/>
                </a:moveTo>
                <a:cubicBezTo>
                  <a:pt x="17761" y="13293"/>
                  <a:pt x="17744" y="13349"/>
                  <a:pt x="17760" y="13469"/>
                </a:cubicBezTo>
              </a:path>
              <a:path w="1936" h="1887">
                <a:moveTo>
                  <a:pt x="17636" y="13767"/>
                </a:moveTo>
                <a:cubicBezTo>
                  <a:pt x="17777" y="13728"/>
                  <a:pt x="17900" y="13681"/>
                  <a:pt x="18033" y="13618"/>
                </a:cubicBezTo>
              </a:path>
              <a:path w="1936" h="1887">
                <a:moveTo>
                  <a:pt x="17835" y="13866"/>
                </a:moveTo>
                <a:cubicBezTo>
                  <a:pt x="17780" y="13913"/>
                  <a:pt x="17738" y="13971"/>
                  <a:pt x="17711" y="14039"/>
                </a:cubicBezTo>
                <a:cubicBezTo>
                  <a:pt x="17810" y="14015"/>
                  <a:pt x="17867" y="13997"/>
                  <a:pt x="17959" y="14015"/>
                </a:cubicBezTo>
                <a:cubicBezTo>
                  <a:pt x="17899" y="14163"/>
                  <a:pt x="17913" y="14158"/>
                  <a:pt x="17760" y="14188"/>
                </a:cubicBezTo>
              </a:path>
              <a:path w="1936" h="1887">
                <a:moveTo>
                  <a:pt x="17835" y="13841"/>
                </a:moveTo>
                <a:cubicBezTo>
                  <a:pt x="17909" y="13790"/>
                  <a:pt x="17981" y="13738"/>
                  <a:pt x="18058" y="13692"/>
                </a:cubicBezTo>
              </a:path>
              <a:path w="1936" h="1887">
                <a:moveTo>
                  <a:pt x="17810" y="13395"/>
                </a:moveTo>
                <a:cubicBezTo>
                  <a:pt x="17706" y="13497"/>
                  <a:pt x="17734" y="13597"/>
                  <a:pt x="17760" y="13742"/>
                </a:cubicBezTo>
              </a:path>
              <a:path w="1936" h="1887">
                <a:moveTo>
                  <a:pt x="16867" y="14337"/>
                </a:moveTo>
                <a:cubicBezTo>
                  <a:pt x="17106" y="14360"/>
                  <a:pt x="17315" y="14445"/>
                  <a:pt x="17562" y="14436"/>
                </a:cubicBezTo>
                <a:cubicBezTo>
                  <a:pt x="17862" y="14425"/>
                  <a:pt x="18133" y="14274"/>
                  <a:pt x="18380" y="14114"/>
                </a:cubicBezTo>
                <a:cubicBezTo>
                  <a:pt x="18574" y="13988"/>
                  <a:pt x="18657" y="13847"/>
                  <a:pt x="18678" y="13618"/>
                </a:cubicBezTo>
                <a:cubicBezTo>
                  <a:pt x="18695" y="13430"/>
                  <a:pt x="18643" y="13174"/>
                  <a:pt x="18529" y="13022"/>
                </a:cubicBezTo>
                <a:cubicBezTo>
                  <a:pt x="18399" y="12848"/>
                  <a:pt x="18190" y="12721"/>
                  <a:pt x="17983" y="12675"/>
                </a:cubicBezTo>
                <a:cubicBezTo>
                  <a:pt x="17772" y="12628"/>
                  <a:pt x="17504" y="12724"/>
                  <a:pt x="17314" y="12824"/>
                </a:cubicBezTo>
                <a:cubicBezTo>
                  <a:pt x="17058" y="12958"/>
                  <a:pt x="16906" y="13255"/>
                  <a:pt x="16818" y="13519"/>
                </a:cubicBezTo>
                <a:cubicBezTo>
                  <a:pt x="16750" y="13722"/>
                  <a:pt x="16667" y="14056"/>
                  <a:pt x="16818" y="14238"/>
                </a:cubicBezTo>
                <a:cubicBezTo>
                  <a:pt x="16930" y="14373"/>
                  <a:pt x="17108" y="14430"/>
                  <a:pt x="17239" y="1453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1160" y="3875040"/>
            <a:ext cx="81000" cy="98640"/>
          </a:xfrm>
          <a:custGeom>
            <a:avLst/>
            <a:gdLst/>
            <a:ahLst/>
            <a:rect l="l" t="t" r="r" b="b"/>
            <a:pathLst>
              <a:path w="225" h="274">
                <a:moveTo>
                  <a:pt x="21282" y="10765"/>
                </a:moveTo>
                <a:cubicBezTo>
                  <a:pt x="21361" y="10853"/>
                  <a:pt x="21429" y="10949"/>
                  <a:pt x="21506" y="11038"/>
                </a:cubicBezTo>
              </a:path>
              <a:path w="225" h="274">
                <a:moveTo>
                  <a:pt x="21456" y="10815"/>
                </a:moveTo>
                <a:cubicBezTo>
                  <a:pt x="21380" y="10917"/>
                  <a:pt x="21354" y="10953"/>
                  <a:pt x="21332" y="1103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2160" y="3251160"/>
            <a:ext cx="36720" cy="54000"/>
          </a:xfrm>
          <a:custGeom>
            <a:avLst/>
            <a:gdLst/>
            <a:ahLst/>
            <a:rect l="l" t="t" r="r" b="b"/>
            <a:pathLst>
              <a:path w="100" h="150">
                <a:moveTo>
                  <a:pt x="21580" y="9029"/>
                </a:moveTo>
                <a:cubicBezTo>
                  <a:pt x="21580" y="9105"/>
                  <a:pt x="21581" y="9131"/>
                  <a:pt x="21605" y="9178"/>
                </a:cubicBezTo>
              </a:path>
              <a:path w="100" h="150">
                <a:moveTo>
                  <a:pt x="21506" y="9178"/>
                </a:moveTo>
                <a:cubicBezTo>
                  <a:pt x="21539" y="9170"/>
                  <a:pt x="21572" y="9161"/>
                  <a:pt x="21605" y="915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56320" y="4491000"/>
            <a:ext cx="241560" cy="617400"/>
          </a:xfrm>
          <a:custGeom>
            <a:avLst/>
            <a:gdLst/>
            <a:ahLst/>
            <a:rect l="l" t="t" r="r" b="b"/>
            <a:pathLst>
              <a:path w="671" h="1712">
                <a:moveTo>
                  <a:pt x="21158" y="12502"/>
                </a:moveTo>
                <a:cubicBezTo>
                  <a:pt x="21043" y="12473"/>
                  <a:pt x="20843" y="12516"/>
                  <a:pt x="20811" y="12675"/>
                </a:cubicBezTo>
                <a:cubicBezTo>
                  <a:pt x="20789" y="12786"/>
                  <a:pt x="21034" y="12903"/>
                  <a:pt x="21084" y="12998"/>
                </a:cubicBezTo>
                <a:cubicBezTo>
                  <a:pt x="21051" y="13031"/>
                  <a:pt x="21018" y="13064"/>
                  <a:pt x="20985" y="13097"/>
                </a:cubicBezTo>
                <a:cubicBezTo>
                  <a:pt x="20850" y="12946"/>
                  <a:pt x="21023" y="12739"/>
                  <a:pt x="21084" y="12526"/>
                </a:cubicBezTo>
                <a:cubicBezTo>
                  <a:pt x="21084" y="12510"/>
                  <a:pt x="21084" y="12493"/>
                  <a:pt x="21084" y="12477"/>
                </a:cubicBezTo>
              </a:path>
              <a:path w="671" h="1712">
                <a:moveTo>
                  <a:pt x="20786" y="13419"/>
                </a:moveTo>
                <a:cubicBezTo>
                  <a:pt x="20639" y="13496"/>
                  <a:pt x="21212" y="13402"/>
                  <a:pt x="21307" y="13395"/>
                </a:cubicBezTo>
                <a:cubicBezTo>
                  <a:pt x="21332" y="13395"/>
                  <a:pt x="21357" y="13395"/>
                  <a:pt x="21382" y="13395"/>
                </a:cubicBezTo>
              </a:path>
              <a:path w="671" h="1712">
                <a:moveTo>
                  <a:pt x="20960" y="13742"/>
                </a:moveTo>
                <a:cubicBezTo>
                  <a:pt x="21087" y="13686"/>
                  <a:pt x="21421" y="13555"/>
                  <a:pt x="21208" y="13841"/>
                </a:cubicBezTo>
                <a:cubicBezTo>
                  <a:pt x="21167" y="13882"/>
                  <a:pt x="21125" y="13924"/>
                  <a:pt x="21084" y="13965"/>
                </a:cubicBezTo>
                <a:cubicBezTo>
                  <a:pt x="21059" y="13973"/>
                  <a:pt x="21035" y="13982"/>
                  <a:pt x="21010" y="13990"/>
                </a:cubicBezTo>
                <a:cubicBezTo>
                  <a:pt x="21041" y="13944"/>
                  <a:pt x="21387" y="13744"/>
                  <a:pt x="21282" y="13965"/>
                </a:cubicBezTo>
                <a:cubicBezTo>
                  <a:pt x="21159" y="14113"/>
                  <a:pt x="21120" y="14161"/>
                  <a:pt x="20985" y="1418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6920" y="3830760"/>
            <a:ext cx="331920" cy="304560"/>
          </a:xfrm>
          <a:custGeom>
            <a:avLst/>
            <a:gdLst/>
            <a:ahLst/>
            <a:rect l="l" t="t" r="r" b="b"/>
            <a:pathLst>
              <a:path w="919" h="845">
                <a:moveTo>
                  <a:pt x="19298" y="10691"/>
                </a:moveTo>
                <a:cubicBezTo>
                  <a:pt x="19386" y="10708"/>
                  <a:pt x="19480" y="10730"/>
                  <a:pt x="19571" y="10716"/>
                </a:cubicBezTo>
                <a:cubicBezTo>
                  <a:pt x="19764" y="10686"/>
                  <a:pt x="19946" y="10646"/>
                  <a:pt x="20141" y="10641"/>
                </a:cubicBezTo>
                <a:cubicBezTo>
                  <a:pt x="20166" y="10641"/>
                  <a:pt x="20191" y="10641"/>
                  <a:pt x="20216" y="10641"/>
                </a:cubicBezTo>
              </a:path>
              <a:path w="919" h="845">
                <a:moveTo>
                  <a:pt x="19670" y="10939"/>
                </a:moveTo>
                <a:cubicBezTo>
                  <a:pt x="19693" y="11109"/>
                  <a:pt x="19632" y="11289"/>
                  <a:pt x="19645" y="11460"/>
                </a:cubicBezTo>
                <a:cubicBezTo>
                  <a:pt x="19653" y="11468"/>
                  <a:pt x="19662" y="11477"/>
                  <a:pt x="19670" y="1148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7920" y="4464000"/>
            <a:ext cx="384120" cy="696960"/>
          </a:xfrm>
          <a:custGeom>
            <a:avLst/>
            <a:gdLst/>
            <a:ahLst/>
            <a:rect l="l" t="t" r="r" b="b"/>
            <a:pathLst>
              <a:path w="1068" h="1936">
                <a:moveTo>
                  <a:pt x="19893" y="12402"/>
                </a:moveTo>
                <a:cubicBezTo>
                  <a:pt x="19737" y="12439"/>
                  <a:pt x="19517" y="12532"/>
                  <a:pt x="19621" y="12750"/>
                </a:cubicBezTo>
                <a:cubicBezTo>
                  <a:pt x="19703" y="12923"/>
                  <a:pt x="19959" y="12924"/>
                  <a:pt x="19695" y="13122"/>
                </a:cubicBezTo>
                <a:cubicBezTo>
                  <a:pt x="19670" y="13130"/>
                  <a:pt x="19646" y="13138"/>
                  <a:pt x="19621" y="13146"/>
                </a:cubicBezTo>
                <a:cubicBezTo>
                  <a:pt x="19652" y="13053"/>
                  <a:pt x="19931" y="12593"/>
                  <a:pt x="19869" y="12526"/>
                </a:cubicBezTo>
                <a:cubicBezTo>
                  <a:pt x="19844" y="12534"/>
                  <a:pt x="19819" y="12543"/>
                  <a:pt x="19794" y="12551"/>
                </a:cubicBezTo>
              </a:path>
              <a:path w="1068" h="1936">
                <a:moveTo>
                  <a:pt x="19521" y="13419"/>
                </a:moveTo>
                <a:cubicBezTo>
                  <a:pt x="19689" y="13377"/>
                  <a:pt x="19847" y="13337"/>
                  <a:pt x="20017" y="13320"/>
                </a:cubicBezTo>
              </a:path>
              <a:path w="1068" h="1936">
                <a:moveTo>
                  <a:pt x="19621" y="13742"/>
                </a:moveTo>
                <a:cubicBezTo>
                  <a:pt x="19609" y="13925"/>
                  <a:pt x="19568" y="14106"/>
                  <a:pt x="19546" y="14288"/>
                </a:cubicBezTo>
                <a:cubicBezTo>
                  <a:pt x="19546" y="14304"/>
                  <a:pt x="19546" y="14321"/>
                  <a:pt x="19546" y="14337"/>
                </a:cubicBezTo>
              </a:path>
              <a:path w="1068" h="1936">
                <a:moveTo>
                  <a:pt x="20265" y="13568"/>
                </a:moveTo>
                <a:cubicBezTo>
                  <a:pt x="20373" y="13545"/>
                  <a:pt x="20482" y="13517"/>
                  <a:pt x="20588" y="13494"/>
                </a:cubicBezTo>
              </a:path>
              <a:path w="1068" h="1936">
                <a:moveTo>
                  <a:pt x="20315" y="13072"/>
                </a:moveTo>
                <a:lnTo>
                  <a:pt x="20315" y="13072"/>
                </a:lnTo>
              </a:path>
              <a:path w="1068" h="1936">
                <a:moveTo>
                  <a:pt x="20290" y="13891"/>
                </a:moveTo>
                <a:lnTo>
                  <a:pt x="20290" y="13891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2120" y="3894120"/>
            <a:ext cx="46080" cy="3492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0368" y="10815"/>
                </a:moveTo>
                <a:cubicBezTo>
                  <a:pt x="10454" y="10827"/>
                  <a:pt x="10433" y="10830"/>
                  <a:pt x="10492" y="1091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51200" y="3875040"/>
            <a:ext cx="34920" cy="9036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10517" y="10765"/>
                </a:moveTo>
                <a:cubicBezTo>
                  <a:pt x="10467" y="10845"/>
                  <a:pt x="10445" y="10922"/>
                  <a:pt x="10418" y="1101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40120" y="4249800"/>
            <a:ext cx="14292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10790" y="11857"/>
                </a:moveTo>
                <a:cubicBezTo>
                  <a:pt x="10867" y="11829"/>
                  <a:pt x="11116" y="11719"/>
                  <a:pt x="11013" y="11906"/>
                </a:cubicBezTo>
                <a:cubicBezTo>
                  <a:pt x="10943" y="11977"/>
                  <a:pt x="10922" y="11999"/>
                  <a:pt x="10864" y="12030"/>
                </a:cubicBezTo>
                <a:cubicBezTo>
                  <a:pt x="10953" y="12000"/>
                  <a:pt x="10993" y="11992"/>
                  <a:pt x="11063" y="12005"/>
                </a:cubicBezTo>
                <a:cubicBezTo>
                  <a:pt x="11027" y="12149"/>
                  <a:pt x="10915" y="12336"/>
                  <a:pt x="10716" y="12229"/>
                </a:cubicBezTo>
                <a:cubicBezTo>
                  <a:pt x="10699" y="12204"/>
                  <a:pt x="10683" y="12179"/>
                  <a:pt x="10666" y="1215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54320" y="4224240"/>
            <a:ext cx="17640" cy="177840"/>
          </a:xfrm>
          <a:custGeom>
            <a:avLst/>
            <a:gdLst/>
            <a:ahLst/>
            <a:rect l="l" t="t" r="r" b="b"/>
            <a:pathLst>
              <a:path w="51" h="497">
                <a:moveTo>
                  <a:pt x="11261" y="11733"/>
                </a:moveTo>
                <a:cubicBezTo>
                  <a:pt x="11304" y="11902"/>
                  <a:pt x="11311" y="12056"/>
                  <a:pt x="11311" y="1222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95840" y="4411800"/>
            <a:ext cx="295200" cy="44280"/>
          </a:xfrm>
          <a:custGeom>
            <a:avLst/>
            <a:gdLst/>
            <a:ahLst/>
            <a:rect l="l" t="t" r="r" b="b"/>
            <a:pathLst>
              <a:path w="820" h="125">
                <a:moveTo>
                  <a:pt x="10542" y="12378"/>
                </a:moveTo>
                <a:cubicBezTo>
                  <a:pt x="10797" y="12335"/>
                  <a:pt x="11054" y="12286"/>
                  <a:pt x="11311" y="12254"/>
                </a:cubicBezTo>
                <a:cubicBezTo>
                  <a:pt x="11328" y="12254"/>
                  <a:pt x="11344" y="12254"/>
                  <a:pt x="11361" y="1225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67120" y="4500720"/>
            <a:ext cx="169920" cy="169560"/>
          </a:xfrm>
          <a:custGeom>
            <a:avLst/>
            <a:gdLst/>
            <a:ahLst/>
            <a:rect l="l" t="t" r="r" b="b"/>
            <a:pathLst>
              <a:path w="473" h="472">
                <a:moveTo>
                  <a:pt x="11088" y="12502"/>
                </a:moveTo>
                <a:cubicBezTo>
                  <a:pt x="11049" y="12502"/>
                  <a:pt x="10915" y="12479"/>
                  <a:pt x="10889" y="12526"/>
                </a:cubicBezTo>
                <a:cubicBezTo>
                  <a:pt x="10848" y="12599"/>
                  <a:pt x="10864" y="12695"/>
                  <a:pt x="10864" y="12774"/>
                </a:cubicBezTo>
                <a:cubicBezTo>
                  <a:pt x="10956" y="12701"/>
                  <a:pt x="11075" y="12608"/>
                  <a:pt x="11187" y="12725"/>
                </a:cubicBezTo>
                <a:cubicBezTo>
                  <a:pt x="11343" y="12888"/>
                  <a:pt x="10970" y="12973"/>
                  <a:pt x="10889" y="12973"/>
                </a:cubicBezTo>
                <a:cubicBezTo>
                  <a:pt x="10839" y="12965"/>
                  <a:pt x="10790" y="12956"/>
                  <a:pt x="10740" y="1294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7240" y="4483080"/>
            <a:ext cx="12564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1658" y="12477"/>
                </a:moveTo>
                <a:cubicBezTo>
                  <a:pt x="11775" y="12477"/>
                  <a:pt x="11888" y="12460"/>
                  <a:pt x="12005" y="1245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32160" y="4394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757" y="12204"/>
                </a:moveTo>
                <a:lnTo>
                  <a:pt x="11757" y="12204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8880" y="459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57" y="12774"/>
                </a:moveTo>
                <a:lnTo>
                  <a:pt x="11857" y="12774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10080" y="389412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2526" y="10815"/>
                </a:moveTo>
                <a:cubicBezTo>
                  <a:pt x="12594" y="10849"/>
                  <a:pt x="12610" y="10883"/>
                  <a:pt x="12650" y="1096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0080" y="3875040"/>
            <a:ext cx="34920" cy="90360"/>
          </a:xfrm>
          <a:custGeom>
            <a:avLst/>
            <a:gdLst/>
            <a:ahLst/>
            <a:rect l="l" t="t" r="r" b="b"/>
            <a:pathLst>
              <a:path w="101" h="249">
                <a:moveTo>
                  <a:pt x="12626" y="10765"/>
                </a:moveTo>
                <a:cubicBezTo>
                  <a:pt x="12576" y="10889"/>
                  <a:pt x="12559" y="10930"/>
                  <a:pt x="12526" y="1101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838080"/>
          <a:ext cx="111744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111744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19320" y="3116160"/>
          <a:ext cx="152388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16160"/>
                    <a:ext cx="15238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295280" y="4876920"/>
          <a:ext cx="1346400" cy="13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13464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857240" y="1562040"/>
            <a:ext cx="71640" cy="9072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5159" y="4341"/>
                </a:moveTo>
                <a:cubicBezTo>
                  <a:pt x="5227" y="4408"/>
                  <a:pt x="5263" y="4447"/>
                  <a:pt x="5283" y="4539"/>
                </a:cubicBezTo>
                <a:cubicBezTo>
                  <a:pt x="5283" y="4547"/>
                  <a:pt x="5283" y="4556"/>
                  <a:pt x="5283" y="4564"/>
                </a:cubicBezTo>
              </a:path>
              <a:path w="200" h="249">
                <a:moveTo>
                  <a:pt x="5358" y="4341"/>
                </a:moveTo>
                <a:cubicBezTo>
                  <a:pt x="5280" y="4424"/>
                  <a:pt x="5217" y="4492"/>
                  <a:pt x="5159" y="458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6240" y="1990800"/>
            <a:ext cx="233640" cy="573120"/>
          </a:xfrm>
          <a:custGeom>
            <a:avLst/>
            <a:gdLst/>
            <a:ahLst/>
            <a:rect l="l" t="t" r="r" b="b"/>
            <a:pathLst>
              <a:path w="646" h="1589">
                <a:moveTo>
                  <a:pt x="5581" y="5606"/>
                </a:moveTo>
                <a:cubicBezTo>
                  <a:pt x="5530" y="5486"/>
                  <a:pt x="5402" y="5525"/>
                  <a:pt x="5283" y="5581"/>
                </a:cubicBezTo>
                <a:cubicBezTo>
                  <a:pt x="5258" y="5598"/>
                  <a:pt x="5234" y="5614"/>
                  <a:pt x="5209" y="5631"/>
                </a:cubicBezTo>
                <a:cubicBezTo>
                  <a:pt x="5260" y="5727"/>
                  <a:pt x="5515" y="5873"/>
                  <a:pt x="5457" y="6003"/>
                </a:cubicBezTo>
                <a:cubicBezTo>
                  <a:pt x="5367" y="6093"/>
                  <a:pt x="5346" y="6123"/>
                  <a:pt x="5259" y="6127"/>
                </a:cubicBezTo>
                <a:cubicBezTo>
                  <a:pt x="5258" y="5909"/>
                  <a:pt x="5394" y="5833"/>
                  <a:pt x="5507" y="5655"/>
                </a:cubicBezTo>
                <a:cubicBezTo>
                  <a:pt x="5515" y="5630"/>
                  <a:pt x="5523" y="5606"/>
                  <a:pt x="5531" y="5581"/>
                </a:cubicBezTo>
              </a:path>
              <a:path w="646" h="1589">
                <a:moveTo>
                  <a:pt x="5035" y="6375"/>
                </a:moveTo>
                <a:cubicBezTo>
                  <a:pt x="5204" y="6331"/>
                  <a:pt x="5333" y="6307"/>
                  <a:pt x="5507" y="6300"/>
                </a:cubicBezTo>
              </a:path>
              <a:path w="646" h="1589">
                <a:moveTo>
                  <a:pt x="5358" y="6672"/>
                </a:moveTo>
                <a:cubicBezTo>
                  <a:pt x="5309" y="6656"/>
                  <a:pt x="5148" y="6625"/>
                  <a:pt x="5110" y="6672"/>
                </a:cubicBezTo>
                <a:cubicBezTo>
                  <a:pt x="5081" y="6707"/>
                  <a:pt x="5070" y="6819"/>
                  <a:pt x="5060" y="6871"/>
                </a:cubicBezTo>
                <a:cubicBezTo>
                  <a:pt x="5209" y="6860"/>
                  <a:pt x="5306" y="6826"/>
                  <a:pt x="5432" y="6896"/>
                </a:cubicBezTo>
                <a:cubicBezTo>
                  <a:pt x="5381" y="7048"/>
                  <a:pt x="5196" y="7142"/>
                  <a:pt x="5011" y="7119"/>
                </a:cubicBezTo>
                <a:cubicBezTo>
                  <a:pt x="4986" y="7102"/>
                  <a:pt x="4961" y="7086"/>
                  <a:pt x="4936" y="706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9000" y="1581120"/>
            <a:ext cx="339840" cy="303120"/>
          </a:xfrm>
          <a:custGeom>
            <a:avLst/>
            <a:gdLst/>
            <a:ahLst/>
            <a:rect l="l" t="t" r="r" b="b"/>
            <a:pathLst>
              <a:path w="944" h="845">
                <a:moveTo>
                  <a:pt x="3026" y="4390"/>
                </a:moveTo>
                <a:cubicBezTo>
                  <a:pt x="3340" y="4390"/>
                  <a:pt x="3655" y="4390"/>
                  <a:pt x="3969" y="4390"/>
                </a:cubicBezTo>
              </a:path>
              <a:path w="944" h="845">
                <a:moveTo>
                  <a:pt x="3448" y="4638"/>
                </a:moveTo>
                <a:cubicBezTo>
                  <a:pt x="3448" y="4491"/>
                  <a:pt x="3399" y="5028"/>
                  <a:pt x="3398" y="5035"/>
                </a:cubicBezTo>
                <a:cubicBezTo>
                  <a:pt x="3378" y="5153"/>
                  <a:pt x="3384" y="5173"/>
                  <a:pt x="3349" y="523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17880" y="812880"/>
            <a:ext cx="5046480" cy="1044360"/>
          </a:xfrm>
          <a:custGeom>
            <a:avLst/>
            <a:gdLst/>
            <a:ahLst/>
            <a:rect l="l" t="t" r="r" b="b"/>
            <a:pathLst>
              <a:path w="14016" h="2903">
                <a:moveTo>
                  <a:pt x="9054" y="3398"/>
                </a:moveTo>
                <a:cubicBezTo>
                  <a:pt x="9064" y="3264"/>
                  <a:pt x="9037" y="3245"/>
                  <a:pt x="8954" y="3125"/>
                </a:cubicBezTo>
                <a:cubicBezTo>
                  <a:pt x="8884" y="3167"/>
                  <a:pt x="8592" y="3450"/>
                  <a:pt x="8830" y="3522"/>
                </a:cubicBezTo>
                <a:cubicBezTo>
                  <a:pt x="8978" y="3567"/>
                  <a:pt x="9048" y="3388"/>
                  <a:pt x="9103" y="3299"/>
                </a:cubicBezTo>
                <a:cubicBezTo>
                  <a:pt x="9087" y="3525"/>
                  <a:pt x="9055" y="3754"/>
                  <a:pt x="8979" y="3969"/>
                </a:cubicBezTo>
                <a:cubicBezTo>
                  <a:pt x="8963" y="4002"/>
                  <a:pt x="8946" y="4035"/>
                  <a:pt x="8930" y="4068"/>
                </a:cubicBezTo>
              </a:path>
              <a:path w="14016" h="2903">
                <a:moveTo>
                  <a:pt x="8384" y="4192"/>
                </a:moveTo>
                <a:cubicBezTo>
                  <a:pt x="8666" y="4198"/>
                  <a:pt x="8945" y="4217"/>
                  <a:pt x="9227" y="4217"/>
                </a:cubicBezTo>
              </a:path>
              <a:path w="14016" h="2903">
                <a:moveTo>
                  <a:pt x="8657" y="4539"/>
                </a:moveTo>
                <a:cubicBezTo>
                  <a:pt x="8630" y="4747"/>
                  <a:pt x="8624" y="4952"/>
                  <a:pt x="8582" y="5159"/>
                </a:cubicBezTo>
              </a:path>
              <a:path w="14016" h="2903">
                <a:moveTo>
                  <a:pt x="11336" y="3274"/>
                </a:moveTo>
                <a:cubicBezTo>
                  <a:pt x="11272" y="3260"/>
                  <a:pt x="11051" y="3165"/>
                  <a:pt x="11013" y="3249"/>
                </a:cubicBezTo>
                <a:cubicBezTo>
                  <a:pt x="10972" y="3373"/>
                  <a:pt x="10964" y="3398"/>
                  <a:pt x="10939" y="3473"/>
                </a:cubicBezTo>
                <a:cubicBezTo>
                  <a:pt x="11156" y="3455"/>
                  <a:pt x="11218" y="3443"/>
                  <a:pt x="11361" y="3597"/>
                </a:cubicBezTo>
                <a:cubicBezTo>
                  <a:pt x="11208" y="3761"/>
                  <a:pt x="11177" y="3729"/>
                  <a:pt x="10939" y="3721"/>
                </a:cubicBezTo>
              </a:path>
              <a:path w="14016" h="2903">
                <a:moveTo>
                  <a:pt x="9699" y="3646"/>
                </a:moveTo>
                <a:cubicBezTo>
                  <a:pt x="9758" y="3861"/>
                  <a:pt x="9830" y="4073"/>
                  <a:pt x="9872" y="4291"/>
                </a:cubicBezTo>
                <a:cubicBezTo>
                  <a:pt x="9872" y="4299"/>
                  <a:pt x="9872" y="4308"/>
                  <a:pt x="9872" y="4316"/>
                </a:cubicBezTo>
              </a:path>
              <a:path w="14016" h="2903">
                <a:moveTo>
                  <a:pt x="9897" y="3671"/>
                </a:moveTo>
                <a:cubicBezTo>
                  <a:pt x="9763" y="3928"/>
                  <a:pt x="9645" y="4176"/>
                  <a:pt x="9475" y="4415"/>
                </a:cubicBezTo>
                <a:cubicBezTo>
                  <a:pt x="9467" y="4423"/>
                  <a:pt x="9459" y="4432"/>
                  <a:pt x="9451" y="4440"/>
                </a:cubicBezTo>
              </a:path>
              <a:path w="14016" h="2903">
                <a:moveTo>
                  <a:pt x="10517" y="4192"/>
                </a:moveTo>
                <a:cubicBezTo>
                  <a:pt x="10751" y="4192"/>
                  <a:pt x="10979" y="4208"/>
                  <a:pt x="11212" y="4217"/>
                </a:cubicBezTo>
                <a:cubicBezTo>
                  <a:pt x="11336" y="4217"/>
                  <a:pt x="11344" y="4217"/>
                  <a:pt x="11410" y="4217"/>
                </a:cubicBezTo>
              </a:path>
              <a:path w="14016" h="2903">
                <a:moveTo>
                  <a:pt x="10889" y="4415"/>
                </a:moveTo>
                <a:cubicBezTo>
                  <a:pt x="10614" y="4580"/>
                  <a:pt x="10552" y="4588"/>
                  <a:pt x="10864" y="4762"/>
                </a:cubicBezTo>
                <a:cubicBezTo>
                  <a:pt x="10994" y="4827"/>
                  <a:pt x="11049" y="4831"/>
                  <a:pt x="10988" y="4936"/>
                </a:cubicBezTo>
                <a:cubicBezTo>
                  <a:pt x="10848" y="4960"/>
                  <a:pt x="10806" y="4970"/>
                  <a:pt x="10716" y="4936"/>
                </a:cubicBezTo>
                <a:cubicBezTo>
                  <a:pt x="10785" y="4762"/>
                  <a:pt x="10862" y="4623"/>
                  <a:pt x="10964" y="4465"/>
                </a:cubicBezTo>
              </a:path>
              <a:path w="14016" h="2903">
                <a:moveTo>
                  <a:pt x="12129" y="3944"/>
                </a:moveTo>
                <a:cubicBezTo>
                  <a:pt x="12245" y="3967"/>
                  <a:pt x="12277" y="3975"/>
                  <a:pt x="12353" y="3969"/>
                </a:cubicBezTo>
              </a:path>
              <a:path w="14016" h="2903">
                <a:moveTo>
                  <a:pt x="12005" y="4167"/>
                </a:moveTo>
                <a:cubicBezTo>
                  <a:pt x="12113" y="4167"/>
                  <a:pt x="12220" y="4167"/>
                  <a:pt x="12328" y="4167"/>
                </a:cubicBezTo>
              </a:path>
              <a:path w="14016" h="2903">
                <a:moveTo>
                  <a:pt x="13568" y="4465"/>
                </a:moveTo>
                <a:cubicBezTo>
                  <a:pt x="13452" y="4473"/>
                  <a:pt x="13434" y="4471"/>
                  <a:pt x="13345" y="4539"/>
                </a:cubicBezTo>
                <a:cubicBezTo>
                  <a:pt x="13392" y="4705"/>
                  <a:pt x="13628" y="4804"/>
                  <a:pt x="13667" y="4936"/>
                </a:cubicBezTo>
                <a:cubicBezTo>
                  <a:pt x="13651" y="4953"/>
                  <a:pt x="13634" y="4969"/>
                  <a:pt x="13618" y="4986"/>
                </a:cubicBezTo>
                <a:cubicBezTo>
                  <a:pt x="13352" y="5001"/>
                  <a:pt x="13406" y="4902"/>
                  <a:pt x="13568" y="4713"/>
                </a:cubicBezTo>
                <a:cubicBezTo>
                  <a:pt x="13663" y="4603"/>
                  <a:pt x="13711" y="4618"/>
                  <a:pt x="13618" y="4539"/>
                </a:cubicBezTo>
              </a:path>
              <a:path w="14016" h="2903">
                <a:moveTo>
                  <a:pt x="13022" y="4118"/>
                </a:moveTo>
                <a:cubicBezTo>
                  <a:pt x="13503" y="4118"/>
                  <a:pt x="13981" y="4118"/>
                  <a:pt x="14461" y="4142"/>
                </a:cubicBezTo>
                <a:cubicBezTo>
                  <a:pt x="14742" y="4161"/>
                  <a:pt x="14775" y="4169"/>
                  <a:pt x="14932" y="4167"/>
                </a:cubicBezTo>
              </a:path>
              <a:path w="14016" h="2903">
                <a:moveTo>
                  <a:pt x="13543" y="3299"/>
                </a:moveTo>
                <a:cubicBezTo>
                  <a:pt x="13492" y="3382"/>
                  <a:pt x="13446" y="3464"/>
                  <a:pt x="13395" y="3547"/>
                </a:cubicBezTo>
                <a:cubicBezTo>
                  <a:pt x="13565" y="3534"/>
                  <a:pt x="13642" y="3527"/>
                  <a:pt x="13791" y="3448"/>
                </a:cubicBezTo>
              </a:path>
              <a:path w="14016" h="2903">
                <a:moveTo>
                  <a:pt x="13717" y="3299"/>
                </a:moveTo>
                <a:cubicBezTo>
                  <a:pt x="13647" y="3500"/>
                  <a:pt x="13573" y="3696"/>
                  <a:pt x="13494" y="3894"/>
                </a:cubicBezTo>
              </a:path>
              <a:path w="14016" h="2903">
                <a:moveTo>
                  <a:pt x="14238" y="3398"/>
                </a:moveTo>
                <a:cubicBezTo>
                  <a:pt x="14107" y="3398"/>
                  <a:pt x="14067" y="3370"/>
                  <a:pt x="13990" y="3473"/>
                </a:cubicBezTo>
                <a:cubicBezTo>
                  <a:pt x="13943" y="3536"/>
                  <a:pt x="13949" y="3566"/>
                  <a:pt x="13915" y="3621"/>
                </a:cubicBezTo>
                <a:cubicBezTo>
                  <a:pt x="14070" y="3627"/>
                  <a:pt x="14173" y="3635"/>
                  <a:pt x="14312" y="3696"/>
                </a:cubicBezTo>
                <a:cubicBezTo>
                  <a:pt x="14195" y="3893"/>
                  <a:pt x="14015" y="3937"/>
                  <a:pt x="13791" y="3795"/>
                </a:cubicBezTo>
                <a:cubicBezTo>
                  <a:pt x="13775" y="3770"/>
                  <a:pt x="13758" y="3746"/>
                  <a:pt x="13742" y="3721"/>
                </a:cubicBezTo>
              </a:path>
              <a:path w="14016" h="2903">
                <a:moveTo>
                  <a:pt x="16768" y="3919"/>
                </a:moveTo>
                <a:cubicBezTo>
                  <a:pt x="16702" y="4030"/>
                  <a:pt x="16677" y="4056"/>
                  <a:pt x="16694" y="4142"/>
                </a:cubicBezTo>
                <a:cubicBezTo>
                  <a:pt x="16869" y="4186"/>
                  <a:pt x="16907" y="4148"/>
                  <a:pt x="17090" y="4093"/>
                </a:cubicBezTo>
              </a:path>
              <a:path w="14016" h="2903">
                <a:moveTo>
                  <a:pt x="17090" y="3969"/>
                </a:moveTo>
                <a:cubicBezTo>
                  <a:pt x="17002" y="4212"/>
                  <a:pt x="16990" y="4278"/>
                  <a:pt x="16867" y="4390"/>
                </a:cubicBezTo>
              </a:path>
              <a:path w="14016" h="2903">
                <a:moveTo>
                  <a:pt x="17363" y="3944"/>
                </a:moveTo>
                <a:cubicBezTo>
                  <a:pt x="17347" y="3969"/>
                  <a:pt x="17330" y="3993"/>
                  <a:pt x="17314" y="4018"/>
                </a:cubicBezTo>
                <a:cubicBezTo>
                  <a:pt x="17374" y="4087"/>
                  <a:pt x="17660" y="4215"/>
                  <a:pt x="17611" y="4341"/>
                </a:cubicBezTo>
                <a:cubicBezTo>
                  <a:pt x="17505" y="4420"/>
                  <a:pt x="17464" y="4445"/>
                  <a:pt x="17363" y="4415"/>
                </a:cubicBezTo>
              </a:path>
              <a:path w="14016" h="2903">
                <a:moveTo>
                  <a:pt x="17512" y="3820"/>
                </a:moveTo>
                <a:cubicBezTo>
                  <a:pt x="17643" y="3794"/>
                  <a:pt x="17692" y="3785"/>
                  <a:pt x="17785" y="3795"/>
                </a:cubicBezTo>
              </a:path>
              <a:path w="14016" h="2903">
                <a:moveTo>
                  <a:pt x="16321" y="4564"/>
                </a:moveTo>
                <a:cubicBezTo>
                  <a:pt x="16335" y="4347"/>
                  <a:pt x="16391" y="4153"/>
                  <a:pt x="16446" y="3944"/>
                </a:cubicBezTo>
                <a:cubicBezTo>
                  <a:pt x="16525" y="3645"/>
                  <a:pt x="16938" y="3792"/>
                  <a:pt x="17165" y="3795"/>
                </a:cubicBezTo>
                <a:cubicBezTo>
                  <a:pt x="17564" y="3800"/>
                  <a:pt x="17958" y="3793"/>
                  <a:pt x="18355" y="3820"/>
                </a:cubicBezTo>
              </a:path>
              <a:path w="14016" h="2903">
                <a:moveTo>
                  <a:pt x="15999" y="3845"/>
                </a:moveTo>
                <a:cubicBezTo>
                  <a:pt x="15785" y="3913"/>
                  <a:pt x="15716" y="3950"/>
                  <a:pt x="15850" y="4167"/>
                </a:cubicBezTo>
                <a:cubicBezTo>
                  <a:pt x="15921" y="4260"/>
                  <a:pt x="15947" y="4287"/>
                  <a:pt x="15900" y="4366"/>
                </a:cubicBezTo>
                <a:cubicBezTo>
                  <a:pt x="15779" y="4438"/>
                  <a:pt x="15741" y="4464"/>
                  <a:pt x="15652" y="4390"/>
                </a:cubicBezTo>
                <a:cubicBezTo>
                  <a:pt x="15709" y="4173"/>
                  <a:pt x="15814" y="4081"/>
                  <a:pt x="15999" y="3944"/>
                </a:cubicBezTo>
              </a:path>
              <a:path w="14016" h="2903">
                <a:moveTo>
                  <a:pt x="18058" y="3249"/>
                </a:moveTo>
                <a:cubicBezTo>
                  <a:pt x="17960" y="3217"/>
                  <a:pt x="17815" y="3204"/>
                  <a:pt x="17711" y="3225"/>
                </a:cubicBezTo>
                <a:cubicBezTo>
                  <a:pt x="17638" y="3240"/>
                  <a:pt x="17599" y="3336"/>
                  <a:pt x="17562" y="3398"/>
                </a:cubicBezTo>
                <a:cubicBezTo>
                  <a:pt x="17746" y="3371"/>
                  <a:pt x="17873" y="3333"/>
                  <a:pt x="17983" y="3473"/>
                </a:cubicBezTo>
                <a:cubicBezTo>
                  <a:pt x="17827" y="3629"/>
                  <a:pt x="17811" y="3596"/>
                  <a:pt x="17587" y="3597"/>
                </a:cubicBezTo>
              </a:path>
              <a:path w="14016" h="2903">
                <a:moveTo>
                  <a:pt x="17438" y="3944"/>
                </a:moveTo>
                <a:cubicBezTo>
                  <a:pt x="17577" y="3944"/>
                  <a:pt x="17655" y="3995"/>
                  <a:pt x="17785" y="4018"/>
                </a:cubicBezTo>
                <a:cubicBezTo>
                  <a:pt x="17810" y="4018"/>
                  <a:pt x="17834" y="4018"/>
                  <a:pt x="17859" y="4018"/>
                </a:cubicBezTo>
              </a:path>
              <a:path w="14016" h="2903">
                <a:moveTo>
                  <a:pt x="18852" y="3746"/>
                </a:moveTo>
                <a:cubicBezTo>
                  <a:pt x="18922" y="3780"/>
                  <a:pt x="18961" y="3788"/>
                  <a:pt x="19025" y="3770"/>
                </a:cubicBezTo>
              </a:path>
              <a:path w="14016" h="2903">
                <a:moveTo>
                  <a:pt x="18926" y="3944"/>
                </a:moveTo>
                <a:cubicBezTo>
                  <a:pt x="19050" y="3923"/>
                  <a:pt x="19074" y="3915"/>
                  <a:pt x="19149" y="3919"/>
                </a:cubicBezTo>
              </a:path>
              <a:path w="14016" h="2903">
                <a:moveTo>
                  <a:pt x="20315" y="3225"/>
                </a:moveTo>
                <a:cubicBezTo>
                  <a:pt x="20220" y="3233"/>
                  <a:pt x="19716" y="3202"/>
                  <a:pt x="19695" y="3299"/>
                </a:cubicBezTo>
                <a:cubicBezTo>
                  <a:pt x="19668" y="3422"/>
                  <a:pt x="19701" y="3549"/>
                  <a:pt x="19670" y="3671"/>
                </a:cubicBezTo>
                <a:cubicBezTo>
                  <a:pt x="19895" y="3596"/>
                  <a:pt x="20147" y="3468"/>
                  <a:pt x="20365" y="3671"/>
                </a:cubicBezTo>
                <a:cubicBezTo>
                  <a:pt x="20690" y="3973"/>
                  <a:pt x="20224" y="4159"/>
                  <a:pt x="19993" y="4167"/>
                </a:cubicBezTo>
                <a:cubicBezTo>
                  <a:pt x="19789" y="4174"/>
                  <a:pt x="19743" y="4133"/>
                  <a:pt x="19596" y="4018"/>
                </a:cubicBezTo>
              </a:path>
              <a:path w="14016" h="2903">
                <a:moveTo>
                  <a:pt x="21332" y="2778"/>
                </a:moveTo>
                <a:cubicBezTo>
                  <a:pt x="21155" y="2828"/>
                  <a:pt x="21131" y="2768"/>
                  <a:pt x="21059" y="2927"/>
                </a:cubicBezTo>
                <a:cubicBezTo>
                  <a:pt x="21043" y="2960"/>
                  <a:pt x="21026" y="2993"/>
                  <a:pt x="21010" y="3026"/>
                </a:cubicBezTo>
                <a:cubicBezTo>
                  <a:pt x="21157" y="3010"/>
                  <a:pt x="21442" y="2977"/>
                  <a:pt x="21456" y="3200"/>
                </a:cubicBezTo>
                <a:cubicBezTo>
                  <a:pt x="21470" y="3431"/>
                  <a:pt x="21121" y="3262"/>
                  <a:pt x="21059" y="3225"/>
                </a:cubicBezTo>
              </a:path>
              <a:path w="14016" h="2903">
                <a:moveTo>
                  <a:pt x="20985" y="3473"/>
                </a:moveTo>
                <a:cubicBezTo>
                  <a:pt x="21200" y="3447"/>
                  <a:pt x="21415" y="3412"/>
                  <a:pt x="21630" y="3398"/>
                </a:cubicBezTo>
              </a:path>
              <a:path w="14016" h="2903">
                <a:moveTo>
                  <a:pt x="21258" y="3646"/>
                </a:moveTo>
                <a:cubicBezTo>
                  <a:pt x="21106" y="3637"/>
                  <a:pt x="21093" y="3637"/>
                  <a:pt x="20985" y="3746"/>
                </a:cubicBezTo>
                <a:cubicBezTo>
                  <a:pt x="21106" y="3909"/>
                  <a:pt x="21267" y="3984"/>
                  <a:pt x="21332" y="4167"/>
                </a:cubicBezTo>
                <a:cubicBezTo>
                  <a:pt x="21097" y="4167"/>
                  <a:pt x="20982" y="4097"/>
                  <a:pt x="21158" y="3870"/>
                </a:cubicBezTo>
                <a:cubicBezTo>
                  <a:pt x="21191" y="3837"/>
                  <a:pt x="21225" y="3803"/>
                  <a:pt x="21258" y="3770"/>
                </a:cubicBezTo>
              </a:path>
              <a:path w="14016" h="2903">
                <a:moveTo>
                  <a:pt x="19546" y="4341"/>
                </a:moveTo>
                <a:cubicBezTo>
                  <a:pt x="19786" y="4560"/>
                  <a:pt x="20002" y="4712"/>
                  <a:pt x="20315" y="4812"/>
                </a:cubicBezTo>
                <a:cubicBezTo>
                  <a:pt x="20653" y="4920"/>
                  <a:pt x="21150" y="5048"/>
                  <a:pt x="21506" y="4961"/>
                </a:cubicBezTo>
                <a:cubicBezTo>
                  <a:pt x="21710" y="4911"/>
                  <a:pt x="21891" y="4768"/>
                  <a:pt x="22027" y="4614"/>
                </a:cubicBezTo>
                <a:cubicBezTo>
                  <a:pt x="22158" y="4465"/>
                  <a:pt x="22240" y="4305"/>
                  <a:pt x="22299" y="4118"/>
                </a:cubicBezTo>
                <a:cubicBezTo>
                  <a:pt x="22341" y="3986"/>
                  <a:pt x="22402" y="3811"/>
                  <a:pt x="22399" y="3671"/>
                </a:cubicBezTo>
                <a:cubicBezTo>
                  <a:pt x="22396" y="3554"/>
                  <a:pt x="22316" y="3317"/>
                  <a:pt x="22275" y="3200"/>
                </a:cubicBezTo>
                <a:cubicBezTo>
                  <a:pt x="22222" y="3049"/>
                  <a:pt x="22151" y="2952"/>
                  <a:pt x="22027" y="2853"/>
                </a:cubicBezTo>
                <a:cubicBezTo>
                  <a:pt x="21890" y="2744"/>
                  <a:pt x="21753" y="2646"/>
                  <a:pt x="21605" y="2555"/>
                </a:cubicBezTo>
                <a:cubicBezTo>
                  <a:pt x="21465" y="2469"/>
                  <a:pt x="21294" y="2376"/>
                  <a:pt x="21134" y="2332"/>
                </a:cubicBezTo>
                <a:cubicBezTo>
                  <a:pt x="20935" y="2277"/>
                  <a:pt x="20695" y="2246"/>
                  <a:pt x="20489" y="2257"/>
                </a:cubicBezTo>
                <a:cubicBezTo>
                  <a:pt x="20266" y="2269"/>
                  <a:pt x="20062" y="2299"/>
                  <a:pt x="19869" y="2406"/>
                </a:cubicBezTo>
                <a:cubicBezTo>
                  <a:pt x="19726" y="2485"/>
                  <a:pt x="19479" y="2582"/>
                  <a:pt x="19372" y="2704"/>
                </a:cubicBezTo>
                <a:cubicBezTo>
                  <a:pt x="19226" y="2872"/>
                  <a:pt x="19182" y="3288"/>
                  <a:pt x="19199" y="3497"/>
                </a:cubicBezTo>
                <a:cubicBezTo>
                  <a:pt x="19212" y="3661"/>
                  <a:pt x="19268" y="3826"/>
                  <a:pt x="19348" y="3969"/>
                </a:cubicBezTo>
                <a:cubicBezTo>
                  <a:pt x="19387" y="4039"/>
                  <a:pt x="19421" y="4093"/>
                  <a:pt x="19447" y="4167"/>
                </a:cubicBezTo>
                <a:cubicBezTo>
                  <a:pt x="19447" y="4175"/>
                  <a:pt x="19447" y="4184"/>
                  <a:pt x="19447" y="419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30920" y="1660680"/>
            <a:ext cx="554040" cy="554040"/>
          </a:xfrm>
          <a:custGeom>
            <a:avLst/>
            <a:gdLst/>
            <a:ahLst/>
            <a:rect l="l" t="t" r="r" b="b"/>
            <a:pathLst>
              <a:path w="1539" h="1539">
                <a:moveTo>
                  <a:pt x="16842" y="4663"/>
                </a:moveTo>
                <a:cubicBezTo>
                  <a:pt x="16787" y="4750"/>
                  <a:pt x="16733" y="4832"/>
                  <a:pt x="16669" y="4911"/>
                </a:cubicBezTo>
                <a:cubicBezTo>
                  <a:pt x="16777" y="4923"/>
                  <a:pt x="16879" y="4936"/>
                  <a:pt x="16991" y="4936"/>
                </a:cubicBezTo>
              </a:path>
              <a:path w="1539" h="1539">
                <a:moveTo>
                  <a:pt x="17016" y="4614"/>
                </a:moveTo>
                <a:cubicBezTo>
                  <a:pt x="16957" y="4808"/>
                  <a:pt x="16888" y="4993"/>
                  <a:pt x="16818" y="5184"/>
                </a:cubicBezTo>
              </a:path>
              <a:path w="1539" h="1539">
                <a:moveTo>
                  <a:pt x="17413" y="4812"/>
                </a:moveTo>
                <a:cubicBezTo>
                  <a:pt x="17276" y="4892"/>
                  <a:pt x="17227" y="4954"/>
                  <a:pt x="17239" y="5110"/>
                </a:cubicBezTo>
                <a:cubicBezTo>
                  <a:pt x="17344" y="5119"/>
                  <a:pt x="17669" y="5020"/>
                  <a:pt x="17512" y="4837"/>
                </a:cubicBezTo>
                <a:cubicBezTo>
                  <a:pt x="17471" y="4820"/>
                  <a:pt x="17429" y="4804"/>
                  <a:pt x="17388" y="4787"/>
                </a:cubicBezTo>
              </a:path>
              <a:path w="1539" h="1539">
                <a:moveTo>
                  <a:pt x="16197" y="4986"/>
                </a:moveTo>
                <a:cubicBezTo>
                  <a:pt x="16297" y="4986"/>
                  <a:pt x="16330" y="4986"/>
                  <a:pt x="16396" y="4986"/>
                </a:cubicBezTo>
              </a:path>
              <a:path w="1539" h="1539">
                <a:moveTo>
                  <a:pt x="16346" y="5432"/>
                </a:moveTo>
                <a:cubicBezTo>
                  <a:pt x="16806" y="5415"/>
                  <a:pt x="17252" y="5444"/>
                  <a:pt x="17711" y="5482"/>
                </a:cubicBezTo>
                <a:cubicBezTo>
                  <a:pt x="17719" y="5482"/>
                  <a:pt x="17727" y="5482"/>
                  <a:pt x="17735" y="5482"/>
                </a:cubicBezTo>
              </a:path>
              <a:path w="1539" h="1539">
                <a:moveTo>
                  <a:pt x="17363" y="5631"/>
                </a:moveTo>
                <a:cubicBezTo>
                  <a:pt x="17129" y="5669"/>
                  <a:pt x="17177" y="5620"/>
                  <a:pt x="17090" y="5854"/>
                </a:cubicBezTo>
                <a:cubicBezTo>
                  <a:pt x="17082" y="5871"/>
                  <a:pt x="17074" y="5887"/>
                  <a:pt x="17066" y="5904"/>
                </a:cubicBezTo>
                <a:cubicBezTo>
                  <a:pt x="17238" y="5890"/>
                  <a:pt x="17325" y="5894"/>
                  <a:pt x="17487" y="5953"/>
                </a:cubicBezTo>
                <a:cubicBezTo>
                  <a:pt x="17402" y="6225"/>
                  <a:pt x="17247" y="6155"/>
                  <a:pt x="16991" y="610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84200" y="3714840"/>
            <a:ext cx="71640" cy="15228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3845" y="10418"/>
                </a:moveTo>
                <a:cubicBezTo>
                  <a:pt x="3845" y="10316"/>
                  <a:pt x="3988" y="10521"/>
                  <a:pt x="4043" y="10567"/>
                </a:cubicBezTo>
              </a:path>
              <a:path w="199" h="422">
                <a:moveTo>
                  <a:pt x="4018" y="10319"/>
                </a:moveTo>
                <a:cubicBezTo>
                  <a:pt x="3994" y="10470"/>
                  <a:pt x="3971" y="10599"/>
                  <a:pt x="3919" y="1074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32080" y="3143160"/>
            <a:ext cx="1455840" cy="723960"/>
          </a:xfrm>
          <a:custGeom>
            <a:avLst/>
            <a:gdLst/>
            <a:ahLst/>
            <a:rect l="l" t="t" r="r" b="b"/>
            <a:pathLst>
              <a:path w="4044" h="2010">
                <a:moveTo>
                  <a:pt x="8979" y="9227"/>
                </a:moveTo>
                <a:cubicBezTo>
                  <a:pt x="8979" y="9328"/>
                  <a:pt x="8979" y="9362"/>
                  <a:pt x="9004" y="9426"/>
                </a:cubicBezTo>
                <a:cubicBezTo>
                  <a:pt x="9192" y="9439"/>
                  <a:pt x="9214" y="9392"/>
                  <a:pt x="9376" y="9277"/>
                </a:cubicBezTo>
              </a:path>
              <a:path w="4044" h="2010">
                <a:moveTo>
                  <a:pt x="9277" y="8930"/>
                </a:moveTo>
                <a:cubicBezTo>
                  <a:pt x="9277" y="9186"/>
                  <a:pt x="9277" y="9443"/>
                  <a:pt x="9277" y="9699"/>
                </a:cubicBezTo>
              </a:path>
              <a:path w="4044" h="2010">
                <a:moveTo>
                  <a:pt x="9699" y="9029"/>
                </a:moveTo>
                <a:cubicBezTo>
                  <a:pt x="9769" y="8971"/>
                  <a:pt x="10042" y="8897"/>
                  <a:pt x="9922" y="9103"/>
                </a:cubicBezTo>
                <a:cubicBezTo>
                  <a:pt x="9889" y="9136"/>
                  <a:pt x="9856" y="9170"/>
                  <a:pt x="9823" y="9203"/>
                </a:cubicBezTo>
                <a:cubicBezTo>
                  <a:pt x="9798" y="9296"/>
                  <a:pt x="10220" y="9141"/>
                  <a:pt x="10046" y="9426"/>
                </a:cubicBezTo>
                <a:cubicBezTo>
                  <a:pt x="9876" y="9571"/>
                  <a:pt x="9824" y="9619"/>
                  <a:pt x="9674" y="9649"/>
                </a:cubicBezTo>
              </a:path>
              <a:path w="4044" h="2010">
                <a:moveTo>
                  <a:pt x="9376" y="9971"/>
                </a:moveTo>
                <a:cubicBezTo>
                  <a:pt x="9672" y="9871"/>
                  <a:pt x="9909" y="9799"/>
                  <a:pt x="10220" y="9773"/>
                </a:cubicBezTo>
              </a:path>
              <a:path w="4044" h="2010">
                <a:moveTo>
                  <a:pt x="9599" y="10244"/>
                </a:moveTo>
                <a:cubicBezTo>
                  <a:pt x="9654" y="10282"/>
                  <a:pt x="9595" y="10515"/>
                  <a:pt x="9624" y="10641"/>
                </a:cubicBezTo>
                <a:cubicBezTo>
                  <a:pt x="9641" y="10674"/>
                  <a:pt x="9657" y="10707"/>
                  <a:pt x="9674" y="10740"/>
                </a:cubicBezTo>
                <a:cubicBezTo>
                  <a:pt x="9920" y="10672"/>
                  <a:pt x="9973" y="10590"/>
                  <a:pt x="9922" y="10344"/>
                </a:cubicBezTo>
                <a:cubicBezTo>
                  <a:pt x="9766" y="10468"/>
                  <a:pt x="9768" y="10513"/>
                  <a:pt x="9723" y="10716"/>
                </a:cubicBezTo>
              </a:path>
              <a:path w="4044" h="2010">
                <a:moveTo>
                  <a:pt x="10641" y="9971"/>
                </a:moveTo>
                <a:cubicBezTo>
                  <a:pt x="10826" y="9957"/>
                  <a:pt x="11001" y="9916"/>
                  <a:pt x="11187" y="9897"/>
                </a:cubicBezTo>
              </a:path>
              <a:path w="4044" h="2010">
                <a:moveTo>
                  <a:pt x="10740" y="9624"/>
                </a:moveTo>
                <a:lnTo>
                  <a:pt x="10740" y="9624"/>
                </a:lnTo>
              </a:path>
              <a:path w="4044" h="2010">
                <a:moveTo>
                  <a:pt x="10864" y="10468"/>
                </a:moveTo>
                <a:lnTo>
                  <a:pt x="10864" y="10468"/>
                </a:lnTo>
              </a:path>
              <a:path w="4044" h="2010">
                <a:moveTo>
                  <a:pt x="11807" y="9079"/>
                </a:moveTo>
                <a:cubicBezTo>
                  <a:pt x="11851" y="8968"/>
                  <a:pt x="11855" y="8935"/>
                  <a:pt x="11931" y="8905"/>
                </a:cubicBezTo>
                <a:cubicBezTo>
                  <a:pt x="12115" y="9102"/>
                  <a:pt x="12136" y="9375"/>
                  <a:pt x="11906" y="9599"/>
                </a:cubicBezTo>
                <a:cubicBezTo>
                  <a:pt x="11873" y="9607"/>
                  <a:pt x="11840" y="9616"/>
                  <a:pt x="11807" y="9624"/>
                </a:cubicBezTo>
                <a:cubicBezTo>
                  <a:pt x="11764" y="9441"/>
                  <a:pt x="11833" y="9254"/>
                  <a:pt x="12055" y="9426"/>
                </a:cubicBezTo>
                <a:cubicBezTo>
                  <a:pt x="12120" y="9513"/>
                  <a:pt x="12140" y="9531"/>
                  <a:pt x="12154" y="9599"/>
                </a:cubicBezTo>
              </a:path>
              <a:path w="4044" h="2010">
                <a:moveTo>
                  <a:pt x="12576" y="8880"/>
                </a:moveTo>
                <a:cubicBezTo>
                  <a:pt x="12483" y="8736"/>
                  <a:pt x="12371" y="8632"/>
                  <a:pt x="12254" y="8855"/>
                </a:cubicBezTo>
                <a:cubicBezTo>
                  <a:pt x="12233" y="8961"/>
                  <a:pt x="12211" y="8988"/>
                  <a:pt x="12278" y="9029"/>
                </a:cubicBezTo>
                <a:cubicBezTo>
                  <a:pt x="12402" y="8960"/>
                  <a:pt x="12437" y="8920"/>
                  <a:pt x="12502" y="8781"/>
                </a:cubicBezTo>
                <a:cubicBezTo>
                  <a:pt x="12541" y="8970"/>
                  <a:pt x="12538" y="9183"/>
                  <a:pt x="12576" y="9376"/>
                </a:cubicBezTo>
                <a:cubicBezTo>
                  <a:pt x="12584" y="9393"/>
                  <a:pt x="12593" y="9409"/>
                  <a:pt x="12601" y="9426"/>
                </a:cubicBezTo>
              </a:path>
              <a:path w="4044" h="2010">
                <a:moveTo>
                  <a:pt x="11733" y="9971"/>
                </a:moveTo>
                <a:cubicBezTo>
                  <a:pt x="12004" y="9956"/>
                  <a:pt x="12242" y="9850"/>
                  <a:pt x="12502" y="9773"/>
                </a:cubicBezTo>
                <a:cubicBezTo>
                  <a:pt x="12684" y="9719"/>
                  <a:pt x="12846" y="9666"/>
                  <a:pt x="13022" y="9599"/>
                </a:cubicBezTo>
              </a:path>
              <a:path w="4044" h="2010">
                <a:moveTo>
                  <a:pt x="12080" y="10120"/>
                </a:moveTo>
                <a:cubicBezTo>
                  <a:pt x="12080" y="10327"/>
                  <a:pt x="12080" y="10533"/>
                  <a:pt x="12080" y="10740"/>
                </a:cubicBezTo>
              </a:path>
              <a:path w="4044" h="2010">
                <a:moveTo>
                  <a:pt x="12378" y="10220"/>
                </a:moveTo>
                <a:cubicBezTo>
                  <a:pt x="12416" y="10219"/>
                  <a:pt x="12535" y="10153"/>
                  <a:pt x="12601" y="10120"/>
                </a:cubicBezTo>
                <a:cubicBezTo>
                  <a:pt x="12745" y="10318"/>
                  <a:pt x="12780" y="10533"/>
                  <a:pt x="12526" y="10691"/>
                </a:cubicBezTo>
                <a:cubicBezTo>
                  <a:pt x="12477" y="10699"/>
                  <a:pt x="12427" y="10708"/>
                  <a:pt x="12378" y="10716"/>
                </a:cubicBezTo>
                <a:cubicBezTo>
                  <a:pt x="12335" y="10503"/>
                  <a:pt x="12383" y="10357"/>
                  <a:pt x="12626" y="10517"/>
                </a:cubicBezTo>
                <a:cubicBezTo>
                  <a:pt x="12688" y="10580"/>
                  <a:pt x="12705" y="10590"/>
                  <a:pt x="12725" y="10641"/>
                </a:cubicBezTo>
              </a:path>
              <a:path w="4044" h="2010">
                <a:moveTo>
                  <a:pt x="10567" y="9971"/>
                </a:moveTo>
                <a:cubicBezTo>
                  <a:pt x="10592" y="9923"/>
                  <a:pt x="10531" y="9971"/>
                  <a:pt x="10468" y="9971"/>
                </a:cubicBezTo>
                <a:cubicBezTo>
                  <a:pt x="10563" y="9966"/>
                  <a:pt x="10647" y="9956"/>
                  <a:pt x="10740" y="994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7960" y="2732040"/>
            <a:ext cx="3340080" cy="1536840"/>
          </a:xfrm>
          <a:custGeom>
            <a:avLst/>
            <a:gdLst/>
            <a:ahLst/>
            <a:rect l="l" t="t" r="r" b="b"/>
            <a:pathLst>
              <a:path w="9277" h="4268">
                <a:moveTo>
                  <a:pt x="14486" y="9029"/>
                </a:moveTo>
                <a:cubicBezTo>
                  <a:pt x="14486" y="9141"/>
                  <a:pt x="14493" y="9241"/>
                  <a:pt x="14511" y="9351"/>
                </a:cubicBezTo>
                <a:cubicBezTo>
                  <a:pt x="14627" y="9339"/>
                  <a:pt x="14681" y="9317"/>
                  <a:pt x="14784" y="9277"/>
                </a:cubicBezTo>
              </a:path>
              <a:path w="9277" h="4268">
                <a:moveTo>
                  <a:pt x="14759" y="9079"/>
                </a:moveTo>
                <a:cubicBezTo>
                  <a:pt x="14744" y="9280"/>
                  <a:pt x="14734" y="9473"/>
                  <a:pt x="14734" y="9674"/>
                </a:cubicBezTo>
              </a:path>
              <a:path w="9277" h="4268">
                <a:moveTo>
                  <a:pt x="14858" y="9004"/>
                </a:moveTo>
                <a:cubicBezTo>
                  <a:pt x="15013" y="8919"/>
                  <a:pt x="15168" y="8954"/>
                  <a:pt x="15056" y="9178"/>
                </a:cubicBezTo>
                <a:cubicBezTo>
                  <a:pt x="15023" y="9219"/>
                  <a:pt x="14990" y="9261"/>
                  <a:pt x="14957" y="9302"/>
                </a:cubicBezTo>
                <a:cubicBezTo>
                  <a:pt x="14949" y="9310"/>
                  <a:pt x="14940" y="9319"/>
                  <a:pt x="14932" y="9327"/>
                </a:cubicBezTo>
                <a:cubicBezTo>
                  <a:pt x="15097" y="9179"/>
                  <a:pt x="15292" y="9247"/>
                  <a:pt x="15131" y="9500"/>
                </a:cubicBezTo>
                <a:cubicBezTo>
                  <a:pt x="14989" y="9642"/>
                  <a:pt x="14949" y="9689"/>
                  <a:pt x="14808" y="9699"/>
                </a:cubicBezTo>
              </a:path>
              <a:path w="9277" h="4268">
                <a:moveTo>
                  <a:pt x="14585" y="9922"/>
                </a:moveTo>
                <a:cubicBezTo>
                  <a:pt x="14821" y="9834"/>
                  <a:pt x="15061" y="9726"/>
                  <a:pt x="15304" y="9674"/>
                </a:cubicBezTo>
              </a:path>
              <a:path w="9277" h="4268">
                <a:moveTo>
                  <a:pt x="14808" y="10021"/>
                </a:moveTo>
                <a:cubicBezTo>
                  <a:pt x="14832" y="10206"/>
                  <a:pt x="14809" y="10390"/>
                  <a:pt x="14833" y="10567"/>
                </a:cubicBezTo>
                <a:cubicBezTo>
                  <a:pt x="14995" y="10620"/>
                  <a:pt x="15185" y="10590"/>
                  <a:pt x="15230" y="10368"/>
                </a:cubicBezTo>
                <a:cubicBezTo>
                  <a:pt x="15222" y="10335"/>
                  <a:pt x="15213" y="10302"/>
                  <a:pt x="15205" y="10269"/>
                </a:cubicBezTo>
                <a:cubicBezTo>
                  <a:pt x="15053" y="10315"/>
                  <a:pt x="14981" y="10387"/>
                  <a:pt x="14957" y="10542"/>
                </a:cubicBezTo>
                <a:cubicBezTo>
                  <a:pt x="14957" y="10559"/>
                  <a:pt x="14957" y="10575"/>
                  <a:pt x="14957" y="10592"/>
                </a:cubicBezTo>
              </a:path>
              <a:path w="9277" h="4268">
                <a:moveTo>
                  <a:pt x="15503" y="9649"/>
                </a:moveTo>
                <a:cubicBezTo>
                  <a:pt x="15653" y="9703"/>
                  <a:pt x="15815" y="9843"/>
                  <a:pt x="15949" y="9947"/>
                </a:cubicBezTo>
                <a:cubicBezTo>
                  <a:pt x="15966" y="9963"/>
                  <a:pt x="15982" y="9980"/>
                  <a:pt x="15999" y="9996"/>
                </a:cubicBezTo>
              </a:path>
              <a:path w="9277" h="4268">
                <a:moveTo>
                  <a:pt x="15850" y="9451"/>
                </a:moveTo>
                <a:cubicBezTo>
                  <a:pt x="15816" y="9658"/>
                  <a:pt x="15799" y="9868"/>
                  <a:pt x="15751" y="10071"/>
                </a:cubicBezTo>
              </a:path>
              <a:path w="9277" h="4268">
                <a:moveTo>
                  <a:pt x="16173" y="9054"/>
                </a:moveTo>
                <a:cubicBezTo>
                  <a:pt x="16211" y="9209"/>
                  <a:pt x="16239" y="9341"/>
                  <a:pt x="16247" y="9500"/>
                </a:cubicBezTo>
              </a:path>
              <a:path w="9277" h="4268">
                <a:moveTo>
                  <a:pt x="16371" y="9054"/>
                </a:moveTo>
                <a:cubicBezTo>
                  <a:pt x="16587" y="9021"/>
                  <a:pt x="16770" y="9121"/>
                  <a:pt x="16594" y="9376"/>
                </a:cubicBezTo>
                <a:cubicBezTo>
                  <a:pt x="16509" y="9440"/>
                  <a:pt x="16489" y="9478"/>
                  <a:pt x="16446" y="9401"/>
                </a:cubicBezTo>
                <a:cubicBezTo>
                  <a:pt x="16487" y="9274"/>
                  <a:pt x="16633" y="9389"/>
                  <a:pt x="16743" y="9475"/>
                </a:cubicBezTo>
              </a:path>
              <a:path w="9277" h="4268">
                <a:moveTo>
                  <a:pt x="16222" y="9823"/>
                </a:moveTo>
                <a:cubicBezTo>
                  <a:pt x="16437" y="9748"/>
                  <a:pt x="16645" y="9658"/>
                  <a:pt x="16867" y="9624"/>
                </a:cubicBezTo>
              </a:path>
              <a:path w="9277" h="4268">
                <a:moveTo>
                  <a:pt x="16421" y="10096"/>
                </a:moveTo>
                <a:cubicBezTo>
                  <a:pt x="16507" y="10096"/>
                  <a:pt x="16543" y="10101"/>
                  <a:pt x="16594" y="10145"/>
                </a:cubicBezTo>
                <a:cubicBezTo>
                  <a:pt x="16606" y="10336"/>
                  <a:pt x="16550" y="10455"/>
                  <a:pt x="16321" y="10468"/>
                </a:cubicBezTo>
                <a:cubicBezTo>
                  <a:pt x="16321" y="10460"/>
                  <a:pt x="16321" y="10451"/>
                  <a:pt x="16321" y="10443"/>
                </a:cubicBezTo>
                <a:cubicBezTo>
                  <a:pt x="16415" y="10308"/>
                  <a:pt x="16489" y="10270"/>
                  <a:pt x="16619" y="10418"/>
                </a:cubicBezTo>
              </a:path>
              <a:path w="9277" h="4268">
                <a:moveTo>
                  <a:pt x="17016" y="9996"/>
                </a:moveTo>
                <a:cubicBezTo>
                  <a:pt x="16890" y="9923"/>
                  <a:pt x="16773" y="9883"/>
                  <a:pt x="16718" y="10071"/>
                </a:cubicBezTo>
                <a:cubicBezTo>
                  <a:pt x="16669" y="10237"/>
                  <a:pt x="16782" y="10279"/>
                  <a:pt x="16867" y="10120"/>
                </a:cubicBezTo>
                <a:cubicBezTo>
                  <a:pt x="16964" y="9939"/>
                  <a:pt x="16960" y="10334"/>
                  <a:pt x="16966" y="10418"/>
                </a:cubicBezTo>
              </a:path>
              <a:path w="9277" h="4268">
                <a:moveTo>
                  <a:pt x="16197" y="9376"/>
                </a:moveTo>
                <a:cubicBezTo>
                  <a:pt x="16336" y="9143"/>
                  <a:pt x="16459" y="8903"/>
                  <a:pt x="16669" y="8731"/>
                </a:cubicBezTo>
              </a:path>
              <a:path w="9277" h="4268">
                <a:moveTo>
                  <a:pt x="15974" y="8434"/>
                </a:moveTo>
                <a:cubicBezTo>
                  <a:pt x="16049" y="8302"/>
                  <a:pt x="16066" y="8333"/>
                  <a:pt x="16197" y="8285"/>
                </a:cubicBezTo>
                <a:cubicBezTo>
                  <a:pt x="16333" y="8446"/>
                  <a:pt x="16301" y="8626"/>
                  <a:pt x="16073" y="8731"/>
                </a:cubicBezTo>
                <a:cubicBezTo>
                  <a:pt x="15989" y="8731"/>
                  <a:pt x="15962" y="8744"/>
                  <a:pt x="15949" y="8682"/>
                </a:cubicBezTo>
                <a:cubicBezTo>
                  <a:pt x="16048" y="8592"/>
                  <a:pt x="16199" y="8524"/>
                  <a:pt x="16346" y="8607"/>
                </a:cubicBezTo>
                <a:cubicBezTo>
                  <a:pt x="16402" y="8663"/>
                  <a:pt x="16427" y="8660"/>
                  <a:pt x="16421" y="8706"/>
                </a:cubicBezTo>
              </a:path>
              <a:path w="9277" h="4268">
                <a:moveTo>
                  <a:pt x="14635" y="10641"/>
                </a:moveTo>
                <a:cubicBezTo>
                  <a:pt x="14829" y="10447"/>
                  <a:pt x="15013" y="10239"/>
                  <a:pt x="15230" y="10071"/>
                </a:cubicBezTo>
                <a:cubicBezTo>
                  <a:pt x="15247" y="10063"/>
                  <a:pt x="15263" y="10054"/>
                  <a:pt x="15280" y="10046"/>
                </a:cubicBezTo>
              </a:path>
              <a:path w="9277" h="4268">
                <a:moveTo>
                  <a:pt x="14461" y="10393"/>
                </a:moveTo>
                <a:cubicBezTo>
                  <a:pt x="14428" y="10556"/>
                  <a:pt x="14423" y="10742"/>
                  <a:pt x="14412" y="10914"/>
                </a:cubicBezTo>
                <a:cubicBezTo>
                  <a:pt x="14412" y="10931"/>
                  <a:pt x="14412" y="10947"/>
                  <a:pt x="14412" y="10964"/>
                </a:cubicBezTo>
              </a:path>
              <a:path w="9277" h="4268">
                <a:moveTo>
                  <a:pt x="17289" y="9550"/>
                </a:moveTo>
                <a:lnTo>
                  <a:pt x="17289" y="9550"/>
                </a:lnTo>
              </a:path>
              <a:path w="9277" h="4268">
                <a:moveTo>
                  <a:pt x="17363" y="9847"/>
                </a:moveTo>
                <a:cubicBezTo>
                  <a:pt x="17464" y="9809"/>
                  <a:pt x="17553" y="9763"/>
                  <a:pt x="17661" y="9748"/>
                </a:cubicBezTo>
              </a:path>
              <a:path w="9277" h="4268">
                <a:moveTo>
                  <a:pt x="17314" y="9500"/>
                </a:moveTo>
                <a:cubicBezTo>
                  <a:pt x="17390" y="9546"/>
                  <a:pt x="17494" y="9525"/>
                  <a:pt x="17587" y="9525"/>
                </a:cubicBezTo>
                <a:cubicBezTo>
                  <a:pt x="17603" y="9525"/>
                  <a:pt x="17620" y="9525"/>
                  <a:pt x="17636" y="9525"/>
                </a:cubicBezTo>
              </a:path>
              <a:path w="9277" h="4268">
                <a:moveTo>
                  <a:pt x="18604" y="9004"/>
                </a:moveTo>
                <a:cubicBezTo>
                  <a:pt x="18472" y="8916"/>
                  <a:pt x="18364" y="8998"/>
                  <a:pt x="18256" y="9103"/>
                </a:cubicBezTo>
                <a:cubicBezTo>
                  <a:pt x="18093" y="9261"/>
                  <a:pt x="18531" y="9227"/>
                  <a:pt x="18579" y="9351"/>
                </a:cubicBezTo>
                <a:cubicBezTo>
                  <a:pt x="18571" y="9392"/>
                  <a:pt x="18562" y="9434"/>
                  <a:pt x="18554" y="9475"/>
                </a:cubicBezTo>
                <a:cubicBezTo>
                  <a:pt x="18529" y="9492"/>
                  <a:pt x="18504" y="9508"/>
                  <a:pt x="18479" y="9525"/>
                </a:cubicBezTo>
                <a:cubicBezTo>
                  <a:pt x="18422" y="9352"/>
                  <a:pt x="18471" y="9269"/>
                  <a:pt x="18554" y="9103"/>
                </a:cubicBezTo>
              </a:path>
              <a:path w="9277" h="4268">
                <a:moveTo>
                  <a:pt x="18802" y="9004"/>
                </a:moveTo>
                <a:cubicBezTo>
                  <a:pt x="18802" y="9092"/>
                  <a:pt x="18749" y="9390"/>
                  <a:pt x="18827" y="9451"/>
                </a:cubicBezTo>
                <a:cubicBezTo>
                  <a:pt x="18903" y="9510"/>
                  <a:pt x="19053" y="9381"/>
                  <a:pt x="19100" y="9351"/>
                </a:cubicBezTo>
                <a:cubicBezTo>
                  <a:pt x="18981" y="9352"/>
                  <a:pt x="18987" y="9395"/>
                  <a:pt x="18976" y="9525"/>
                </a:cubicBezTo>
              </a:path>
              <a:path w="9277" h="4268">
                <a:moveTo>
                  <a:pt x="18355" y="9773"/>
                </a:moveTo>
                <a:cubicBezTo>
                  <a:pt x="18568" y="9705"/>
                  <a:pt x="18787" y="9695"/>
                  <a:pt x="19000" y="9624"/>
                </a:cubicBezTo>
                <a:cubicBezTo>
                  <a:pt x="19106" y="9582"/>
                  <a:pt x="19128" y="9566"/>
                  <a:pt x="19199" y="9575"/>
                </a:cubicBezTo>
              </a:path>
              <a:path w="9277" h="4268">
                <a:moveTo>
                  <a:pt x="18579" y="9922"/>
                </a:moveTo>
                <a:cubicBezTo>
                  <a:pt x="18579" y="10040"/>
                  <a:pt x="18597" y="9961"/>
                  <a:pt x="18653" y="9897"/>
                </a:cubicBezTo>
                <a:cubicBezTo>
                  <a:pt x="18784" y="10028"/>
                  <a:pt x="18779" y="10220"/>
                  <a:pt x="18628" y="10368"/>
                </a:cubicBezTo>
                <a:cubicBezTo>
                  <a:pt x="18507" y="10429"/>
                  <a:pt x="18488" y="10454"/>
                  <a:pt x="18405" y="10443"/>
                </a:cubicBezTo>
                <a:cubicBezTo>
                  <a:pt x="18393" y="10269"/>
                  <a:pt x="18453" y="10203"/>
                  <a:pt x="18653" y="10220"/>
                </a:cubicBezTo>
                <a:cubicBezTo>
                  <a:pt x="18752" y="10228"/>
                  <a:pt x="18749" y="10291"/>
                  <a:pt x="18777" y="10368"/>
                </a:cubicBezTo>
              </a:path>
              <a:path w="9277" h="4268">
                <a:moveTo>
                  <a:pt x="19224" y="9947"/>
                </a:moveTo>
                <a:cubicBezTo>
                  <a:pt x="19228" y="9885"/>
                  <a:pt x="19199" y="9659"/>
                  <a:pt x="19050" y="9748"/>
                </a:cubicBezTo>
                <a:cubicBezTo>
                  <a:pt x="18977" y="9791"/>
                  <a:pt x="18969" y="9950"/>
                  <a:pt x="18951" y="10021"/>
                </a:cubicBezTo>
                <a:cubicBezTo>
                  <a:pt x="19046" y="9997"/>
                  <a:pt x="19076" y="9992"/>
                  <a:pt x="19100" y="9922"/>
                </a:cubicBezTo>
                <a:cubicBezTo>
                  <a:pt x="19124" y="10072"/>
                  <a:pt x="19111" y="10195"/>
                  <a:pt x="19100" y="10344"/>
                </a:cubicBezTo>
              </a:path>
              <a:path w="9277" h="4268">
                <a:moveTo>
                  <a:pt x="19521" y="9624"/>
                </a:moveTo>
                <a:cubicBezTo>
                  <a:pt x="19604" y="9624"/>
                  <a:pt x="19686" y="9624"/>
                  <a:pt x="19769" y="9624"/>
                </a:cubicBezTo>
              </a:path>
              <a:path w="9277" h="4268">
                <a:moveTo>
                  <a:pt x="19670" y="9847"/>
                </a:moveTo>
                <a:cubicBezTo>
                  <a:pt x="19760" y="9811"/>
                  <a:pt x="19766" y="9795"/>
                  <a:pt x="19819" y="9798"/>
                </a:cubicBezTo>
              </a:path>
              <a:path w="9277" h="4268">
                <a:moveTo>
                  <a:pt x="21183" y="9723"/>
                </a:moveTo>
                <a:cubicBezTo>
                  <a:pt x="21093" y="9791"/>
                  <a:pt x="21058" y="9824"/>
                  <a:pt x="21010" y="9922"/>
                </a:cubicBezTo>
                <a:cubicBezTo>
                  <a:pt x="21196" y="10049"/>
                  <a:pt x="21355" y="10092"/>
                  <a:pt x="21382" y="10294"/>
                </a:cubicBezTo>
                <a:cubicBezTo>
                  <a:pt x="21120" y="10338"/>
                  <a:pt x="21246" y="10044"/>
                  <a:pt x="21332" y="9872"/>
                </a:cubicBezTo>
                <a:cubicBezTo>
                  <a:pt x="21349" y="9847"/>
                  <a:pt x="21365" y="9823"/>
                  <a:pt x="21382" y="9798"/>
                </a:cubicBezTo>
              </a:path>
              <a:path w="9277" h="4268">
                <a:moveTo>
                  <a:pt x="21605" y="9674"/>
                </a:moveTo>
                <a:cubicBezTo>
                  <a:pt x="21605" y="9816"/>
                  <a:pt x="21544" y="10114"/>
                  <a:pt x="21704" y="10195"/>
                </a:cubicBezTo>
                <a:cubicBezTo>
                  <a:pt x="21836" y="10261"/>
                  <a:pt x="21903" y="10096"/>
                  <a:pt x="21952" y="10021"/>
                </a:cubicBezTo>
                <a:cubicBezTo>
                  <a:pt x="21871" y="9839"/>
                  <a:pt x="21851" y="10083"/>
                  <a:pt x="21828" y="10170"/>
                </a:cubicBezTo>
              </a:path>
              <a:path w="9277" h="4268">
                <a:moveTo>
                  <a:pt x="20861" y="10443"/>
                </a:moveTo>
                <a:cubicBezTo>
                  <a:pt x="20875" y="10251"/>
                  <a:pt x="20879" y="10112"/>
                  <a:pt x="20811" y="9922"/>
                </a:cubicBezTo>
                <a:cubicBezTo>
                  <a:pt x="20765" y="9829"/>
                  <a:pt x="20752" y="9802"/>
                  <a:pt x="20712" y="9748"/>
                </a:cubicBezTo>
                <a:cubicBezTo>
                  <a:pt x="21016" y="9665"/>
                  <a:pt x="21322" y="9618"/>
                  <a:pt x="21630" y="9550"/>
                </a:cubicBezTo>
                <a:cubicBezTo>
                  <a:pt x="21759" y="9522"/>
                  <a:pt x="21872" y="9487"/>
                  <a:pt x="22002" y="9475"/>
                </a:cubicBezTo>
              </a:path>
              <a:path w="9277" h="4268">
                <a:moveTo>
                  <a:pt x="19918" y="10096"/>
                </a:moveTo>
                <a:cubicBezTo>
                  <a:pt x="19970" y="10070"/>
                  <a:pt x="20109" y="9974"/>
                  <a:pt x="20166" y="9996"/>
                </a:cubicBezTo>
                <a:cubicBezTo>
                  <a:pt x="20370" y="10074"/>
                  <a:pt x="20271" y="10355"/>
                  <a:pt x="20141" y="10443"/>
                </a:cubicBezTo>
                <a:cubicBezTo>
                  <a:pt x="20027" y="10521"/>
                  <a:pt x="19944" y="10507"/>
                  <a:pt x="19869" y="10443"/>
                </a:cubicBezTo>
                <a:cubicBezTo>
                  <a:pt x="19906" y="10271"/>
                  <a:pt x="19986" y="10240"/>
                  <a:pt x="20166" y="10319"/>
                </a:cubicBezTo>
                <a:cubicBezTo>
                  <a:pt x="20191" y="10335"/>
                  <a:pt x="20216" y="10352"/>
                  <a:pt x="20241" y="10368"/>
                </a:cubicBezTo>
              </a:path>
              <a:path w="9277" h="4268">
                <a:moveTo>
                  <a:pt x="20613" y="10046"/>
                </a:moveTo>
                <a:cubicBezTo>
                  <a:pt x="20613" y="9996"/>
                  <a:pt x="20613" y="9947"/>
                  <a:pt x="20613" y="9897"/>
                </a:cubicBezTo>
                <a:cubicBezTo>
                  <a:pt x="20492" y="9883"/>
                  <a:pt x="20442" y="9830"/>
                  <a:pt x="20365" y="9947"/>
                </a:cubicBezTo>
                <a:cubicBezTo>
                  <a:pt x="20324" y="10028"/>
                  <a:pt x="20307" y="10041"/>
                  <a:pt x="20315" y="10096"/>
                </a:cubicBezTo>
                <a:cubicBezTo>
                  <a:pt x="20463" y="10122"/>
                  <a:pt x="20475" y="10057"/>
                  <a:pt x="20538" y="9922"/>
                </a:cubicBezTo>
                <a:cubicBezTo>
                  <a:pt x="20569" y="10092"/>
                  <a:pt x="20582" y="10221"/>
                  <a:pt x="20563" y="10393"/>
                </a:cubicBezTo>
              </a:path>
              <a:path w="9277" h="4268">
                <a:moveTo>
                  <a:pt x="21456" y="8756"/>
                </a:moveTo>
                <a:cubicBezTo>
                  <a:pt x="21448" y="8789"/>
                  <a:pt x="21439" y="8822"/>
                  <a:pt x="21431" y="8855"/>
                </a:cubicBezTo>
                <a:cubicBezTo>
                  <a:pt x="21333" y="8888"/>
                  <a:pt x="21460" y="8743"/>
                  <a:pt x="21506" y="8781"/>
                </a:cubicBezTo>
                <a:cubicBezTo>
                  <a:pt x="21757" y="8987"/>
                  <a:pt x="21572" y="9185"/>
                  <a:pt x="21382" y="9327"/>
                </a:cubicBezTo>
                <a:cubicBezTo>
                  <a:pt x="21365" y="9335"/>
                  <a:pt x="21349" y="9343"/>
                  <a:pt x="21332" y="9351"/>
                </a:cubicBezTo>
                <a:cubicBezTo>
                  <a:pt x="21348" y="9179"/>
                  <a:pt x="21383" y="9089"/>
                  <a:pt x="21580" y="9153"/>
                </a:cubicBezTo>
                <a:cubicBezTo>
                  <a:pt x="21649" y="9199"/>
                  <a:pt x="21669" y="9212"/>
                  <a:pt x="21704" y="9252"/>
                </a:cubicBezTo>
              </a:path>
              <a:path w="9277" h="4268">
                <a:moveTo>
                  <a:pt x="22051" y="10319"/>
                </a:moveTo>
                <a:cubicBezTo>
                  <a:pt x="21937" y="10353"/>
                  <a:pt x="21853" y="10421"/>
                  <a:pt x="21779" y="10517"/>
                </a:cubicBezTo>
                <a:cubicBezTo>
                  <a:pt x="21852" y="10572"/>
                  <a:pt x="22089" y="10575"/>
                  <a:pt x="22051" y="10716"/>
                </a:cubicBezTo>
                <a:cubicBezTo>
                  <a:pt x="22004" y="10787"/>
                  <a:pt x="21991" y="10811"/>
                  <a:pt x="21927" y="10815"/>
                </a:cubicBezTo>
                <a:cubicBezTo>
                  <a:pt x="21941" y="10653"/>
                  <a:pt x="21973" y="10522"/>
                  <a:pt x="22027" y="10368"/>
                </a:cubicBezTo>
              </a:path>
              <a:path w="9277" h="4268">
                <a:moveTo>
                  <a:pt x="19521" y="9153"/>
                </a:moveTo>
                <a:cubicBezTo>
                  <a:pt x="19558" y="9237"/>
                  <a:pt x="19587" y="9317"/>
                  <a:pt x="19621" y="9401"/>
                </a:cubicBezTo>
              </a:path>
              <a:path w="9277" h="4268">
                <a:moveTo>
                  <a:pt x="21481" y="10542"/>
                </a:moveTo>
                <a:cubicBezTo>
                  <a:pt x="21628" y="10542"/>
                  <a:pt x="21367" y="10564"/>
                  <a:pt x="21332" y="10567"/>
                </a:cubicBezTo>
                <a:cubicBezTo>
                  <a:pt x="21337" y="10633"/>
                  <a:pt x="21313" y="10783"/>
                  <a:pt x="21406" y="10765"/>
                </a:cubicBezTo>
                <a:cubicBezTo>
                  <a:pt x="21523" y="10743"/>
                  <a:pt x="21572" y="10694"/>
                  <a:pt x="21679" y="10765"/>
                </a:cubicBezTo>
                <a:cubicBezTo>
                  <a:pt x="21597" y="10894"/>
                  <a:pt x="21509" y="10895"/>
                  <a:pt x="21357" y="10939"/>
                </a:cubicBezTo>
              </a:path>
              <a:path w="9277" h="4268">
                <a:moveTo>
                  <a:pt x="21059" y="11212"/>
                </a:moveTo>
                <a:cubicBezTo>
                  <a:pt x="21467" y="11072"/>
                  <a:pt x="21879" y="10965"/>
                  <a:pt x="22299" y="10864"/>
                </a:cubicBezTo>
                <a:cubicBezTo>
                  <a:pt x="22332" y="10856"/>
                  <a:pt x="22366" y="10848"/>
                  <a:pt x="22399" y="10840"/>
                </a:cubicBezTo>
              </a:path>
              <a:path w="9277" h="4268">
                <a:moveTo>
                  <a:pt x="20985" y="9971"/>
                </a:moveTo>
                <a:cubicBezTo>
                  <a:pt x="21131" y="10020"/>
                  <a:pt x="21267" y="10188"/>
                  <a:pt x="21382" y="10294"/>
                </a:cubicBezTo>
                <a:cubicBezTo>
                  <a:pt x="21407" y="10319"/>
                  <a:pt x="21431" y="10343"/>
                  <a:pt x="21456" y="10368"/>
                </a:cubicBezTo>
              </a:path>
              <a:path w="9277" h="4268">
                <a:moveTo>
                  <a:pt x="20910" y="10368"/>
                </a:moveTo>
                <a:cubicBezTo>
                  <a:pt x="21067" y="10323"/>
                  <a:pt x="21126" y="10361"/>
                  <a:pt x="21109" y="10542"/>
                </a:cubicBezTo>
                <a:cubicBezTo>
                  <a:pt x="21101" y="10567"/>
                  <a:pt x="21092" y="10591"/>
                  <a:pt x="21084" y="10616"/>
                </a:cubicBezTo>
              </a:path>
              <a:path w="9277" h="4268">
                <a:moveTo>
                  <a:pt x="21431" y="9575"/>
                </a:moveTo>
                <a:cubicBezTo>
                  <a:pt x="21448" y="9674"/>
                  <a:pt x="21478" y="9773"/>
                  <a:pt x="21506" y="9872"/>
                </a:cubicBezTo>
              </a:path>
              <a:path w="9277" h="4268">
                <a:moveTo>
                  <a:pt x="20662" y="10840"/>
                </a:moveTo>
                <a:cubicBezTo>
                  <a:pt x="20787" y="10840"/>
                  <a:pt x="20829" y="10840"/>
                  <a:pt x="20910" y="10815"/>
                </a:cubicBezTo>
              </a:path>
              <a:path w="9277" h="4268">
                <a:moveTo>
                  <a:pt x="22324" y="11112"/>
                </a:moveTo>
                <a:cubicBezTo>
                  <a:pt x="22274" y="11129"/>
                  <a:pt x="22225" y="11145"/>
                  <a:pt x="22175" y="11162"/>
                </a:cubicBezTo>
                <a:cubicBezTo>
                  <a:pt x="22159" y="11214"/>
                  <a:pt x="22302" y="11114"/>
                  <a:pt x="22275" y="11162"/>
                </a:cubicBezTo>
                <a:cubicBezTo>
                  <a:pt x="22231" y="11242"/>
                  <a:pt x="21982" y="11306"/>
                  <a:pt x="22126" y="11410"/>
                </a:cubicBezTo>
                <a:cubicBezTo>
                  <a:pt x="22273" y="11516"/>
                  <a:pt x="22304" y="11478"/>
                  <a:pt x="22349" y="11658"/>
                </a:cubicBezTo>
                <a:cubicBezTo>
                  <a:pt x="22332" y="11683"/>
                  <a:pt x="22316" y="11708"/>
                  <a:pt x="22299" y="11733"/>
                </a:cubicBezTo>
                <a:cubicBezTo>
                  <a:pt x="22096" y="11681"/>
                  <a:pt x="22274" y="11423"/>
                  <a:pt x="22324" y="11286"/>
                </a:cubicBezTo>
                <a:cubicBezTo>
                  <a:pt x="22341" y="11245"/>
                  <a:pt x="22357" y="11203"/>
                  <a:pt x="22374" y="11162"/>
                </a:cubicBezTo>
              </a:path>
              <a:path w="9277" h="4268">
                <a:moveTo>
                  <a:pt x="21109" y="10468"/>
                </a:moveTo>
                <a:lnTo>
                  <a:pt x="21109" y="10468"/>
                </a:lnTo>
              </a:path>
              <a:path w="9277" h="4268">
                <a:moveTo>
                  <a:pt x="21630" y="11286"/>
                </a:moveTo>
                <a:lnTo>
                  <a:pt x="21630" y="11286"/>
                </a:lnTo>
              </a:path>
              <a:path w="9277" h="4268">
                <a:moveTo>
                  <a:pt x="21580" y="11336"/>
                </a:moveTo>
                <a:cubicBezTo>
                  <a:pt x="21597" y="11268"/>
                  <a:pt x="21627" y="11213"/>
                  <a:pt x="21704" y="11187"/>
                </a:cubicBezTo>
                <a:cubicBezTo>
                  <a:pt x="21733" y="11177"/>
                  <a:pt x="21814" y="11175"/>
                  <a:pt x="21828" y="11212"/>
                </a:cubicBezTo>
                <a:cubicBezTo>
                  <a:pt x="21857" y="11286"/>
                  <a:pt x="21874" y="11429"/>
                  <a:pt x="21853" y="11509"/>
                </a:cubicBezTo>
                <a:cubicBezTo>
                  <a:pt x="21826" y="11609"/>
                  <a:pt x="21710" y="11719"/>
                  <a:pt x="21630" y="11782"/>
                </a:cubicBezTo>
                <a:cubicBezTo>
                  <a:pt x="21570" y="11822"/>
                  <a:pt x="21558" y="11826"/>
                  <a:pt x="21530" y="11857"/>
                </a:cubicBezTo>
                <a:cubicBezTo>
                  <a:pt x="21557" y="11797"/>
                  <a:pt x="21609" y="11665"/>
                  <a:pt x="21704" y="11683"/>
                </a:cubicBezTo>
                <a:cubicBezTo>
                  <a:pt x="21824" y="11706"/>
                  <a:pt x="21807" y="11794"/>
                  <a:pt x="21952" y="11757"/>
                </a:cubicBezTo>
                <a:cubicBezTo>
                  <a:pt x="21977" y="11749"/>
                  <a:pt x="22002" y="11741"/>
                  <a:pt x="22027" y="11733"/>
                </a:cubicBezTo>
              </a:path>
              <a:path w="9277" h="4268">
                <a:moveTo>
                  <a:pt x="22027" y="8136"/>
                </a:moveTo>
                <a:cubicBezTo>
                  <a:pt x="22169" y="7965"/>
                  <a:pt x="22242" y="8226"/>
                  <a:pt x="22200" y="8384"/>
                </a:cubicBezTo>
                <a:cubicBezTo>
                  <a:pt x="22155" y="8554"/>
                  <a:pt x="22111" y="8581"/>
                  <a:pt x="22002" y="8533"/>
                </a:cubicBezTo>
                <a:cubicBezTo>
                  <a:pt x="22038" y="8411"/>
                  <a:pt x="22185" y="8386"/>
                  <a:pt x="22324" y="8458"/>
                </a:cubicBezTo>
                <a:cubicBezTo>
                  <a:pt x="22332" y="8475"/>
                  <a:pt x="22341" y="8491"/>
                  <a:pt x="22349" y="8508"/>
                </a:cubicBezTo>
              </a:path>
              <a:path w="9277" h="4268">
                <a:moveTo>
                  <a:pt x="22448" y="7938"/>
                </a:moveTo>
                <a:cubicBezTo>
                  <a:pt x="22385" y="8001"/>
                  <a:pt x="22368" y="8011"/>
                  <a:pt x="22349" y="8062"/>
                </a:cubicBezTo>
                <a:cubicBezTo>
                  <a:pt x="22444" y="8150"/>
                  <a:pt x="22646" y="8223"/>
                  <a:pt x="22622" y="8359"/>
                </a:cubicBezTo>
                <a:cubicBezTo>
                  <a:pt x="22573" y="8455"/>
                  <a:pt x="22560" y="8488"/>
                  <a:pt x="22473" y="8483"/>
                </a:cubicBezTo>
                <a:cubicBezTo>
                  <a:pt x="22445" y="8307"/>
                  <a:pt x="22480" y="8256"/>
                  <a:pt x="22572" y="8086"/>
                </a:cubicBezTo>
              </a:path>
              <a:path w="9277" h="4268">
                <a:moveTo>
                  <a:pt x="22151" y="8830"/>
                </a:moveTo>
                <a:cubicBezTo>
                  <a:pt x="22334" y="8733"/>
                  <a:pt x="22513" y="8631"/>
                  <a:pt x="22696" y="8533"/>
                </a:cubicBezTo>
              </a:path>
              <a:path w="9277" h="4268">
                <a:moveTo>
                  <a:pt x="22349" y="9004"/>
                </a:moveTo>
                <a:cubicBezTo>
                  <a:pt x="22480" y="8960"/>
                  <a:pt x="22510" y="8944"/>
                  <a:pt x="22597" y="8954"/>
                </a:cubicBezTo>
                <a:cubicBezTo>
                  <a:pt x="22645" y="9156"/>
                  <a:pt x="22605" y="9226"/>
                  <a:pt x="22399" y="9277"/>
                </a:cubicBezTo>
                <a:cubicBezTo>
                  <a:pt x="22372" y="9154"/>
                  <a:pt x="22452" y="9051"/>
                  <a:pt x="22597" y="9128"/>
                </a:cubicBezTo>
                <a:cubicBezTo>
                  <a:pt x="22619" y="9172"/>
                  <a:pt x="22622" y="9184"/>
                  <a:pt x="22647" y="9203"/>
                </a:cubicBezTo>
              </a:path>
              <a:path w="9277" h="4268">
                <a:moveTo>
                  <a:pt x="22944" y="8830"/>
                </a:moveTo>
                <a:cubicBezTo>
                  <a:pt x="22876" y="8762"/>
                  <a:pt x="22794" y="8761"/>
                  <a:pt x="22746" y="8880"/>
                </a:cubicBezTo>
                <a:cubicBezTo>
                  <a:pt x="22678" y="9049"/>
                  <a:pt x="22863" y="8900"/>
                  <a:pt x="22895" y="8855"/>
                </a:cubicBezTo>
                <a:cubicBezTo>
                  <a:pt x="22938" y="8925"/>
                  <a:pt x="22966" y="9000"/>
                  <a:pt x="22994" y="9079"/>
                </a:cubicBezTo>
              </a:path>
              <a:path w="9277" h="4268">
                <a:moveTo>
                  <a:pt x="22423" y="8012"/>
                </a:moveTo>
                <a:cubicBezTo>
                  <a:pt x="22502" y="7934"/>
                  <a:pt x="22499" y="7940"/>
                  <a:pt x="22597" y="7962"/>
                </a:cubicBezTo>
                <a:cubicBezTo>
                  <a:pt x="22678" y="7980"/>
                  <a:pt x="22643" y="8056"/>
                  <a:pt x="22622" y="8111"/>
                </a:cubicBezTo>
              </a:path>
              <a:path w="9277" h="4268">
                <a:moveTo>
                  <a:pt x="21010" y="9277"/>
                </a:moveTo>
                <a:cubicBezTo>
                  <a:pt x="21093" y="9318"/>
                  <a:pt x="21190" y="9376"/>
                  <a:pt x="21282" y="9426"/>
                </a:cubicBezTo>
                <a:cubicBezTo>
                  <a:pt x="21439" y="9511"/>
                  <a:pt x="21629" y="9516"/>
                  <a:pt x="21803" y="9550"/>
                </a:cubicBezTo>
                <a:cubicBezTo>
                  <a:pt x="21967" y="9582"/>
                  <a:pt x="22131" y="9550"/>
                  <a:pt x="22299" y="9550"/>
                </a:cubicBezTo>
                <a:cubicBezTo>
                  <a:pt x="22459" y="9550"/>
                  <a:pt x="22614" y="9541"/>
                  <a:pt x="22771" y="9500"/>
                </a:cubicBezTo>
                <a:cubicBezTo>
                  <a:pt x="22942" y="9455"/>
                  <a:pt x="23109" y="9379"/>
                  <a:pt x="23267" y="9302"/>
                </a:cubicBezTo>
                <a:cubicBezTo>
                  <a:pt x="23358" y="9258"/>
                  <a:pt x="23472" y="9177"/>
                  <a:pt x="23540" y="9103"/>
                </a:cubicBezTo>
                <a:cubicBezTo>
                  <a:pt x="23636" y="8999"/>
                  <a:pt x="23645" y="8910"/>
                  <a:pt x="23664" y="8781"/>
                </a:cubicBezTo>
                <a:cubicBezTo>
                  <a:pt x="23684" y="8641"/>
                  <a:pt x="23668" y="8545"/>
                  <a:pt x="23639" y="8409"/>
                </a:cubicBezTo>
                <a:cubicBezTo>
                  <a:pt x="23600" y="8222"/>
                  <a:pt x="23572" y="8128"/>
                  <a:pt x="23440" y="7987"/>
                </a:cubicBezTo>
                <a:cubicBezTo>
                  <a:pt x="23361" y="7902"/>
                  <a:pt x="23244" y="7788"/>
                  <a:pt x="23143" y="7739"/>
                </a:cubicBezTo>
                <a:cubicBezTo>
                  <a:pt x="23046" y="7692"/>
                  <a:pt x="22898" y="7639"/>
                  <a:pt x="22796" y="7615"/>
                </a:cubicBezTo>
                <a:cubicBezTo>
                  <a:pt x="22591" y="7568"/>
                  <a:pt x="22306" y="7557"/>
                  <a:pt x="22101" y="7615"/>
                </a:cubicBezTo>
                <a:cubicBezTo>
                  <a:pt x="21887" y="7676"/>
                  <a:pt x="21679" y="7789"/>
                  <a:pt x="21481" y="7888"/>
                </a:cubicBezTo>
                <a:cubicBezTo>
                  <a:pt x="21220" y="8018"/>
                  <a:pt x="21026" y="8144"/>
                  <a:pt x="20910" y="8409"/>
                </a:cubicBezTo>
                <a:cubicBezTo>
                  <a:pt x="20823" y="8608"/>
                  <a:pt x="20793" y="8747"/>
                  <a:pt x="20762" y="8954"/>
                </a:cubicBezTo>
                <a:cubicBezTo>
                  <a:pt x="20734" y="9140"/>
                  <a:pt x="20764" y="9270"/>
                  <a:pt x="20811" y="9451"/>
                </a:cubicBezTo>
                <a:cubicBezTo>
                  <a:pt x="20828" y="9518"/>
                  <a:pt x="20854" y="9565"/>
                  <a:pt x="20886" y="962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70080" y="3759120"/>
            <a:ext cx="1080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6028" y="10542"/>
                </a:moveTo>
                <a:cubicBezTo>
                  <a:pt x="6135" y="10601"/>
                  <a:pt x="6232" y="10661"/>
                  <a:pt x="6325" y="10740"/>
                </a:cubicBezTo>
              </a:path>
              <a:path w="298" h="373">
                <a:moveTo>
                  <a:pt x="6201" y="10443"/>
                </a:moveTo>
                <a:cubicBezTo>
                  <a:pt x="6171" y="10564"/>
                  <a:pt x="6113" y="10705"/>
                  <a:pt x="6052" y="10815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6653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8479"/>
                </a:moveTo>
                <a:lnTo>
                  <a:pt x="3497" y="18479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61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anne elizabeth mcgrath</cp:lastModifiedBy>
  <dcterms:modified xsi:type="dcterms:W3CDTF">2010-11-04T17:47:25Z</dcterms:modified>
  <cp:revision>7</cp:revision>
  <dc:subject/>
  <dc:title>Obj 5.4:  To divide fractions &amp; mixed numbers.</dc:title>
</cp:coreProperties>
</file>